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158413" cy="7621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69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87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5104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69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87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AA40-50B4-44D7-8D50-213719E389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1BA0-DD28-48DE-A717-85CC8706C9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3B88-5B4B-43A2-846F-6C30E6C3B2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522F-679D-4764-9729-B01804DE71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0180-6D2C-4995-8B0B-44137DF0D8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023240" cy="78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622E-DBE1-4CB5-A23D-00C706DA8B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1296-297F-4E55-9B7A-1835A22273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0D25-5BBC-45B8-980A-3CABB33EEB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86C69-7328-41CA-99F8-3D7B9AC19E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BED4A-2FCE-4C8D-AE22-A0C938E44D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1B1C-CC28-4AC5-895E-42851139F7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69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87400" y="24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5104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69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87400" y="5151240"/>
            <a:ext cx="25884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99DA-843C-4256-A75A-94D93C328B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023240" cy="78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0520" y="51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5104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0520" y="2451240"/>
            <a:ext cx="392292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51040" y="5151240"/>
            <a:ext cx="803880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343080"/>
            <a:ext cx="10159920" cy="1015920"/>
          </a:xfrm>
          <a:prstGeom prst="rect">
            <a:avLst/>
          </a:prstGeom>
          <a:gradFill rotWithShape="0">
            <a:gsLst>
              <a:gs pos="0">
                <a:srgbClr val="5797ff"/>
              </a:gs>
              <a:gs pos="100000">
                <a:srgbClr val="fdff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51040" y="2451240"/>
            <a:ext cx="8038800" cy="51688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425520" indent="-3812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75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63600" indent="-2538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30520" indent="-25416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195640" indent="-25416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195640" indent="-254160">
              <a:spcBef>
                <a:spcPts val="4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195640" indent="-254160">
              <a:spcBef>
                <a:spcPts val="4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1015992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AutoShape 4"/>
          <p:cNvSpPr/>
          <p:nvPr/>
        </p:nvSpPr>
        <p:spPr>
          <a:xfrm rot="10800000">
            <a:off x="5937120" y="285480"/>
            <a:ext cx="1689120" cy="56016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7023240" cy="168912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d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8381880" y="0"/>
            <a:ext cx="1791000" cy="75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7613640" y="596880"/>
            <a:ext cx="25462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7531200" y="254160"/>
            <a:ext cx="85068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114480" y="7149960"/>
            <a:ext cx="8724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Picture 10" descr=""/>
          <p:cNvPicPr/>
          <p:nvPr/>
        </p:nvPicPr>
        <p:blipFill>
          <a:blip r:embed="rId3"/>
          <a:stretch/>
        </p:blipFill>
        <p:spPr>
          <a:xfrm>
            <a:off x="5303880" y="6972480"/>
            <a:ext cx="4600440" cy="5270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39600" y="6780240"/>
            <a:ext cx="107964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2031840"/>
            <a:ext cx="8636040" cy="228600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d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44280" indent="-4428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1480" indent="-4428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9800" indent="-954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76360" indent="-10476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41480" indent="-11268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41480" indent="-11268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41480" indent="-11268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8196120" y="69465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FBD6-1B0F-4C16-9BD1-5EEDBB0CC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12840"/>
            <a:ext cx="10159920" cy="1379520"/>
          </a:xfrm>
          <a:prstGeom prst="rect">
            <a:avLst/>
          </a:prstGeom>
          <a:gradFill rotWithShape="0">
            <a:gsLst>
              <a:gs pos="0">
                <a:srgbClr val="5797ff"/>
              </a:gs>
              <a:gs pos="100000">
                <a:srgbClr val="fdff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1015992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6"/>
          <p:cNvSpPr/>
          <p:nvPr/>
        </p:nvSpPr>
        <p:spPr>
          <a:xfrm rot="10800000">
            <a:off x="5937120" y="285480"/>
            <a:ext cx="1689120" cy="56016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381880" y="0"/>
            <a:ext cx="1791000" cy="7524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7613640" y="596880"/>
            <a:ext cx="2546280" cy="25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7531200" y="254160"/>
            <a:ext cx="850680" cy="41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ssd.esa.int/index.php?project=FACULTY" TargetMode="External"/><Relationship Id="rId2" Type="http://schemas.openxmlformats.org/officeDocument/2006/relationships/hyperlink" Target="http://www.rssd.esa.int/index.php?project=FACULTY" TargetMode="External"/><Relationship Id="rId3" Type="http://schemas.openxmlformats.org/officeDocument/2006/relationships/hyperlink" Target="http://www.rssd.esa.int/index.php?project=FACULTY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3800" y="2779200"/>
            <a:ext cx="965196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 fontScale="68000"/>
          </a:bodyPr>
          <a:p>
            <a:pPr marL="2332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Chiller"/>
              </a:rPr>
              <a:t>The Facult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9834D544-58CC-4310-B41C-EF84E592A251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28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38040" y="1185840"/>
            <a:ext cx="9568080" cy="55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lvl="1" marL="210960">
              <a:lnSpc>
                <a:spcPct val="11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More resources than the 'usual' computer environment and facult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10960">
              <a:lnSpc>
                <a:spcPct val="11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Some problems last year due to short cycle time addressed this year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210960">
              <a:lnSpc>
                <a:spcPct val="11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Call is also posted on the Faculty web site a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ヒラギノ明朝 Pro W3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ヒラギノ明朝 Pro W3"/>
                <a:hlinkClick r:id="rId2"/>
              </a:rPr>
              <a:t>www.rssd.esa.int/index.php?project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ヒラギノ明朝 Pro W3"/>
                <a:hlinkClick r:id="rId3"/>
              </a:rPr>
              <a:t>=FACUL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imeline: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1 Ju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Inter-Departmental Science Workshop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28-29 Aug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Proposals due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15 Sep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Review by Faculty comple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30 Sep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Oral review (Proposers &amp; Exe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7 Oct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Exec announce decision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1 Oc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New funding starts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   Janu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423720">
              <a:lnSpc>
                <a:spcPct val="11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im to have presentations of the work resulting from these proposals at this meeting each year (some shown at this 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BA66153D-0E39-439E-A7AF-DAA4A72930AF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28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840" y="394920"/>
            <a:ext cx="931248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Departmental Research Proposals</a:t>
            </a:r>
            <a:endParaRPr b="1" lang="en-US" sz="32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3800" y="2623680"/>
            <a:ext cx="965196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ESTEC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BF823DA6-08BC-4A0D-B23E-1BDDA1C8F6C3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28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000" y="144000"/>
            <a:ext cx="7023240" cy="1073160"/>
          </a:xfrm>
          <a:prstGeom prst="rect">
            <a:avLst/>
          </a:prstGeom>
          <a:noFill/>
          <a:ln w="0">
            <a:noFill/>
          </a:ln>
        </p:spPr>
        <p:txBody>
          <a:bodyPr lIns="50760" rIns="14256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Two Branches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6880" y="1649520"/>
            <a:ext cx="9112320" cy="487368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C Faculty branch consists of ~ 70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ed/tended by ESTEC Faculty Counc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o De Marchi (RF Programme Coord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lef Kosch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io Fav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o Pru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 Taylor (Cha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ivier Witas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ne Asnes (RF represen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fania Carpano (pending agreement of Facul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304920"/>
            <a:ext cx="101854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304920"/>
            <a:ext cx="101854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The ESTE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3480" y="1649160"/>
            <a:ext cx="101599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/>
          </a:bodyPr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o the wider ESTEC Faculty is carried out via 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ell as regular (3-4 month)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inion and welfare of Research Fellows is highly regarded b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(an RF is a member of council) and is a fixed agenda i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ESTEC Faculty funds is facilitated by a proposa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5560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% allocation to the Faculty’s science visito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5560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to the Seminar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5560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 contin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chemes of funding are proposed and discussed with the wi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at mee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-33480" y="663480"/>
            <a:ext cx="1018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The ESTE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904320" cy="452268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/>
          </a:bodyPr>
          <a:p>
            <a:pPr lvl="1" marL="57636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borees are also held to allow science activities an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dvertised among Faculty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5 minute / 1-2 slide presentation of Faculty members sci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spcBef>
                <a:spcPts val="499"/>
              </a:spcBef>
              <a:buNone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tor program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99"/>
              </a:spcBef>
              <a:buNone/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7- 12 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– so far only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 is encouraged to submit proposals for vis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304920"/>
            <a:ext cx="101854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Arial"/>
              </a:rPr>
              <a:t>The ESTE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3800" y="2623680"/>
            <a:ext cx="965196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e ESAC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9B185180-3680-4CF2-8C2E-92A4C7E1D763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28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684000"/>
            <a:ext cx="931212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ESAC Branch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6880" y="1577880"/>
            <a:ext cx="976500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SAC Faculty branch consists of nearly 100 peo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cluding ~20 LAEFF research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going ESAC Counc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ing ESAC 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no Altie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no Altie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Barrad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ik Kuul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Garcia-Lari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ro Garcia-L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o Guainazzi (</a:t>
            </a:r>
            <a:r>
              <a:rPr b="1" lang="en-US" sz="2400" spc="-1" strike="noStrike">
                <a:solidFill>
                  <a:srgbClr val="ff3300"/>
                </a:solidFill>
                <a:latin typeface="Chiller"/>
              </a:rPr>
              <a:t>is The Termin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o Guainazz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 Metcalfe (is Sentine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er Kretschmar (Sentin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jamin Montesinos Comi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uel Mas Hes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y Pollock (is Excheque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k Cox (R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211320">
              <a:tabLst>
                <a:tab algn="l" pos="0"/>
                <a:tab algn="l" pos="635040"/>
                <a:tab algn="l" pos="846000"/>
                <a:tab algn="l" pos="105876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  <a:tab algn="l" pos="6534000"/>
                <a:tab algn="l" pos="6845400"/>
                <a:tab algn="l" pos="7156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a Santos-Lle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rge Sanz Forcad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EF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144360" y="144360"/>
            <a:ext cx="70232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90119764-038F-4FC2-8057-3605C0D9408B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28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9920" y="1506600"/>
            <a:ext cx="9736200" cy="50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Proto-facul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Ma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1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6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Faculty established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Septe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3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6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  <a:ea typeface="ヒラギノ明朝 Pro W3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. Council Elections end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ugu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8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Faculty Workshop/Conf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Septe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05-0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2007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X-rays from Nearby Galaxies: 74 participants (12 inter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0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Jamborees (latest Nov. 15 '07 Tot.: 82 spoke/78+ bios on the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18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Council meetings (minutes on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ssemblies (VGs on web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63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visitors over past 1.5 years. Stays lasting from days to month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9280" indent="-508320">
              <a:lnSpc>
                <a:spcPct val="130000"/>
              </a:lnSpc>
              <a:tabLst>
                <a:tab algn="l" pos="0"/>
                <a:tab algn="l" pos="317520"/>
                <a:tab algn="l" pos="733320"/>
                <a:tab algn="l" pos="1100160"/>
                <a:tab algn="l" pos="1467000"/>
                <a:tab algn="l" pos="1833480"/>
                <a:tab algn="l" pos="2200320"/>
                <a:tab algn="l" pos="2567160"/>
                <a:tab algn="l" pos="2933640"/>
                <a:tab algn="l" pos="3300480"/>
                <a:tab algn="l" pos="3666960"/>
                <a:tab algn="l" pos="4033800"/>
                <a:tab algn="l" pos="4400640"/>
                <a:tab algn="l" pos="4767120"/>
                <a:tab algn="l" pos="5133960"/>
                <a:tab algn="l" pos="5500800"/>
                <a:tab algn="l" pos="5867280"/>
                <a:tab algn="l" pos="6234120"/>
                <a:tab algn="l" pos="6600960"/>
                <a:tab algn="l" pos="6967440"/>
                <a:tab algn="l" pos="7334280"/>
                <a:tab algn="l" pos="7701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MEMBERSHIP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  75 ESA (Staff + Contractors) &amp; 22 LAEFF Research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684360"/>
            <a:ext cx="93121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 marL="44280" indent="-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ヒラギノ角ゴ Pro W6"/>
              </a:rPr>
              <a:t>The ESAC Bran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217440" y="433440"/>
            <a:ext cx="7023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78BA19A2-9D3C-4802-BB1A-304001315DA0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28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9920" y="1409760"/>
            <a:ext cx="9906120" cy="53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CENTAGE OF BUDGET ALLOCATED PER CATEGORY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Visitors 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Visitors 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Visitor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Established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Ph.D. students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Train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Researchers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&amp;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Post-Docs.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35%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40%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Elite seminar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Mini-Workshop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%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333399"/>
                </a:solidFill>
                <a:latin typeface="Arial"/>
              </a:rPr>
              <a:t>Discretionar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1040"/>
                <a:tab algn="l" pos="622440"/>
                <a:tab algn="l" pos="933480"/>
                <a:tab algn="l" pos="1244520"/>
                <a:tab algn="l" pos="1555920"/>
                <a:tab algn="l" pos="1866960"/>
                <a:tab algn="l" pos="2178000"/>
                <a:tab algn="l" pos="2489040"/>
                <a:tab algn="l" pos="2800440"/>
                <a:tab algn="l" pos="3111480"/>
                <a:tab algn="l" pos="3422520"/>
                <a:tab algn="l" pos="3733920"/>
                <a:tab algn="l" pos="4044960"/>
                <a:tab algn="l" pos="4356000"/>
                <a:tab algn="l" pos="4667400"/>
                <a:tab algn="l" pos="4978440"/>
                <a:tab algn="l" pos="5289480"/>
                <a:tab algn="l" pos="5600880"/>
                <a:tab algn="l" pos="5911920"/>
                <a:tab algn="l" pos="622296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%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5240" y="215640"/>
            <a:ext cx="7023240" cy="1073160"/>
          </a:xfrm>
          <a:prstGeom prst="rect">
            <a:avLst/>
          </a:prstGeom>
          <a:noFill/>
          <a:ln w="0">
            <a:noFill/>
          </a:ln>
        </p:spPr>
        <p:txBody>
          <a:bodyPr lIns="50760" rIns="9684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wo Branches - ESAC Branch Funding</a:t>
            </a:r>
            <a:endParaRPr b="1" lang="en-US" sz="24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AD545397-5342-40A8-94B9-024DC17A8F05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28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5240" y="610920"/>
            <a:ext cx="931212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ACKNOWLEDGING FUNDING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 Publications</a:t>
            </a:r>
            <a:endParaRPr b="1" lang="en-US" sz="18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32040" y="3030480"/>
            <a:ext cx="821196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en-US" sz="2700" spc="-1" strike="noStrike">
                <a:solidFill>
                  <a:srgbClr val="808080"/>
                </a:solidFill>
                <a:latin typeface="Times New Roman"/>
              </a:rPr>
              <a:t>Acknowledgement: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Script MT Bold"/>
              </a:rPr>
              <a:t>We acknowledge support from the Faculty of the European Space Astronomy Centre (ESAC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92320" y="1728720"/>
            <a:ext cx="74880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and Roles of the Facu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ranches - Joint Activities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ran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C Bra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AC Bran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2320" indent="-5079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AutoNum type="arabicPeriod" startAt="4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960" y="394920"/>
            <a:ext cx="931248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ONTENTS</a:t>
            </a:r>
            <a:endParaRPr b="1" lang="en-US" sz="34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1240" y="1293840"/>
            <a:ext cx="990432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ulty seems to be reasonably heal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actively contributing to scientific life of 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generally seems appreciated by the scien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seek innovative ways to spend bud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明朝 Pro W3"/>
              </a:rPr>
              <a:t>even 150 scientists with long-time-average 10% time for science can only support so many visi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2520" indent="-46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members support the activities very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33984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Helvetica"/>
              <a:buChar char="•"/>
              <a:tabLst>
                <a:tab algn="l" pos="633240"/>
                <a:tab algn="l" pos="635040"/>
                <a:tab algn="l" pos="100332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5504040"/>
                <a:tab algn="l" pos="5925960"/>
                <a:tab algn="l" pos="7196040"/>
                <a:tab algn="l" pos="752148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keep up the momen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960" y="394920"/>
            <a:ext cx="9312480" cy="677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1" lang="en-US" sz="3400" spc="-1" strike="noStrike">
              <a:solidFill>
                <a:srgbClr val="0029d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6880" y="2801520"/>
            <a:ext cx="9652320" cy="110196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96840" tIns="50760" bIns="5076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tivities and Roles of the Facul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74C25247-3493-4782-97A1-678CEBA4FA66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28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4320" y="33480"/>
            <a:ext cx="781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6840" tIns="50760" bIns="50760" anchor="ctr">
            <a:noAutofit/>
          </a:bodyPr>
          <a:p>
            <a:pPr marL="44280" indent="-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ACTIVITIES &amp; ROLES of the FACUL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EDFFD953-92E8-4E55-9C0F-C3415F85FA52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28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0040" y="1577880"/>
            <a:ext cx="9117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 Statement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oster a (more) effective scientific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ive a united face to the scientific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 constitute the Facul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ctive (i.e. publishing papers) research scientists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C/ESAC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A staff, RFs, Science Contractors an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96920"/>
                <a:tab algn="l" pos="254160"/>
                <a:tab algn="l" pos="380880"/>
                <a:tab algn="l" pos="507960"/>
                <a:tab algn="l" pos="635040"/>
                <a:tab algn="l" pos="762120"/>
                <a:tab algn="l" pos="888840"/>
                <a:tab algn="l" pos="1015920"/>
                <a:tab algn="l" pos="1143000"/>
                <a:tab algn="l" pos="1270080"/>
                <a:tab algn="l" pos="1397160"/>
                <a:tab algn="l" pos="1523880"/>
                <a:tab algn="l" pos="1650960"/>
                <a:tab algn="l" pos="1778040"/>
                <a:tab algn="l" pos="1905120"/>
                <a:tab algn="l" pos="2031840"/>
                <a:tab algn="l" pos="2158920"/>
                <a:tab algn="l" pos="2286000"/>
                <a:tab algn="l" pos="2413080"/>
                <a:tab algn="l" pos="2540160"/>
                <a:tab algn="l" pos="266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SAC, LAEF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5DD6FD8F-18DA-4BCA-8B33-CC7E4829FE6A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28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71840" y="702792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19240" y="1938240"/>
            <a:ext cx="753588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STER RESEARCH, SERVING T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maintain expertise, familiarity with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foster empathy with target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maintain competence to represent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23328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明朝 Pro W3"/>
              </a:rPr>
              <a:t>maintain peer respect from commu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324000"/>
                <a:tab algn="l" pos="635040"/>
                <a:tab algn="l" pos="846000"/>
                <a:tab algn="l" pos="1481040"/>
                <a:tab algn="l" pos="1693800"/>
                <a:tab algn="l" pos="2017800"/>
                <a:tab algn="l" pos="2441520"/>
                <a:tab algn="l" pos="2863800"/>
                <a:tab algn="l" pos="328788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4320" y="33480"/>
            <a:ext cx="781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6840" tIns="50760" bIns="50760" anchor="ctr">
            <a:noAutofit/>
          </a:bodyPr>
          <a:p>
            <a:pPr marL="44280" indent="-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ACTIVITIES &amp; ROLES of the FACUL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471840" y="6942240"/>
            <a:ext cx="3216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 algn="ct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7027920"/>
            <a:ext cx="2116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pPr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939F58F6-4201-46E6-A495-157A986435F7}" type="datetime"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7/28/26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2200" y="6858000"/>
            <a:ext cx="3725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240" y="1309680"/>
            <a:ext cx="921708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minister the scientific Visitor Program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the RF coordinator in the RF recruitment campaig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anise Jamborees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minar Programm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anise Conferences and Workshop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anise Faculty Assembli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eneral purpose advisory role vis-a-vis management &amp; Scienc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Annual inter-Departmental Science Gathering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Times"/>
              <a:buChar char="•"/>
              <a:tabLst>
                <a:tab algn="l" pos="324000"/>
                <a:tab algn="l" pos="635040"/>
                <a:tab algn="l" pos="984240"/>
                <a:tab algn="l" pos="1077840"/>
                <a:tab algn="l" pos="1481040"/>
                <a:tab algn="l" pos="1693800"/>
                <a:tab algn="l" pos="2017800"/>
                <a:tab algn="l" pos="2387520"/>
                <a:tab algn="l" pos="2863800"/>
                <a:tab algn="l" pos="3286080"/>
                <a:tab algn="l" pos="37879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biennial Wise People Committee Review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4320" y="33480"/>
            <a:ext cx="781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6840" tIns="50760" bIns="50760" anchor="ctr">
            <a:noAutofit/>
          </a:bodyPr>
          <a:p>
            <a:pPr marL="44280" indent="-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ACTIVITIES &amp; ROLES of the FACUL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255600" y="-6480"/>
            <a:ext cx="70232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 - Joint Activ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84320" y="1447560"/>
            <a:ext cx="99756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45720" tIns="50760" bIns="50760" anchor="t">
            <a:normAutofit/>
          </a:bodyPr>
          <a:p>
            <a:pPr lvl="1"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icular, the two branches of the Faculty have work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mplement the following activi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304920"/>
            <a:ext cx="10185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200" y="2733840"/>
            <a:ext cx="87588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year RF extens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valuate RF applications (100 last year, 25 Faculty reviewer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partmental Research Proposals scientific evalu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0" y="304920"/>
            <a:ext cx="101854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1600" y="1446120"/>
            <a:ext cx="9217080" cy="36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63600" indent="-270000"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year Research Fellow ext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view by 5 person board of ESAC &amp; ESTEC Faculty memb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mary criteria for review is scientific merit and retur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mmendation of board sent to Divisional management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agement have awarded 8 3rd year extensions so f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2700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ill move towards a yearly call, in line with new RF intak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1"/>
          <p:cNvSpPr/>
          <p:nvPr/>
        </p:nvSpPr>
        <p:spPr>
          <a:xfrm>
            <a:off x="255600" y="-6480"/>
            <a:ext cx="70232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42560" tIns="50760" bIns="50760" anchor="ctr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ヒラギノ角ゴ Pro W6"/>
              </a:rPr>
              <a:t>Two Branches - Joint Activ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000" y="280800"/>
            <a:ext cx="7023240" cy="718920"/>
          </a:xfrm>
          <a:prstGeom prst="rect">
            <a:avLst/>
          </a:prstGeom>
          <a:noFill/>
          <a:ln w="0">
            <a:noFill/>
          </a:ln>
        </p:spPr>
        <p:txBody>
          <a:bodyPr lIns="50760" rIns="142560" tIns="50760" bIns="50760" anchor="ctr">
            <a:no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Joint Activities - RF Recruitment</a:t>
            </a:r>
            <a:endParaRPr b="1" lang="en-US" sz="3000" spc="-1" strike="noStrike">
              <a:solidFill>
                <a:srgbClr val="0029d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480" y="1072800"/>
            <a:ext cx="10159920" cy="5329080"/>
          </a:xfrm>
          <a:prstGeom prst="rect">
            <a:avLst/>
          </a:prstGeom>
          <a:solidFill>
            <a:srgbClr val="fdffc7"/>
          </a:solidFill>
          <a:ln w="0">
            <a:noFill/>
          </a:ln>
        </p:spPr>
        <p:txBody>
          <a:bodyPr lIns="50760" rIns="45720" tIns="50760" bIns="50760" anchor="t">
            <a:normAutofit fontScale="93000"/>
          </a:bodyPr>
          <a:p>
            <a:pPr marL="147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ing, science evaluation and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effort from Guido (RF coordinator) to implement new sche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ly call, fixed deadlines, transpar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: 84 complete applications received l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RFs accepted (+ 1 international traine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ulty, management and HR working in har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still room for improvement - e.g. re.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7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c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adline for applications 15 October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3720"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mboree + interview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-4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ember at EST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-1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ember at ESA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3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89280"/>
                <a:tab algn="l" pos="2225520"/>
                <a:tab algn="l" pos="2575080"/>
                <a:tab algn="l" pos="3032280"/>
                <a:tab algn="l" pos="3886200"/>
                <a:tab algn="l" pos="428292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ing on candidates geographical prefer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304920"/>
            <a:ext cx="1018548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9:24:36Z</dcterms:created>
  <dc:creator/>
  <dc:description/>
  <cp:keywords/>
  <dc:language>en-US</dc:language>
  <cp:lastModifiedBy>lmetcalf</cp:lastModifiedBy>
  <dcterms:modified xsi:type="dcterms:W3CDTF">2008-08-26T12:34:49Z</dcterms:modified>
  <cp:revision>36</cp:revision>
  <dc:subject/>
  <dc:title>RSSD Faculty</dc:title>
</cp:coreProperties>
</file>