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158413" cy="7621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69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7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104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69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87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D72C-A76B-432B-80B1-28FD670344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CE2E-4B8C-4619-B35B-44BD21DCB4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AB7C-BD37-4C2A-8D72-9E4A75CE29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264B-DFE3-4FB7-9B85-0E93229A36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D7F9-4DA9-40F2-B97E-5CA3420DB7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2324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CFBB-946B-45D1-B307-EA6AE84AAA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5F58-8F08-4A12-B7D8-E43B680913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42A0-E674-46C1-8876-C95982CF3B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ADAA-09EC-4BD7-89EC-56ACBF8BC8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B018-6513-41C5-A564-9844075CC5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9801-4ABD-4D63-88C3-3B3561F7B3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69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7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5104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69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87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C86C-81D6-41BF-A7E7-88D386F5F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2324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43080"/>
            <a:ext cx="10159920" cy="1015920"/>
          </a:xfrm>
          <a:prstGeom prst="rect">
            <a:avLst/>
          </a:prstGeom>
          <a:gradFill rotWithShape="0">
            <a:gsLst>
              <a:gs pos="0">
                <a:srgbClr val="5797ff"/>
              </a:gs>
              <a:gs pos="100000">
                <a:srgbClr val="fdff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425520" indent="-3812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75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3600" indent="-2538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5416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95640" indent="-25416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195640" indent="-254160"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195640" indent="-254160"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015992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 rot="10800000">
            <a:off x="5937120" y="285480"/>
            <a:ext cx="1689120" cy="5601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d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8381880" y="0"/>
            <a:ext cx="1791000" cy="75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7613640" y="596880"/>
            <a:ext cx="25462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531200" y="254160"/>
            <a:ext cx="85068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114480" y="7149960"/>
            <a:ext cx="8724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3"/>
          <a:stretch/>
        </p:blipFill>
        <p:spPr>
          <a:xfrm>
            <a:off x="5303880" y="6972480"/>
            <a:ext cx="4600440" cy="5270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39600" y="6780240"/>
            <a:ext cx="107964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2031840"/>
            <a:ext cx="86360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d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44280" indent="-442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1480" indent="-4428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954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76360" indent="-10476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41480" indent="-11268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41480" indent="-1126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41480" indent="-1126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8196120" y="69465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DDB1-A4EE-4BB2-9C01-3F7918439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12840"/>
            <a:ext cx="10159920" cy="1379520"/>
          </a:xfrm>
          <a:prstGeom prst="rect">
            <a:avLst/>
          </a:prstGeom>
          <a:gradFill rotWithShape="0">
            <a:gsLst>
              <a:gs pos="0">
                <a:srgbClr val="5797ff"/>
              </a:gs>
              <a:gs pos="100000">
                <a:srgbClr val="fdff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1015992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6"/>
          <p:cNvSpPr/>
          <p:nvPr/>
        </p:nvSpPr>
        <p:spPr>
          <a:xfrm rot="10800000">
            <a:off x="5937120" y="285480"/>
            <a:ext cx="1689120" cy="5601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381880" y="0"/>
            <a:ext cx="1791000" cy="752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613640" y="596880"/>
            <a:ext cx="25462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7531200" y="254160"/>
            <a:ext cx="85068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ssd.esa.int/index.php?project=FACULTY" TargetMode="External"/><Relationship Id="rId2" Type="http://schemas.openxmlformats.org/officeDocument/2006/relationships/hyperlink" Target="http://www.rssd.esa.int/index.php?project=FACULTY" TargetMode="External"/><Relationship Id="rId3" Type="http://schemas.openxmlformats.org/officeDocument/2006/relationships/hyperlink" Target="http://www.rssd.esa.int/index.php?project=FACULTY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3800" y="277920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hiller"/>
              </a:rPr>
              <a:t>The Facult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255F5441-03C9-4F60-B490-D762CB72084D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38040" y="1185840"/>
            <a:ext cx="9568080" cy="55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ore resources than the 'usual' computer environment and facult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ome problems last year due to short cycle time addressed this year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all is also posted on the Faculty web site a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2"/>
              </a:rPr>
              <a:t>www.rssd.esa.int/index.php?project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3"/>
              </a:rPr>
              <a:t>=FACUL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imelin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1 Ju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Inter-Departmental Science Workshop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28-29 Au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Proposals due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5 Sep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Review by Faculty comple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30 Sep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Oral review (Proposers &amp; Exe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7 Oc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Exec announce decision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1 O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New funding starts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Janu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im to have presentations of the work resulting from these proposals at this meeting each year (some shown at this 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1D511508-8D54-4B15-8E35-9C6E35690556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84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Departmental Research Proposals</a:t>
            </a:r>
            <a:endParaRPr b="1" lang="en-US" sz="32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3800" y="262368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ESTEC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F7DE3DB4-FE46-4B3C-98A7-D558B34C14FA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000" y="144000"/>
            <a:ext cx="702324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14256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Two Branches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6880" y="1649520"/>
            <a:ext cx="9112320" cy="4873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C Faculty branch consists of ~ 7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ed/tended by ESTEC Faculty Counc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o De Marchi (RF Programme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lef Kosch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o Fa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o Pru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 Taylor (Ch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vier Witas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ne Asnes (RF represen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fania Carpano (pending agreement of Facul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3480" y="1649160"/>
            <a:ext cx="101599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o the wider ESTEC Faculty is carried out via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regular (3-4 month)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inion and welfare of Research Fellows is highly regarded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(an RF is a member of council) and is a fixed agenda i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ESTEC Faculty funds is facilitated by a propos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% allocation to the Faculty’s science visito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to the Seminar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 contin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hemes of funding are proposed and discussed with the wi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at mee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-33480" y="663480"/>
            <a:ext cx="1018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904320" cy="4522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borees are also held to allow science activities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dvertised among Faculty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5 minute / 1-2 slide presentation of Faculty members sci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spcBef>
                <a:spcPts val="499"/>
              </a:spcBef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tor program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 12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so far only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is encouraged to submit proposals for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3800" y="262368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ESAC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4C918AE9-C97D-4F9D-9875-EC77193855BA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931212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SAC Branch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880" y="1577880"/>
            <a:ext cx="976500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SAC Faculty branch consists of nearly 100 peo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cluding ~20 LAEFF research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going ESAC Coun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ing ESAC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no Altie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no Altie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Barrad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k Kuul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Garcia-Lari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Garcia-L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o Guainazzi (</a:t>
            </a:r>
            <a:r>
              <a:rPr b="1" lang="en-US" sz="2400" spc="-1" strike="noStrike">
                <a:solidFill>
                  <a:srgbClr val="ff3300"/>
                </a:solidFill>
                <a:latin typeface="Chiller"/>
              </a:rPr>
              <a:t>is The Termin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o Guainazz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 Metcalfe (is Sentine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er Kretschmar (Senti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jamin Montesinos Com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 Mas Hes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y Pollock (is Exchequ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k Cox (R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a Santos-Lle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rge Sanz Forcad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49C574C2-893C-4F5E-A0F3-4C44B6ACBA83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9920" y="1506600"/>
            <a:ext cx="9736200" cy="50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Proto-facul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a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6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Faculty establishe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epte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3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6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  <a:ea typeface="ヒラギノ明朝 Pro W3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. Council Elections end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ugu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Faculty Workshop/Conf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epte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5-0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7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X-rays from Nearby Galaxies: 74 participants (12 inter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Jamborees (latest Nov. 15 '07 Tot.: 82 spoke/78+ bios on the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ouncil meetings (minutes on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ssemblies (VGs on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visitors over past 1.5 years. Stays lasting from days to month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EMBERSHIP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75 ESA (Staff + Contractors) &amp; 22 LAEFF Research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684360"/>
            <a:ext cx="93121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marL="44280" indent="-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ヒラギノ角ゴ Pro W6"/>
              </a:rPr>
              <a:t>The ESA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217440" y="433440"/>
            <a:ext cx="7023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18B9F86F-CDFB-4884-A57D-E31BAE40EDE7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920" y="1409760"/>
            <a:ext cx="990612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CENTAGE OF BUDGET ALLOCATED PER CATEGORY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 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stablished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h.D. students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rain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esearchers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ost-Docs.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35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40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Elite seminar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Mini-Workshop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Discretionar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240" y="215640"/>
            <a:ext cx="702324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wo Branches - ESAC Branch Funding</a:t>
            </a:r>
            <a:endParaRPr b="1" lang="en-US" sz="2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055257DC-573D-48D7-A11A-0306694E64DC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5240" y="610920"/>
            <a:ext cx="931212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ACKNOWLEDGING FUNDI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 Publications</a:t>
            </a:r>
            <a:endParaRPr b="1" lang="en-US" sz="18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32040" y="3030480"/>
            <a:ext cx="821196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2700" spc="-1" strike="noStrike">
                <a:solidFill>
                  <a:srgbClr val="808080"/>
                </a:solidFill>
                <a:latin typeface="Times New Roman"/>
              </a:rPr>
              <a:t>Acknowledgement: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Script MT Bold"/>
              </a:rPr>
              <a:t>We acknowledge support from the Faculty of the European Space Astronomy Centre (ESAC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92320" y="1728720"/>
            <a:ext cx="74880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and Roles of the Facu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ranches - Joint Activities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ran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C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C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 startAt="4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96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ONTENTS</a:t>
            </a:r>
            <a:endParaRPr b="1" lang="en-US" sz="3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1240" y="1293840"/>
            <a:ext cx="990432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ulty seems to be reasonably heal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ctively contributing to scientific life of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generally seems appreciated by the scien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seek innovative ways to spend bud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even 150 scientists with long-time-average 10% time for science can only support so many vis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members support the activities very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eep up the 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96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1" lang="en-US" sz="3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6880" y="2801520"/>
            <a:ext cx="965232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vities and Roles of the Facu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1EC837F6-8E3D-493C-AE1C-E955E6252262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B1B16DCF-53CF-4493-8FD9-B056EAC76BA3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0040" y="1577880"/>
            <a:ext cx="9117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 Statement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ster a (more) effective scientific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ive a united face to the scientific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constitute the Facul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ve (i.e. publishing papers) research scientists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C/ESAC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A staff, RFs, Science Contractors an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SAC, LAEF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14C5E54B-0FEE-4F22-841F-E1F824DFAB57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19240" y="1938240"/>
            <a:ext cx="753588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STER RESEARCH, SERVING T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expertise, familiarity with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foster empathy with target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competence to represent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peer respect from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BD632728-2A46-4D88-ABA9-81235CF65AE6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" y="1309680"/>
            <a:ext cx="921708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minister the scientific Visitor Program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the RF coordinator in the RF recruitment campaig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Jamborees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minar Program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Conferences and Workshop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Faculty Assembli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eneral purpose advisory role vis-a-vis management &amp; Scienc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Annual inter-Departmental Science Gathering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biennial Wise People Committee Review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255600" y="-6480"/>
            <a:ext cx="70232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 - Joint Activ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84320" y="1447560"/>
            <a:ext cx="99756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lvl="1"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 the two branches of the Faculty have work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mplement the following activ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04920"/>
            <a:ext cx="10185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200" y="2733840"/>
            <a:ext cx="87588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year RF exten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aluate RF applications (100 last year, 25 Faculty reviewer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partmental Research Proposals scientific evalu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304920"/>
            <a:ext cx="10185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600" y="1446120"/>
            <a:ext cx="921708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63600" indent="-270000"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year Research Fellow ext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view by 5 person board of ESAC &amp; ESTEC Faculty memb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mary criteria for review is scientific merit and retur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mmendation of board sent to Divisional management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agement have awarded 8 3rd year extensions so f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ll move towards a yearly call, in line with new RF intak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55600" y="-6480"/>
            <a:ext cx="70232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 - Joint Activ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000" y="280800"/>
            <a:ext cx="7023240" cy="718920"/>
          </a:xfrm>
          <a:prstGeom prst="rect">
            <a:avLst/>
          </a:prstGeom>
          <a:noFill/>
          <a:ln w="0">
            <a:noFill/>
          </a:ln>
        </p:spPr>
        <p:txBody>
          <a:bodyPr lIns="50760" rIns="14256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Joint Activities - RF Recruitmen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80" y="1072800"/>
            <a:ext cx="10159920" cy="532908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45720" tIns="50760" bIns="50760" anchor="t">
            <a:normAutofit fontScale="93000"/>
          </a:bodyPr>
          <a:p>
            <a:pPr marL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ing, science evaluation and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effort from Guido (RF coordinator) to implement new sche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ly call, fixed deadlines, transpar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: 84 complete applications received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RFs accepted (+ 1 international traine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, management and HR working in har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till room for improvement - e.g. re.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adline for applications 15 October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boree + interview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-4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mber at EST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-1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mber at ES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ing on candidates geographical prefer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304920"/>
            <a:ext cx="1018548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9:24:36Z</dcterms:created>
  <dc:creator/>
  <dc:description/>
  <cp:keywords/>
  <dc:language>en-US</dc:language>
  <cp:lastModifiedBy>lmetcalf</cp:lastModifiedBy>
  <dcterms:modified xsi:type="dcterms:W3CDTF">2008-08-26T12:34:49Z</dcterms:modified>
  <cp:revision>36</cp:revision>
  <dc:subject/>
  <dc:title>RSSD Faculty</dc:title>
</cp:coreProperties>
</file>