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0158413" cy="76215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80388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51040" y="5151240"/>
            <a:ext cx="80388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7052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1040" y="51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70520" y="51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69400" y="24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87400" y="24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51040" y="51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69400" y="51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87400" y="51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769AC-3C7F-42C6-8B6B-92C16EE46F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51040" y="2451240"/>
            <a:ext cx="803880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0906C-8C4F-43D2-93CA-031D4BBE88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8038800" cy="51688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86507-21EF-47F1-B3B7-6A55EE888F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3922920" cy="51688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0520" y="2451240"/>
            <a:ext cx="3922920" cy="51688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586A1-97F8-496A-BE52-224AAD3E88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2B759-28DB-479D-983F-F53E9FC6ED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7023240" cy="78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ED77F-AF1F-4967-8A7D-DAAA89A57D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0520" y="2451240"/>
            <a:ext cx="3922920" cy="51688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51040" y="51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392B9-8FA0-4B98-9024-6032985DBD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51040" y="2451240"/>
            <a:ext cx="803880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3922920" cy="51688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052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70520" y="51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17F93-2C93-4C90-88A9-EF5D09007B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7052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1040" y="5151240"/>
            <a:ext cx="80388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CC396-778D-4699-ACAB-0E645A940A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80388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51040" y="5151240"/>
            <a:ext cx="80388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EAD50-DFFB-44AB-B5F6-2480587969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7052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51040" y="51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70520" y="51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7092A-AF68-4E90-B33D-0A379475D8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69400" y="24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287400" y="24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51040" y="51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69400" y="51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287400" y="51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60153-764A-4D21-B784-F65BA87591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8038800" cy="51688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3922920" cy="51688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0520" y="2451240"/>
            <a:ext cx="3922920" cy="51688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7023240" cy="78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0520" y="2451240"/>
            <a:ext cx="3922920" cy="51688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51040" y="51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3922920" cy="51688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052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70520" y="51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052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51040" y="5151240"/>
            <a:ext cx="80388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343080"/>
            <a:ext cx="10159920" cy="1015920"/>
          </a:xfrm>
          <a:prstGeom prst="rect">
            <a:avLst/>
          </a:prstGeom>
          <a:gradFill rotWithShape="0">
            <a:gsLst>
              <a:gs pos="0">
                <a:srgbClr val="5797ff"/>
              </a:gs>
              <a:gs pos="100000">
                <a:srgbClr val="fdffc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851040" y="2451240"/>
            <a:ext cx="8038800" cy="51688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marL="425520" indent="-3812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7520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63600" indent="-25380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30520" indent="-25416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195640" indent="-254160">
              <a:spcBef>
                <a:spcPts val="4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195640" indent="-254160">
              <a:spcBef>
                <a:spcPts val="499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195640" indent="-254160">
              <a:spcBef>
                <a:spcPts val="499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0"/>
            <a:ext cx="10159920" cy="343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AutoShape 4"/>
          <p:cNvSpPr/>
          <p:nvPr/>
        </p:nvSpPr>
        <p:spPr>
          <a:xfrm rot="10800000">
            <a:off x="5937120" y="285480"/>
            <a:ext cx="1689120" cy="56016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9d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8381880" y="0"/>
            <a:ext cx="1791000" cy="7524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7"/>
          <p:cNvSpPr/>
          <p:nvPr/>
        </p:nvSpPr>
        <p:spPr>
          <a:xfrm>
            <a:off x="7613640" y="596880"/>
            <a:ext cx="2546280" cy="254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7531200" y="254160"/>
            <a:ext cx="85068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Rectangle 9"/>
          <p:cNvSpPr/>
          <p:nvPr/>
        </p:nvSpPr>
        <p:spPr>
          <a:xfrm>
            <a:off x="114480" y="7149960"/>
            <a:ext cx="8724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000" tIns="0" bIns="0" anchor="t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" name="Picture 10" descr=""/>
          <p:cNvPicPr/>
          <p:nvPr/>
        </p:nvPicPr>
        <p:blipFill>
          <a:blip r:embed="rId3"/>
          <a:stretch/>
        </p:blipFill>
        <p:spPr>
          <a:xfrm>
            <a:off x="5303880" y="6972480"/>
            <a:ext cx="4600440" cy="52704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4"/>
          <a:stretch/>
        </p:blipFill>
        <p:spPr>
          <a:xfrm>
            <a:off x="39600" y="6780240"/>
            <a:ext cx="107964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1760" y="2031840"/>
            <a:ext cx="8636040" cy="228600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9d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523880" y="4317480"/>
            <a:ext cx="711216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marL="44280" indent="-4428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01480" indent="-44280" algn="ctr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9800" indent="-95400" algn="ctr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76360" indent="-104760" algn="ctr">
              <a:spcBef>
                <a:spcPts val="4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941480" indent="-112680" algn="ctr">
              <a:spcBef>
                <a:spcPts val="499"/>
              </a:spcBef>
              <a:buClr>
                <a:srgbClr val="000000"/>
              </a:buClr>
              <a:buFont typeface="Symbol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941480" indent="-112680" algn="ctr">
              <a:spcBef>
                <a:spcPts val="499"/>
              </a:spcBef>
              <a:buClr>
                <a:srgbClr val="ffffff"/>
              </a:buClr>
              <a:buFont typeface="Symbol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941480" indent="-112680" algn="ctr">
              <a:spcBef>
                <a:spcPts val="499"/>
              </a:spcBef>
              <a:buClr>
                <a:srgbClr val="ffffff"/>
              </a:buClr>
              <a:buFont typeface="Symbol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1"/>
          </p:nvPr>
        </p:nvSpPr>
        <p:spPr>
          <a:xfrm>
            <a:off x="8196120" y="69465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D94B-5A33-4988-AF12-ECFD3F0EA7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312840"/>
            <a:ext cx="10159920" cy="1379520"/>
          </a:xfrm>
          <a:prstGeom prst="rect">
            <a:avLst/>
          </a:prstGeom>
          <a:gradFill rotWithShape="0">
            <a:gsLst>
              <a:gs pos="0">
                <a:srgbClr val="5797ff"/>
              </a:gs>
              <a:gs pos="100000">
                <a:srgbClr val="fdffc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0"/>
            <a:ext cx="10159920" cy="343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AutoShape 6"/>
          <p:cNvSpPr/>
          <p:nvPr/>
        </p:nvSpPr>
        <p:spPr>
          <a:xfrm rot="10800000">
            <a:off x="5937120" y="285480"/>
            <a:ext cx="1689120" cy="56016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8381880" y="0"/>
            <a:ext cx="1791000" cy="7524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7613640" y="596880"/>
            <a:ext cx="2546280" cy="254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7531200" y="254160"/>
            <a:ext cx="85068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ssd.esa.int/index.php?project=FACULTY" TargetMode="External"/><Relationship Id="rId2" Type="http://schemas.openxmlformats.org/officeDocument/2006/relationships/hyperlink" Target="http://www.rssd.esa.int/index.php?project=FACULTY" TargetMode="External"/><Relationship Id="rId3" Type="http://schemas.openxmlformats.org/officeDocument/2006/relationships/hyperlink" Target="http://www.rssd.esa.int/index.php?project=FACULTY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53800" y="2779200"/>
            <a:ext cx="9651960" cy="1101960"/>
          </a:xfrm>
          <a:prstGeom prst="rect">
            <a:avLst/>
          </a:prstGeom>
          <a:solidFill>
            <a:srgbClr val="fdffc7"/>
          </a:solidFill>
          <a:ln w="0">
            <a:noFill/>
          </a:ln>
        </p:spPr>
        <p:txBody>
          <a:bodyPr lIns="50760" rIns="96840" tIns="50760" bIns="50760" anchor="t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Chiller"/>
              </a:rPr>
              <a:t>The Facult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7027920"/>
            <a:ext cx="211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126AA5B1-D609-42F9-B015-ECEC9AEA2D97}" type="datetime"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7/30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38040" y="1185840"/>
            <a:ext cx="9568080" cy="55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lvl="1" marL="210960">
              <a:lnSpc>
                <a:spcPct val="110000"/>
              </a:lnSpc>
              <a:buClr>
                <a:srgbClr val="808080"/>
              </a:buClr>
              <a:buFont typeface="Wingdings" charset="2"/>
              <a:buChar char="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More resources than the 'usual' computer environment and faculty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10960">
              <a:lnSpc>
                <a:spcPct val="110000"/>
              </a:lnSpc>
              <a:buClr>
                <a:srgbClr val="808080"/>
              </a:buClr>
              <a:buFont typeface="Wingdings" charset="2"/>
              <a:buChar char="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Some problems last year due to short cycle time addressed this year!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10960">
              <a:lnSpc>
                <a:spcPct val="110000"/>
              </a:lnSpc>
              <a:buClr>
                <a:srgbClr val="808080"/>
              </a:buClr>
              <a:buFont typeface="Wingdings" charset="2"/>
              <a:buChar char="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Call is also posted on the Faculty web site at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ヒラギノ明朝 Pro W3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ヒラギノ明朝 Pro W3"/>
                <a:hlinkClick r:id="rId2"/>
              </a:rPr>
              <a:t>www.rssd.esa.int/index.php?project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ヒラギノ明朝 Pro W3"/>
                <a:hlinkClick r:id="rId3"/>
              </a:rPr>
              <a:t>=FACUL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423720"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imeline: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2" marL="423720"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C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01 Ju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00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423720"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Inter-Departmental Science Workshop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  28-29 Aug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00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423720"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Proposals due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15 Sep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00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423720"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Review by Faculty comple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30 Sep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00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423720"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Oral review (Proposers &amp; Exe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07 Oct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00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423720"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Exec announce decision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1 Oc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00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423720"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New funding starts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     Janua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00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423720"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2" marL="423720"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Aim to have presentations of the work resulting from these proposals at this meeting each year (some shown at this on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7027920"/>
            <a:ext cx="211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55E7BE25-A78A-4FC8-9F68-5CE47F928E10}" type="datetime"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7/30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840" y="394920"/>
            <a:ext cx="9312480" cy="677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Departmental Research Proposals</a:t>
            </a:r>
            <a:endParaRPr b="1" lang="en-US" sz="3200" spc="-1" strike="noStrike">
              <a:solidFill>
                <a:srgbClr val="0029d4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53800" y="2623680"/>
            <a:ext cx="9651960" cy="1101960"/>
          </a:xfrm>
          <a:prstGeom prst="rect">
            <a:avLst/>
          </a:prstGeom>
          <a:solidFill>
            <a:srgbClr val="fdffc7"/>
          </a:solidFill>
          <a:ln w="0">
            <a:noFill/>
          </a:ln>
        </p:spPr>
        <p:txBody>
          <a:bodyPr lIns="50760" rIns="96840" tIns="50760" bIns="5076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ESTEC Bra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7027920"/>
            <a:ext cx="211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D160A40C-7F27-4C50-903B-716B2188C171}" type="datetime"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7/30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1"/>
          <p:cNvSpPr/>
          <p:nvPr/>
        </p:nvSpPr>
        <p:spPr>
          <a:xfrm>
            <a:off x="144360" y="144360"/>
            <a:ext cx="702324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42560" tIns="50760" bIns="50760" anchor="ctr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ヒラギノ角ゴ Pro W6"/>
              </a:rPr>
              <a:t>Two Branch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000" y="144000"/>
            <a:ext cx="7023240" cy="1073160"/>
          </a:xfrm>
          <a:prstGeom prst="rect">
            <a:avLst/>
          </a:prstGeom>
          <a:noFill/>
          <a:ln w="0">
            <a:noFill/>
          </a:ln>
        </p:spPr>
        <p:txBody>
          <a:bodyPr lIns="50760" rIns="14256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Two Branches</a:t>
            </a: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6880" y="1649520"/>
            <a:ext cx="9112320" cy="4873680"/>
          </a:xfrm>
          <a:prstGeom prst="rect">
            <a:avLst/>
          </a:prstGeom>
          <a:noFill/>
          <a:ln w="0">
            <a:noFill/>
          </a:ln>
        </p:spPr>
        <p:txBody>
          <a:bodyPr lIns="50760" rIns="45720" tIns="50760" bIns="50760" anchor="t">
            <a:normAutofit fontScale="9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EC Faculty branch consists of ~ 70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sed/tended by ESTEC Faculty Counci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do De Marchi (RF Programme Coordin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lef Kosch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bio Fav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o Pru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 Taylor (Cha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ivier Witas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ne Asnes (RF represent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fania Carpano (pending agreement of Facul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0" y="304920"/>
            <a:ext cx="101854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0" y="304920"/>
            <a:ext cx="101854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Arial"/>
              </a:rPr>
              <a:t>The ESTEC branc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3480" y="1649160"/>
            <a:ext cx="10159920" cy="6172200"/>
          </a:xfrm>
          <a:prstGeom prst="rect">
            <a:avLst/>
          </a:prstGeom>
          <a:noFill/>
          <a:ln w="0">
            <a:noFill/>
          </a:ln>
        </p:spPr>
        <p:txBody>
          <a:bodyPr lIns="50760" rIns="45720" tIns="50760" bIns="50760" anchor="t">
            <a:normAutofit/>
          </a:bodyPr>
          <a:p>
            <a:pPr marL="442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o the wider ESTEC Faculty is carried out via e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 indent="0">
              <a:spcBef>
                <a:spcPts val="499"/>
              </a:spcBef>
              <a:buNone/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well as regular (3-4 month)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 indent="0">
              <a:spcBef>
                <a:spcPts val="499"/>
              </a:spcBef>
              <a:buNone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pinion and welfare of Research Fellows is highly regarded b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ulty (an RF is a member of council) and is a fixed agenda i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 indent="0">
              <a:spcBef>
                <a:spcPts val="499"/>
              </a:spcBef>
              <a:buNone/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 indent="0">
              <a:spcBef>
                <a:spcPts val="499"/>
              </a:spcBef>
              <a:buNone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ESTEC Faculty funds is facilitated by a proposal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55600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% allocation to the Faculty’s science visitor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55600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% to the Seminar progr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55600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% contin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499"/>
              </a:spcBef>
              <a:buNone/>
              <a:tabLst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schemes of funding are proposed and discussed with the wid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ulty at meet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-33480" y="663480"/>
            <a:ext cx="10185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Arial"/>
              </a:rPr>
              <a:t>The ESTEC branc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1"/>
          <p:cNvSpPr/>
          <p:nvPr/>
        </p:nvSpPr>
        <p:spPr>
          <a:xfrm>
            <a:off x="144360" y="144360"/>
            <a:ext cx="702324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42560" tIns="50760" bIns="50760" anchor="ctr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ヒラギノ角ゴ Pro W6"/>
              </a:rPr>
              <a:t>Two Branch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"/>
          <p:cNvSpPr/>
          <p:nvPr/>
        </p:nvSpPr>
        <p:spPr>
          <a:xfrm>
            <a:off x="144360" y="144360"/>
            <a:ext cx="702324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42560" tIns="50760" bIns="50760" anchor="ctr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ヒラギノ角ゴ Pro W6"/>
              </a:rPr>
              <a:t>Two Branch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1447560"/>
            <a:ext cx="9904320" cy="4522680"/>
          </a:xfrm>
          <a:prstGeom prst="rect">
            <a:avLst/>
          </a:prstGeom>
          <a:noFill/>
          <a:ln w="0">
            <a:noFill/>
          </a:ln>
        </p:spPr>
        <p:txBody>
          <a:bodyPr lIns="50760" rIns="45720" tIns="50760" bIns="50760" anchor="t">
            <a:normAutofit/>
          </a:bodyPr>
          <a:p>
            <a:pPr lvl="1" marL="576360" indent="0">
              <a:spcBef>
                <a:spcPts val="499"/>
              </a:spcBef>
              <a:buNone/>
              <a:tabLst>
                <a:tab algn="l" pos="0"/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66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borees are also held to allow science activities and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6680" indent="0">
              <a:spcBef>
                <a:spcPts val="499"/>
              </a:spcBef>
              <a:buNone/>
              <a:tabLst>
                <a:tab algn="l" pos="0"/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advertised among Faculty me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66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5 minute / 1-2 slide presentation of Faculty members scie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6680" indent="0">
              <a:spcBef>
                <a:spcPts val="499"/>
              </a:spcBef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0">
              <a:spcBef>
                <a:spcPts val="499"/>
              </a:spcBef>
              <a:buNone/>
              <a:tabLst>
                <a:tab algn="l" pos="0"/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itor program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0">
              <a:spcBef>
                <a:spcPts val="499"/>
              </a:spcBef>
              <a:buNone/>
              <a:tabLst>
                <a:tab algn="l" pos="0"/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66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7- 12 vis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66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 – so far only 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66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ulty is encouraged to submit proposals for vis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0" y="304920"/>
            <a:ext cx="101854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Arial"/>
              </a:rPr>
              <a:t>The ESTEC branc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53800" y="2623680"/>
            <a:ext cx="9651960" cy="1101960"/>
          </a:xfrm>
          <a:prstGeom prst="rect">
            <a:avLst/>
          </a:prstGeom>
          <a:solidFill>
            <a:srgbClr val="fdffc7"/>
          </a:solidFill>
          <a:ln w="0">
            <a:noFill/>
          </a:ln>
        </p:spPr>
        <p:txBody>
          <a:bodyPr lIns="50760" rIns="96840" tIns="50760" bIns="5076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ESAC Bra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7027920"/>
            <a:ext cx="211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E3A09678-F524-4DB2-8CDA-D52DCB7EA8CA}" type="datetime"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7/30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1"/>
          <p:cNvSpPr/>
          <p:nvPr/>
        </p:nvSpPr>
        <p:spPr>
          <a:xfrm>
            <a:off x="144360" y="144360"/>
            <a:ext cx="702324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42560" tIns="50760" bIns="50760" anchor="ctr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ヒラギノ角ゴ Pro W6"/>
              </a:rPr>
              <a:t>Two Branch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471840" y="694224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9312120" cy="677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marL="44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ESAC Branch</a:t>
            </a: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6880" y="1577880"/>
            <a:ext cx="9765000" cy="53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324000" indent="-211320">
              <a:tabLst>
                <a:tab algn="l" pos="0"/>
                <a:tab algn="l" pos="635040"/>
                <a:tab algn="l" pos="846000"/>
                <a:tab algn="l" pos="105876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  <a:tab algn="l" pos="6534000"/>
                <a:tab algn="l" pos="6845400"/>
                <a:tab algn="l" pos="7156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SAC Faculty branch consists of nearly 100 peop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cluding ~20 LAEFF researche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211320">
              <a:tabLst>
                <a:tab algn="l" pos="0"/>
                <a:tab algn="l" pos="635040"/>
                <a:tab algn="l" pos="846000"/>
                <a:tab algn="l" pos="105876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  <a:tab algn="l" pos="6534000"/>
                <a:tab algn="l" pos="6845400"/>
                <a:tab algn="l" pos="7156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211320">
              <a:tabLst>
                <a:tab algn="l" pos="0"/>
                <a:tab algn="l" pos="635040"/>
                <a:tab algn="l" pos="846000"/>
                <a:tab algn="l" pos="105876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  <a:tab algn="l" pos="6534000"/>
                <a:tab algn="l" pos="6845400"/>
                <a:tab algn="l" pos="7156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going ESAC Counc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ming ESAC Counc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211320">
              <a:tabLst>
                <a:tab algn="l" pos="0"/>
                <a:tab algn="l" pos="635040"/>
                <a:tab algn="l" pos="846000"/>
                <a:tab algn="l" pos="105876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  <a:tab algn="l" pos="6534000"/>
                <a:tab algn="l" pos="6845400"/>
                <a:tab algn="l" pos="7156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uno Altie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uno Altie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211320">
              <a:tabLst>
                <a:tab algn="l" pos="0"/>
                <a:tab algn="l" pos="635040"/>
                <a:tab algn="l" pos="846000"/>
                <a:tab algn="l" pos="105876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  <a:tab algn="l" pos="6534000"/>
                <a:tab algn="l" pos="6845400"/>
                <a:tab algn="l" pos="7156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vid Barrad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AEFF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ik Kuulk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211320">
              <a:tabLst>
                <a:tab algn="l" pos="0"/>
                <a:tab algn="l" pos="635040"/>
                <a:tab algn="l" pos="846000"/>
                <a:tab algn="l" pos="105876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  <a:tab algn="l" pos="6534000"/>
                <a:tab algn="l" pos="6845400"/>
                <a:tab algn="l" pos="7156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dro Garcia-Lari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dro Garcia-La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211320">
              <a:tabLst>
                <a:tab algn="l" pos="0"/>
                <a:tab algn="l" pos="635040"/>
                <a:tab algn="l" pos="846000"/>
                <a:tab algn="l" pos="105876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  <a:tab algn="l" pos="6534000"/>
                <a:tab algn="l" pos="6845400"/>
                <a:tab algn="l" pos="7156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eo Guainazzi (</a:t>
            </a:r>
            <a:r>
              <a:rPr b="1" lang="en-US" sz="2400" spc="-1" strike="noStrike">
                <a:solidFill>
                  <a:srgbClr val="ff3300"/>
                </a:solidFill>
                <a:latin typeface="Chiller"/>
              </a:rPr>
              <a:t>is The Termin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eo Guainazz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211320">
              <a:tabLst>
                <a:tab algn="l" pos="0"/>
                <a:tab algn="l" pos="635040"/>
                <a:tab algn="l" pos="846000"/>
                <a:tab algn="l" pos="105876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  <a:tab algn="l" pos="6534000"/>
                <a:tab algn="l" pos="6845400"/>
                <a:tab algn="l" pos="7156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o Metcalfe (is Sentinel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ter Kretschmar (Sentine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211320">
              <a:tabLst>
                <a:tab algn="l" pos="0"/>
                <a:tab algn="l" pos="635040"/>
                <a:tab algn="l" pos="846000"/>
                <a:tab algn="l" pos="105876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  <a:tab algn="l" pos="6534000"/>
                <a:tab algn="l" pos="6845400"/>
                <a:tab algn="l" pos="7156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jamin Montesinos Comi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AEFF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guel Mas Hess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AEFF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211320">
              <a:tabLst>
                <a:tab algn="l" pos="0"/>
                <a:tab algn="l" pos="635040"/>
                <a:tab algn="l" pos="846000"/>
                <a:tab algn="l" pos="105876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  <a:tab algn="l" pos="6534000"/>
                <a:tab algn="l" pos="6845400"/>
                <a:tab algn="l" pos="7156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y Pollock (is Exchequer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ck Cox (R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211320">
              <a:tabLst>
                <a:tab algn="l" pos="0"/>
                <a:tab algn="l" pos="635040"/>
                <a:tab algn="l" pos="846000"/>
                <a:tab algn="l" pos="105876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  <a:tab algn="l" pos="6534000"/>
                <a:tab algn="l" pos="6845400"/>
                <a:tab algn="l" pos="7156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ia Santos-Lle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rge Sanz Forcad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AEFF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1"/>
          <p:cNvSpPr/>
          <p:nvPr/>
        </p:nvSpPr>
        <p:spPr>
          <a:xfrm>
            <a:off x="144360" y="144360"/>
            <a:ext cx="702324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42560" tIns="50760" bIns="50760" anchor="ctr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ヒラギノ角ゴ Pro W6"/>
              </a:rPr>
              <a:t>Two Branch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471840" y="694224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7027920"/>
            <a:ext cx="211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170DDBFE-42DE-4202-9647-E337A02F7CC3}" type="datetime"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7/30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9920" y="1506600"/>
            <a:ext cx="9736200" cy="50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lvl="1" marL="719280" indent="-508320">
              <a:lnSpc>
                <a:spcPct val="10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Proto-facul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Ma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1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006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0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Faculty established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Septemb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3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006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0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  <a:ea typeface="ヒラギノ明朝 Pro W3"/>
              </a:rPr>
              <a:t>n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. Council Elections ende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Augus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04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008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0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0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Faculty Workshop/Conf.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Septemb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05-07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007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0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X-rays from Nearby Galaxies: 74 participants (12 interna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0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3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Jamborees (latest Nov. 15 '07 Tot.: 82 spoke/78+ bios on the web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3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18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Council meetings (minutes on web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3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Assemblies (VGs on web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3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63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visitors over past 1.5 years. Stays lasting from days to month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3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3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MEMBERSHIP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  75 ESA (Staff + Contractors) &amp; 22 LAEFF Researche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684360"/>
            <a:ext cx="93121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 marL="44280" indent="-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ヒラギノ角ゴ Pro W6"/>
              </a:rPr>
              <a:t>The ESAC Branc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1"/>
          <p:cNvSpPr/>
          <p:nvPr/>
        </p:nvSpPr>
        <p:spPr>
          <a:xfrm>
            <a:off x="217440" y="433440"/>
            <a:ext cx="7023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42560" tIns="50760" bIns="50760" anchor="ctr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ヒラギノ角ゴ Pro W6"/>
              </a:rPr>
              <a:t>Two Branch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471840" y="694224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7027920"/>
            <a:ext cx="211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A6A8C2CC-0982-4546-BA1B-0C3CC0DF8FA5}" type="datetime"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7/30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9920" y="1409760"/>
            <a:ext cx="9906120" cy="53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CENTAGE OF BUDGET ALLOCATED PER CATEGORY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Visitors  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Visitors 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Visitor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Established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Ph.D. students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Train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Researchers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&amp;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Post-Docs.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35%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40%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10%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Elite seminar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Mini-Workshop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5%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5%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Discretionary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5%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5240" y="215640"/>
            <a:ext cx="7023240" cy="107316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wo Branches - ESAC Branch Funding</a:t>
            </a:r>
            <a:endParaRPr b="1" lang="en-US" sz="2400" spc="-1" strike="noStrike">
              <a:solidFill>
                <a:srgbClr val="0029d4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471840" y="694224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7027920"/>
            <a:ext cx="211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ACFB2D22-CCBC-4BEE-9810-43DFC41C2C23}" type="datetime"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7/30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5240" y="610920"/>
            <a:ext cx="9312120" cy="677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ACKNOWLEDGING FUNDING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n Publications</a:t>
            </a:r>
            <a:endParaRPr b="1" lang="en-US" sz="18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32040" y="3030480"/>
            <a:ext cx="8211960" cy="13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en-US" sz="2700" spc="-1" strike="noStrike">
                <a:solidFill>
                  <a:srgbClr val="808080"/>
                </a:solidFill>
                <a:latin typeface="Times New Roman"/>
              </a:rPr>
              <a:t>Acknowledgement: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Script MT Bold"/>
              </a:rPr>
              <a:t>We acknowledge support from the Faculty of the European Space Astronomy Centre (ESAC)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92320" y="1728720"/>
            <a:ext cx="748800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652320" indent="-50796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ies and Roles of the Facul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52320" indent="-50796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Branches - Joint Activities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52320" indent="-50796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Branc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52320" indent="-50796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C Bran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52320" indent="-50796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AC Bran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52320" indent="-50796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Helvetica"/>
              <a:buAutoNum type="arabicPeriod" startAt="4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71840" y="694224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9960" y="394920"/>
            <a:ext cx="9312480" cy="677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CONTENTS</a:t>
            </a:r>
            <a:endParaRPr b="1" lang="en-US" sz="3400" spc="-1" strike="noStrike">
              <a:solidFill>
                <a:srgbClr val="0029d4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1240" y="1293840"/>
            <a:ext cx="9904320" cy="52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507960" indent="-33984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Helvetica"/>
              <a:buChar char="•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culty seems to be reasonably healt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460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actively contributing to scientific life of Depart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460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generally seems appreciated by the scient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460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07960" indent="-33984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Helvetica"/>
              <a:buChar char="•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seek innovative ways to spend budg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460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even 150 scientists with long-time-average 10% time for science can only support so many visi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460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07960" indent="-33984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Helvetica"/>
              <a:buChar char="•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members support the activities very w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0796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Helvetica"/>
              <a:buChar char="•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07960" indent="-33984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Helvetica"/>
              <a:buChar char="•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keep up the moment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71840" y="694224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9960" y="394920"/>
            <a:ext cx="9312480" cy="677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CONCLUSIONS</a:t>
            </a:r>
            <a:endParaRPr b="1" lang="en-US" sz="3400" spc="-1" strike="noStrike">
              <a:solidFill>
                <a:srgbClr val="0029d4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6880" y="2801520"/>
            <a:ext cx="9652320" cy="1101960"/>
          </a:xfrm>
          <a:prstGeom prst="rect">
            <a:avLst/>
          </a:prstGeom>
          <a:solidFill>
            <a:srgbClr val="fdffc7"/>
          </a:solidFill>
          <a:ln w="0">
            <a:noFill/>
          </a:ln>
        </p:spPr>
        <p:txBody>
          <a:bodyPr lIns="50760" rIns="96840" tIns="50760" bIns="5076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ctivities and Roles of the Facul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7027920"/>
            <a:ext cx="211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02A78843-76EB-4A3C-B596-5163AD133FBD}" type="datetime"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7/30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4320" y="33480"/>
            <a:ext cx="78166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6840" tIns="50760" bIns="50760" anchor="ctr">
            <a:noAutofit/>
          </a:bodyPr>
          <a:p>
            <a:pPr marL="44280" indent="-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Arial"/>
                <a:ea typeface="ヒラギノ角ゴ Pro W6"/>
              </a:rPr>
              <a:t>ACTIVITIES &amp; ROLES of the FACUL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71840" y="694224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7027920"/>
            <a:ext cx="211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DD3425A7-9875-4EDC-87AA-8972437403DC}" type="datetime"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7/30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0040" y="1577880"/>
            <a:ext cx="91170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254160"/>
                <a:tab algn="l" pos="380880"/>
                <a:tab algn="l" pos="507960"/>
                <a:tab algn="l" pos="635040"/>
                <a:tab algn="l" pos="762120"/>
                <a:tab algn="l" pos="888840"/>
                <a:tab algn="l" pos="1015920"/>
                <a:tab algn="l" pos="1143000"/>
                <a:tab algn="l" pos="1270080"/>
                <a:tab algn="l" pos="1397160"/>
                <a:tab algn="l" pos="1523880"/>
                <a:tab algn="l" pos="1650960"/>
                <a:tab algn="l" pos="1778040"/>
                <a:tab algn="l" pos="1905120"/>
                <a:tab algn="l" pos="2031840"/>
                <a:tab algn="l" pos="2158920"/>
                <a:tab algn="l" pos="2286000"/>
                <a:tab algn="l" pos="2413080"/>
                <a:tab algn="l" pos="2540160"/>
                <a:tab algn="l" pos="266688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96920"/>
                <a:tab algn="l" pos="254160"/>
                <a:tab algn="l" pos="380880"/>
                <a:tab algn="l" pos="507960"/>
                <a:tab algn="l" pos="635040"/>
                <a:tab algn="l" pos="762120"/>
                <a:tab algn="l" pos="888840"/>
                <a:tab algn="l" pos="1015920"/>
                <a:tab algn="l" pos="1143000"/>
                <a:tab algn="l" pos="1270080"/>
                <a:tab algn="l" pos="1397160"/>
                <a:tab algn="l" pos="1523880"/>
                <a:tab algn="l" pos="1650960"/>
                <a:tab algn="l" pos="1778040"/>
                <a:tab algn="l" pos="1905120"/>
                <a:tab algn="l" pos="2031840"/>
                <a:tab algn="l" pos="2158920"/>
                <a:tab algn="l" pos="2286000"/>
                <a:tab algn="l" pos="2413080"/>
                <a:tab algn="l" pos="2540160"/>
                <a:tab algn="l" pos="266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ssion Statement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6920"/>
                <a:tab algn="l" pos="254160"/>
                <a:tab algn="l" pos="380880"/>
                <a:tab algn="l" pos="507960"/>
                <a:tab algn="l" pos="635040"/>
                <a:tab algn="l" pos="762120"/>
                <a:tab algn="l" pos="888840"/>
                <a:tab algn="l" pos="1015920"/>
                <a:tab algn="l" pos="1143000"/>
                <a:tab algn="l" pos="1270080"/>
                <a:tab algn="l" pos="1397160"/>
                <a:tab algn="l" pos="1523880"/>
                <a:tab algn="l" pos="1650960"/>
                <a:tab algn="l" pos="1778040"/>
                <a:tab algn="l" pos="1905120"/>
                <a:tab algn="l" pos="2031840"/>
                <a:tab algn="l" pos="2158920"/>
                <a:tab algn="l" pos="2286000"/>
                <a:tab algn="l" pos="2413080"/>
                <a:tab algn="l" pos="2540160"/>
                <a:tab algn="l" pos="266688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96920"/>
                <a:tab algn="l" pos="254160"/>
                <a:tab algn="l" pos="380880"/>
                <a:tab algn="l" pos="507960"/>
                <a:tab algn="l" pos="635040"/>
                <a:tab algn="l" pos="762120"/>
                <a:tab algn="l" pos="888840"/>
                <a:tab algn="l" pos="1015920"/>
                <a:tab algn="l" pos="1143000"/>
                <a:tab algn="l" pos="1270080"/>
                <a:tab algn="l" pos="1397160"/>
                <a:tab algn="l" pos="1523880"/>
                <a:tab algn="l" pos="1650960"/>
                <a:tab algn="l" pos="1778040"/>
                <a:tab algn="l" pos="1905120"/>
                <a:tab algn="l" pos="2031840"/>
                <a:tab algn="l" pos="2158920"/>
                <a:tab algn="l" pos="2286000"/>
                <a:tab algn="l" pos="2413080"/>
                <a:tab algn="l" pos="2540160"/>
                <a:tab algn="l" pos="266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oster a (more) effective scientific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96920"/>
                <a:tab algn="l" pos="254160"/>
                <a:tab algn="l" pos="380880"/>
                <a:tab algn="l" pos="507960"/>
                <a:tab algn="l" pos="635040"/>
                <a:tab algn="l" pos="762120"/>
                <a:tab algn="l" pos="888840"/>
                <a:tab algn="l" pos="1015920"/>
                <a:tab algn="l" pos="1143000"/>
                <a:tab algn="l" pos="1270080"/>
                <a:tab algn="l" pos="1397160"/>
                <a:tab algn="l" pos="1523880"/>
                <a:tab algn="l" pos="1650960"/>
                <a:tab algn="l" pos="1778040"/>
                <a:tab algn="l" pos="1905120"/>
                <a:tab algn="l" pos="2031840"/>
                <a:tab algn="l" pos="2158920"/>
                <a:tab algn="l" pos="2286000"/>
                <a:tab algn="l" pos="2413080"/>
                <a:tab algn="l" pos="2540160"/>
                <a:tab algn="l" pos="266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ive a united face to the scientific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96920"/>
                <a:tab algn="l" pos="254160"/>
                <a:tab algn="l" pos="380880"/>
                <a:tab algn="l" pos="507960"/>
                <a:tab algn="l" pos="635040"/>
                <a:tab algn="l" pos="762120"/>
                <a:tab algn="l" pos="888840"/>
                <a:tab algn="l" pos="1015920"/>
                <a:tab algn="l" pos="1143000"/>
                <a:tab algn="l" pos="1270080"/>
                <a:tab algn="l" pos="1397160"/>
                <a:tab algn="l" pos="1523880"/>
                <a:tab algn="l" pos="1650960"/>
                <a:tab algn="l" pos="1778040"/>
                <a:tab algn="l" pos="1905120"/>
                <a:tab algn="l" pos="2031840"/>
                <a:tab algn="l" pos="2158920"/>
                <a:tab algn="l" pos="2286000"/>
                <a:tab algn="l" pos="2413080"/>
                <a:tab algn="l" pos="2540160"/>
                <a:tab algn="l" pos="2666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96920"/>
                <a:tab algn="l" pos="254160"/>
                <a:tab algn="l" pos="380880"/>
                <a:tab algn="l" pos="507960"/>
                <a:tab algn="l" pos="635040"/>
                <a:tab algn="l" pos="762120"/>
                <a:tab algn="l" pos="888840"/>
                <a:tab algn="l" pos="1015920"/>
                <a:tab algn="l" pos="1143000"/>
                <a:tab algn="l" pos="1270080"/>
                <a:tab algn="l" pos="1397160"/>
                <a:tab algn="l" pos="1523880"/>
                <a:tab algn="l" pos="1650960"/>
                <a:tab algn="l" pos="1778040"/>
                <a:tab algn="l" pos="1905120"/>
                <a:tab algn="l" pos="2031840"/>
                <a:tab algn="l" pos="2158920"/>
                <a:tab algn="l" pos="2286000"/>
                <a:tab algn="l" pos="2413080"/>
                <a:tab algn="l" pos="2540160"/>
                <a:tab algn="l" pos="266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 constitute the Facul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96920"/>
                <a:tab algn="l" pos="254160"/>
                <a:tab algn="l" pos="380880"/>
                <a:tab algn="l" pos="507960"/>
                <a:tab algn="l" pos="635040"/>
                <a:tab algn="l" pos="762120"/>
                <a:tab algn="l" pos="888840"/>
                <a:tab algn="l" pos="1015920"/>
                <a:tab algn="l" pos="1143000"/>
                <a:tab algn="l" pos="1270080"/>
                <a:tab algn="l" pos="1397160"/>
                <a:tab algn="l" pos="1523880"/>
                <a:tab algn="l" pos="1650960"/>
                <a:tab algn="l" pos="1778040"/>
                <a:tab algn="l" pos="1905120"/>
                <a:tab algn="l" pos="2031840"/>
                <a:tab algn="l" pos="2158920"/>
                <a:tab algn="l" pos="2286000"/>
                <a:tab algn="l" pos="2413080"/>
                <a:tab algn="l" pos="2540160"/>
                <a:tab algn="l" pos="266688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96920"/>
                <a:tab algn="l" pos="254160"/>
                <a:tab algn="l" pos="380880"/>
                <a:tab algn="l" pos="507960"/>
                <a:tab algn="l" pos="635040"/>
                <a:tab algn="l" pos="762120"/>
                <a:tab algn="l" pos="888840"/>
                <a:tab algn="l" pos="1015920"/>
                <a:tab algn="l" pos="1143000"/>
                <a:tab algn="l" pos="1270080"/>
                <a:tab algn="l" pos="1397160"/>
                <a:tab algn="l" pos="1523880"/>
                <a:tab algn="l" pos="1650960"/>
                <a:tab algn="l" pos="1778040"/>
                <a:tab algn="l" pos="1905120"/>
                <a:tab algn="l" pos="2031840"/>
                <a:tab algn="l" pos="2158920"/>
                <a:tab algn="l" pos="2286000"/>
                <a:tab algn="l" pos="2413080"/>
                <a:tab algn="l" pos="2540160"/>
                <a:tab algn="l" pos="266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ctive (i.e. publishing papers) research scientists a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96920"/>
                <a:tab algn="l" pos="254160"/>
                <a:tab algn="l" pos="380880"/>
                <a:tab algn="l" pos="507960"/>
                <a:tab algn="l" pos="635040"/>
                <a:tab algn="l" pos="762120"/>
                <a:tab algn="l" pos="888840"/>
                <a:tab algn="l" pos="1015920"/>
                <a:tab algn="l" pos="1143000"/>
                <a:tab algn="l" pos="1270080"/>
                <a:tab algn="l" pos="1397160"/>
                <a:tab algn="l" pos="1523880"/>
                <a:tab algn="l" pos="1650960"/>
                <a:tab algn="l" pos="1778040"/>
                <a:tab algn="l" pos="1905120"/>
                <a:tab algn="l" pos="2031840"/>
                <a:tab algn="l" pos="2158920"/>
                <a:tab algn="l" pos="2286000"/>
                <a:tab algn="l" pos="2413080"/>
                <a:tab algn="l" pos="2540160"/>
                <a:tab algn="l" pos="266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EC/ESAC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A staff, RFs, Science Contractors and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96920"/>
                <a:tab algn="l" pos="254160"/>
                <a:tab algn="l" pos="380880"/>
                <a:tab algn="l" pos="507960"/>
                <a:tab algn="l" pos="635040"/>
                <a:tab algn="l" pos="762120"/>
                <a:tab algn="l" pos="888840"/>
                <a:tab algn="l" pos="1015920"/>
                <a:tab algn="l" pos="1143000"/>
                <a:tab algn="l" pos="1270080"/>
                <a:tab algn="l" pos="1397160"/>
                <a:tab algn="l" pos="1523880"/>
                <a:tab algn="l" pos="1650960"/>
                <a:tab algn="l" pos="1778040"/>
                <a:tab algn="l" pos="1905120"/>
                <a:tab algn="l" pos="2031840"/>
                <a:tab algn="l" pos="2158920"/>
                <a:tab algn="l" pos="2286000"/>
                <a:tab algn="l" pos="2413080"/>
                <a:tab algn="l" pos="2540160"/>
                <a:tab algn="l" pos="266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ESAC, LAEF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471840" y="694224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7027920"/>
            <a:ext cx="211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3977667B-2312-4279-8DFB-7F9F283886F7}" type="datetime"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7/30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19240" y="1938240"/>
            <a:ext cx="7535880" cy="42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324000"/>
                <a:tab algn="l" pos="635040"/>
                <a:tab algn="l" pos="84600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STER RESEARCH, SERVING TO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233280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635040"/>
                <a:tab algn="l" pos="84600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maintain expertise, familiarity with 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33280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635040"/>
                <a:tab algn="l" pos="84600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foster empathy with target commun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33280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635040"/>
                <a:tab algn="l" pos="84600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maintain competence to represent commun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33280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635040"/>
                <a:tab algn="l" pos="84600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maintain peer respect from commun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324000"/>
                <a:tab algn="l" pos="635040"/>
                <a:tab algn="l" pos="84600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4320" y="33480"/>
            <a:ext cx="78166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6840" tIns="50760" bIns="50760" anchor="ctr">
            <a:noAutofit/>
          </a:bodyPr>
          <a:p>
            <a:pPr marL="44280" indent="-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Arial"/>
                <a:ea typeface="ヒラギノ角ゴ Pro W6"/>
              </a:rPr>
              <a:t>ACTIVITIES &amp; ROLES of the FACUL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471840" y="694224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7027920"/>
            <a:ext cx="211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1E68B38B-6C5A-482E-8582-3BC480571F4E}" type="datetime"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7/30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7240" y="1309680"/>
            <a:ext cx="9217080" cy="55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Times"/>
              <a:buChar char="•"/>
              <a:tabLst>
                <a:tab algn="l" pos="324000"/>
                <a:tab algn="l" pos="635040"/>
                <a:tab algn="l" pos="984240"/>
                <a:tab algn="l" pos="1077840"/>
                <a:tab algn="l" pos="1481040"/>
                <a:tab algn="l" pos="1693800"/>
                <a:tab algn="l" pos="2017800"/>
                <a:tab algn="l" pos="2387520"/>
                <a:tab algn="l" pos="2863800"/>
                <a:tab algn="l" pos="3286080"/>
                <a:tab algn="l" pos="37879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dminister the scientific Visitor Programm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Times"/>
              <a:buChar char="•"/>
              <a:tabLst>
                <a:tab algn="l" pos="324000"/>
                <a:tab algn="l" pos="635040"/>
                <a:tab algn="l" pos="984240"/>
                <a:tab algn="l" pos="1077840"/>
                <a:tab algn="l" pos="1481040"/>
                <a:tab algn="l" pos="1693800"/>
                <a:tab algn="l" pos="2017800"/>
                <a:tab algn="l" pos="2387520"/>
                <a:tab algn="l" pos="2863800"/>
                <a:tab algn="l" pos="3286080"/>
                <a:tab algn="l" pos="37879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upport the RF coordinator in the RF recruitment campaign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Times"/>
              <a:buChar char="•"/>
              <a:tabLst>
                <a:tab algn="l" pos="324000"/>
                <a:tab algn="l" pos="635040"/>
                <a:tab algn="l" pos="984240"/>
                <a:tab algn="l" pos="1077840"/>
                <a:tab algn="l" pos="1481040"/>
                <a:tab algn="l" pos="1693800"/>
                <a:tab algn="l" pos="2017800"/>
                <a:tab algn="l" pos="2387520"/>
                <a:tab algn="l" pos="2863800"/>
                <a:tab algn="l" pos="3286080"/>
                <a:tab algn="l" pos="37879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rganise Jamborees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Times"/>
              <a:buChar char="•"/>
              <a:tabLst>
                <a:tab algn="l" pos="324000"/>
                <a:tab algn="l" pos="635040"/>
                <a:tab algn="l" pos="984240"/>
                <a:tab algn="l" pos="1077840"/>
                <a:tab algn="l" pos="1481040"/>
                <a:tab algn="l" pos="1693800"/>
                <a:tab algn="l" pos="2017800"/>
                <a:tab algn="l" pos="2387520"/>
                <a:tab algn="l" pos="2863800"/>
                <a:tab algn="l" pos="3286080"/>
                <a:tab algn="l" pos="37879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minar Programm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Times"/>
              <a:buChar char="•"/>
              <a:tabLst>
                <a:tab algn="l" pos="324000"/>
                <a:tab algn="l" pos="635040"/>
                <a:tab algn="l" pos="984240"/>
                <a:tab algn="l" pos="1077840"/>
                <a:tab algn="l" pos="1481040"/>
                <a:tab algn="l" pos="1693800"/>
                <a:tab algn="l" pos="2017800"/>
                <a:tab algn="l" pos="2387520"/>
                <a:tab algn="l" pos="2863800"/>
                <a:tab algn="l" pos="3286080"/>
                <a:tab algn="l" pos="37879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rganise Conferences and Workshop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Times"/>
              <a:buChar char="•"/>
              <a:tabLst>
                <a:tab algn="l" pos="324000"/>
                <a:tab algn="l" pos="635040"/>
                <a:tab algn="l" pos="984240"/>
                <a:tab algn="l" pos="1077840"/>
                <a:tab algn="l" pos="1481040"/>
                <a:tab algn="l" pos="1693800"/>
                <a:tab algn="l" pos="2017800"/>
                <a:tab algn="l" pos="2387520"/>
                <a:tab algn="l" pos="2863800"/>
                <a:tab algn="l" pos="3286080"/>
                <a:tab algn="l" pos="37879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rganise Faculty Assemblie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Times"/>
              <a:buChar char="•"/>
              <a:tabLst>
                <a:tab algn="l" pos="324000"/>
                <a:tab algn="l" pos="635040"/>
                <a:tab algn="l" pos="984240"/>
                <a:tab algn="l" pos="1077840"/>
                <a:tab algn="l" pos="1481040"/>
                <a:tab algn="l" pos="1693800"/>
                <a:tab algn="l" pos="2017800"/>
                <a:tab algn="l" pos="2387520"/>
                <a:tab algn="l" pos="2863800"/>
                <a:tab algn="l" pos="3286080"/>
                <a:tab algn="l" pos="37879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General purpose advisory role vis-a-vis management &amp; Scienc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Times"/>
              <a:buChar char="•"/>
              <a:tabLst>
                <a:tab algn="l" pos="324000"/>
                <a:tab algn="l" pos="635040"/>
                <a:tab algn="l" pos="984240"/>
                <a:tab algn="l" pos="1077840"/>
                <a:tab algn="l" pos="1481040"/>
                <a:tab algn="l" pos="1693800"/>
                <a:tab algn="l" pos="2017800"/>
                <a:tab algn="l" pos="2387520"/>
                <a:tab algn="l" pos="2863800"/>
                <a:tab algn="l" pos="3286080"/>
                <a:tab algn="l" pos="37879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upport Annual inter-Departmental Science Gathering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Times"/>
              <a:buChar char="•"/>
              <a:tabLst>
                <a:tab algn="l" pos="324000"/>
                <a:tab algn="l" pos="635040"/>
                <a:tab algn="l" pos="984240"/>
                <a:tab algn="l" pos="1077840"/>
                <a:tab algn="l" pos="1481040"/>
                <a:tab algn="l" pos="1693800"/>
                <a:tab algn="l" pos="2017800"/>
                <a:tab algn="l" pos="2387520"/>
                <a:tab algn="l" pos="2863800"/>
                <a:tab algn="l" pos="3286080"/>
                <a:tab algn="l" pos="37879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upport biennial Wise People Committee Review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4320" y="33480"/>
            <a:ext cx="78166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6840" tIns="50760" bIns="50760" anchor="ctr">
            <a:noAutofit/>
          </a:bodyPr>
          <a:p>
            <a:pPr marL="44280" indent="-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Arial"/>
                <a:ea typeface="ヒラギノ角ゴ Pro W6"/>
              </a:rPr>
              <a:t>ACTIVITIES &amp; ROLES of the FACUL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255600" y="-6480"/>
            <a:ext cx="70232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42560" tIns="50760" bIns="50760" anchor="ctr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ヒラギノ角ゴ Pro W6"/>
              </a:rPr>
              <a:t>Two Branches - Joint Activit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84320" y="1447560"/>
            <a:ext cx="9975600" cy="1066680"/>
          </a:xfrm>
          <a:prstGeom prst="rect">
            <a:avLst/>
          </a:prstGeom>
          <a:noFill/>
          <a:ln w="0">
            <a:noFill/>
          </a:ln>
        </p:spPr>
        <p:txBody>
          <a:bodyPr lIns="50760" rIns="45720" tIns="50760" bIns="50760" anchor="t">
            <a:normAutofit/>
          </a:bodyPr>
          <a:p>
            <a:pPr lvl="1" marL="17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articular, the two branches of the Faculty have worked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implement the following activiti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0" y="304920"/>
            <a:ext cx="101854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4200" y="2733840"/>
            <a:ext cx="875880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year RF extens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valuate RF applications (100 last year, 25 Faculty reviewer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partmental Research Proposals scientific evalua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0" y="304920"/>
            <a:ext cx="101854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1600" y="1446120"/>
            <a:ext cx="9217080" cy="36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363600" indent="-270000"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year Research Fellow exten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270000"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270000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view by 5 person board of ESAC &amp; ESTEC Faculty membe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270000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imary criteria for review is scientific merit and retur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270000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commendation of board sent to Divisional management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270000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nagement have awarded 8 3rd year extensions so fa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270000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ll move towards a yearly call, in line with new RF intak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1"/>
          <p:cNvSpPr/>
          <p:nvPr/>
        </p:nvSpPr>
        <p:spPr>
          <a:xfrm>
            <a:off x="255600" y="-6480"/>
            <a:ext cx="70232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42560" tIns="50760" bIns="50760" anchor="ctr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ヒラギノ角ゴ Pro W6"/>
              </a:rPr>
              <a:t>Two Branches - Joint Activit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000" y="280800"/>
            <a:ext cx="7023240" cy="718920"/>
          </a:xfrm>
          <a:prstGeom prst="rect">
            <a:avLst/>
          </a:prstGeom>
          <a:noFill/>
          <a:ln w="0">
            <a:noFill/>
          </a:ln>
        </p:spPr>
        <p:txBody>
          <a:bodyPr lIns="50760" rIns="14256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Joint Activities - RF Recruitment</a:t>
            </a: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3480" y="1072800"/>
            <a:ext cx="10159920" cy="5329080"/>
          </a:xfrm>
          <a:prstGeom prst="rect">
            <a:avLst/>
          </a:prstGeom>
          <a:solidFill>
            <a:srgbClr val="fdffc7"/>
          </a:solidFill>
          <a:ln w="0">
            <a:noFill/>
          </a:ln>
        </p:spPr>
        <p:txBody>
          <a:bodyPr lIns="50760" rIns="45720" tIns="50760" bIns="50760" anchor="t">
            <a:normAutofit fontScale="93000"/>
          </a:bodyPr>
          <a:p>
            <a:pPr marL="1476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rtising, science evaluation and inter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3720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e effort from Guido (RF coordinator) to implement new schem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3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arly call, fixed deadlines, transparen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3720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result: 84 complete applications received la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3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RFs accepted (+ 1 international traine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3720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ulty, management and HR working in harm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3720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still room for improvement - e.g. re. time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3720" indent="0">
              <a:spcBef>
                <a:spcPts val="499"/>
              </a:spcBef>
              <a:buNone/>
              <a:tabLst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76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ca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3720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adline for applications 15 October 20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3720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mboree + interview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-4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ember at ESTE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3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9-10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ember at ESA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3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pending on candidates geographical prefere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0" y="304920"/>
            <a:ext cx="1018548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09:24:36Z</dcterms:created>
  <dc:creator/>
  <dc:description/>
  <cp:keywords/>
  <dc:language>en-US</dc:language>
  <cp:lastModifiedBy>lmetcalf</cp:lastModifiedBy>
  <dcterms:modified xsi:type="dcterms:W3CDTF">2008-08-26T12:34:49Z</dcterms:modified>
  <cp:revision>36</cp:revision>
  <dc:subject/>
  <dc:title>RSSD Faculty</dc:title>
</cp:coreProperties>
</file>