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09480" y="533520"/>
            <a:ext cx="7848720" cy="129528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50880" y="838080"/>
            <a:ext cx="77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ing stars grow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19320" y="5181480"/>
            <a:ext cx="6705360" cy="152424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5680" y="5345280"/>
            <a:ext cx="661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o De March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A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o Panag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ScI, INAF-CT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rtino Romaniell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ovanna Giardi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A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na Sab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TS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rates in the H-R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52680" y="1066680"/>
            <a:ext cx="6019560" cy="5562720"/>
            <a:chOff x="1552680" y="1066680"/>
            <a:chExt cx="6019560" cy="5562720"/>
          </a:xfrm>
        </p:grpSpPr>
        <p:sp>
          <p:nvSpPr>
            <p:cNvPr id="153" name=""/>
            <p:cNvSpPr/>
            <p:nvPr/>
          </p:nvSpPr>
          <p:spPr>
            <a:xfrm>
              <a:off x="1552680" y="1066680"/>
              <a:ext cx="6019560" cy="556272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46480" y="175248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N 1987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3160" y="205740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GC 34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920000">
              <a:off x="4603680" y="4947840"/>
              <a:ext cx="2406600" cy="608040"/>
            </a:xfrm>
            <a:prstGeom prst="leftArrow">
              <a:avLst>
                <a:gd name="adj1" fmla="val 50000"/>
                <a:gd name="adj2" fmla="val 98949"/>
              </a:avLst>
            </a:prstGeom>
            <a:solidFill>
              <a:srgbClr val="ffff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6120" y="1370160"/>
            <a:ext cx="6021360" cy="5160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14600" y="3048120"/>
            <a:ext cx="2247840" cy="2724120"/>
          </a:xfrm>
          <a:custGeom>
            <a:avLst/>
            <a:gdLst/>
            <a:ahLst/>
            <a:rect l="l" t="t" r="r" b="b"/>
            <a:pathLst>
              <a:path w="1416" h="1716">
                <a:moveTo>
                  <a:pt x="0" y="0"/>
                </a:moveTo>
                <a:lnTo>
                  <a:pt x="288" y="288"/>
                </a:lnTo>
                <a:lnTo>
                  <a:pt x="452" y="444"/>
                </a:lnTo>
                <a:lnTo>
                  <a:pt x="1112" y="1352"/>
                </a:lnTo>
                <a:lnTo>
                  <a:pt x="1416" y="1716"/>
                </a:lnTo>
                <a:lnTo>
                  <a:pt x="1068" y="1288"/>
                </a:lnTo>
                <a:lnTo>
                  <a:pt x="592" y="632"/>
                </a:lnTo>
                <a:lnTo>
                  <a:pt x="428" y="42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88920">
            <a:solidFill>
              <a:srgbClr val="008000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85920" y="1066680"/>
            <a:ext cx="6286320" cy="5562720"/>
            <a:chOff x="1285920" y="1066680"/>
            <a:chExt cx="6286320" cy="5562720"/>
          </a:xfrm>
        </p:grpSpPr>
        <p:sp>
          <p:nvSpPr>
            <p:cNvPr id="162" name=""/>
            <p:cNvSpPr/>
            <p:nvPr/>
          </p:nvSpPr>
          <p:spPr>
            <a:xfrm>
              <a:off x="1552680" y="1066680"/>
              <a:ext cx="6019560" cy="556272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285920" y="1247760"/>
              <a:ext cx="6176880" cy="530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343400" y="2895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tmann et al 19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191120" y="3124080"/>
              <a:ext cx="838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 in M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505944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tmann et al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505320" y="4266720"/>
            <a:ext cx="6858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95280" y="1066680"/>
            <a:ext cx="6276960" cy="5562720"/>
            <a:chOff x="1295280" y="1066680"/>
            <a:chExt cx="6276960" cy="5562720"/>
          </a:xfrm>
        </p:grpSpPr>
        <p:sp>
          <p:nvSpPr>
            <p:cNvPr id="171" name=""/>
            <p:cNvSpPr/>
            <p:nvPr/>
          </p:nvSpPr>
          <p:spPr>
            <a:xfrm>
              <a:off x="1552680" y="1066680"/>
              <a:ext cx="6019560" cy="556272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295280" y="1249200"/>
              <a:ext cx="617220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891040" y="16765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N 1987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7720" y="19810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GC 34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3657600" y="4419720"/>
            <a:ext cx="685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521172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tmann et al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 in M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2680" y="1066680"/>
            <a:ext cx="6019560" cy="556272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3962520"/>
            <a:ext cx="1143000" cy="99036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95280" y="1247760"/>
            <a:ext cx="6172200" cy="5303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81280" y="2895480"/>
            <a:ext cx="1905120" cy="198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 in M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2680" y="1066680"/>
            <a:ext cx="6019560" cy="556272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895480"/>
            <a:ext cx="1905120" cy="198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962520"/>
            <a:ext cx="1143000" cy="99036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1247760"/>
            <a:ext cx="6172200" cy="5310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76920" y="3424320"/>
            <a:ext cx="2133360" cy="1676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 in M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2680" y="1066680"/>
            <a:ext cx="6019560" cy="556272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2895480"/>
            <a:ext cx="1905120" cy="198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3424320"/>
            <a:ext cx="2133360" cy="1676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962520"/>
            <a:ext cx="1143000" cy="99036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1247760"/>
            <a:ext cx="6172200" cy="5302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419720" y="3276720"/>
            <a:ext cx="2286000" cy="1523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066680" y="228600"/>
            <a:ext cx="7010640" cy="679320"/>
            <a:chOff x="1066680" y="228600"/>
            <a:chExt cx="7010640" cy="679320"/>
          </a:xfrm>
        </p:grpSpPr>
        <p:sp>
          <p:nvSpPr>
            <p:cNvPr id="199" name=""/>
            <p:cNvSpPr/>
            <p:nvPr/>
          </p:nvSpPr>
          <p:spPr>
            <a:xfrm>
              <a:off x="1066680" y="228600"/>
              <a:ext cx="7010640" cy="67932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04840" y="304920"/>
              <a:ext cx="69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clus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0880" y="1676520"/>
            <a:ext cx="8382240" cy="40384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040" y="2362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talising evidence that rate of star growth differs between Milky Wa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nd Magellanic 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9040" y="33512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retion process more efficient in the Clouds. Is metallicity the caus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More planets to be expected? Sample still too small, even though w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have increased it by a factor of 10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040" y="4572000"/>
            <a:ext cx="83059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-band V,I data for dozens of LMC/SMC/MW star formation reg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lready in HST archives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asy to add with WFC3 or ACS if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 in M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52680" y="1066680"/>
            <a:ext cx="6019560" cy="556272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95280" y="1249200"/>
            <a:ext cx="6172200" cy="5303880"/>
            <a:chOff x="1295280" y="1249200"/>
            <a:chExt cx="6172200" cy="5303880"/>
          </a:xfrm>
        </p:grpSpPr>
        <p:grpSp>
          <p:nvGrpSpPr>
            <p:cNvPr id="209" name=""/>
            <p:cNvGrpSpPr/>
            <p:nvPr/>
          </p:nvGrpSpPr>
          <p:grpSpPr>
            <a:xfrm>
              <a:off x="2362320" y="4083120"/>
              <a:ext cx="2819160" cy="1936800"/>
              <a:chOff x="2362320" y="4083120"/>
              <a:chExt cx="2819160" cy="1936800"/>
            </a:xfrm>
          </p:grpSpPr>
          <p:sp>
            <p:nvSpPr>
              <p:cNvPr id="210" name=""/>
              <p:cNvSpPr/>
              <p:nvPr/>
            </p:nvSpPr>
            <p:spPr>
              <a:xfrm>
                <a:off x="4267080" y="4648320"/>
                <a:ext cx="914400" cy="1371600"/>
              </a:xfrm>
              <a:prstGeom prst="ellipse">
                <a:avLst/>
              </a:prstGeom>
              <a:solidFill>
                <a:srgbClr val="cc99ff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62320" y="4083120"/>
                <a:ext cx="2438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ion Clust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bberto et al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81280" y="46483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1295280" y="1249200"/>
              <a:ext cx="617220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891040" y="16765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N 1987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67720" y="19810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GC 34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1219320"/>
            <a:ext cx="6934320" cy="548640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 Main Sequence: stellar child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886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84520" y="1295280"/>
            <a:ext cx="5682960" cy="5334120"/>
            <a:chOff x="1784520" y="1295280"/>
            <a:chExt cx="5682960" cy="5334120"/>
          </a:xfrm>
        </p:grpSpPr>
        <p:sp>
          <p:nvSpPr>
            <p:cNvPr id="48" name=""/>
            <p:cNvSpPr/>
            <p:nvPr/>
          </p:nvSpPr>
          <p:spPr>
            <a:xfrm>
              <a:off x="1784520" y="1295280"/>
              <a:ext cx="5562360" cy="533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rcRect l="6693" t="0" r="11811" b="7021"/>
            <a:stretch/>
          </p:blipFill>
          <p:spPr>
            <a:xfrm>
              <a:off x="2505240" y="1446120"/>
              <a:ext cx="41605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089080" y="1523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0</a:t>
              </a:r>
              <a:r>
                <a:rPr b="1" lang="en-US" sz="1400" spc="-1" strike="noStrike" baseline="30000">
                  <a:solidFill>
                    <a:srgbClr val="ffcc66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89080" y="2232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0</a:t>
              </a:r>
              <a:r>
                <a:rPr b="1" lang="en-US" sz="1400" spc="-1" strike="noStrike" baseline="30000">
                  <a:solidFill>
                    <a:srgbClr val="ffcc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89080" y="29732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0</a:t>
              </a:r>
              <a:r>
                <a:rPr b="1" lang="en-US" sz="1400" spc="-1" strike="noStrike" baseline="30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89080" y="3714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89080" y="4444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0</a:t>
              </a:r>
              <a:r>
                <a:rPr b="1" lang="en-US" sz="1400" spc="-1" strike="noStrike" baseline="30000">
                  <a:solidFill>
                    <a:srgbClr val="ffcc66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89080" y="5175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0</a:t>
              </a:r>
              <a:r>
                <a:rPr b="1" lang="en-US" sz="1400" spc="-1" strike="noStrike" baseline="30000">
                  <a:solidFill>
                    <a:srgbClr val="ffcc66"/>
                  </a:solidFill>
                  <a:latin typeface="Arial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82120" y="3259440"/>
              <a:ext cx="27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Arial"/>
                </a:rPr>
                <a:t>Luminosity (solar unit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51200" y="59436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3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9120" y="59436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1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60880" y="59436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6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75280" y="59436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3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3360" y="6248520"/>
              <a:ext cx="182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Arial"/>
                </a:rPr>
                <a:t>Temperature (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85120" y="19810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15 </a:t>
              </a: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M</a:t>
              </a:r>
              <a:r>
                <a:rPr b="1" lang="en-US" sz="1400" spc="-1" strike="noStrike" baseline="-25000">
                  <a:solidFill>
                    <a:srgbClr val="ffcc66"/>
                  </a:solidFill>
                  <a:latin typeface="Wingdings"/>
                  <a:ea typeface="Wingdings"/>
                </a:rPr>
                <a:t>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240660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9 </a:t>
              </a: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M</a:t>
              </a:r>
              <a:r>
                <a:rPr b="1" lang="en-US" sz="1400" spc="-1" strike="noStrike" baseline="-25000">
                  <a:solidFill>
                    <a:srgbClr val="ffcc66"/>
                  </a:solidFill>
                  <a:latin typeface="Wingdings"/>
                  <a:ea typeface="Wingdings"/>
                </a:rPr>
                <a:t>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8240" y="281952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3 </a:t>
              </a: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M</a:t>
              </a:r>
              <a:r>
                <a:rPr b="1" lang="en-US" sz="1400" spc="-1" strike="noStrike" baseline="-25000">
                  <a:solidFill>
                    <a:srgbClr val="ffcc66"/>
                  </a:solidFill>
                  <a:latin typeface="Wingdings"/>
                  <a:ea typeface="Wingdings"/>
                </a:rPr>
                <a:t>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7080" y="3124080"/>
              <a:ext cx="838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M</a:t>
              </a:r>
              <a:r>
                <a:rPr b="1" lang="en-US" sz="1400" spc="-1" strike="noStrike" baseline="-25000">
                  <a:solidFill>
                    <a:srgbClr val="ffcc66"/>
                  </a:solidFill>
                  <a:latin typeface="Wingdings"/>
                  <a:ea typeface="Wingdings"/>
                </a:rPr>
                <a:t>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85120" y="342900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0.5 </a:t>
              </a:r>
              <a:r>
                <a:rPr b="0" lang="en-US" sz="1400" spc="-1" strike="noStrike">
                  <a:solidFill>
                    <a:srgbClr val="ffcc66"/>
                  </a:solidFill>
                  <a:latin typeface="Arial"/>
                </a:rPr>
                <a:t>M</a:t>
              </a:r>
              <a:r>
                <a:rPr b="1" lang="en-US" sz="1400" spc="-1" strike="noStrike" baseline="-25000">
                  <a:solidFill>
                    <a:srgbClr val="ffcc66"/>
                  </a:solidFill>
                  <a:latin typeface="Wingdings"/>
                  <a:ea typeface="Wingdings"/>
                </a:rPr>
                <a:t>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3962520"/>
              <a:ext cx="5335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2520000">
            <a:off x="2414160" y="3052440"/>
            <a:ext cx="4748400" cy="833400"/>
          </a:xfrm>
          <a:prstGeom prst="ellipse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600000">
            <a:off x="4615920" y="2747880"/>
            <a:ext cx="2441520" cy="11271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etospheric ac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52680" y="1295280"/>
            <a:ext cx="6019560" cy="5105520"/>
            <a:chOff x="1552680" y="1295280"/>
            <a:chExt cx="6019560" cy="5105520"/>
          </a:xfrm>
        </p:grpSpPr>
        <p:sp>
          <p:nvSpPr>
            <p:cNvPr id="73" name=""/>
            <p:cNvSpPr/>
            <p:nvPr/>
          </p:nvSpPr>
          <p:spPr>
            <a:xfrm>
              <a:off x="1552680" y="1295280"/>
              <a:ext cx="6019560" cy="510552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085840" y="2001960"/>
              <a:ext cx="4953240" cy="37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etospheric ac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676520"/>
            <a:ext cx="8382240" cy="47242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040" y="2057400"/>
            <a:ext cx="830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V and optical continuum excess, from whi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ac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deri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2725560"/>
            <a:ext cx="830592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emission lines in infalling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review by Calvet et al. 2000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 (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ac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=   Log (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+ (1.72 ± 0.47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 (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ac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=  (1.03 ± 0.16)  Log (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Pa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+ (2.8 ± 0.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 (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ac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=  (1.20 ± 0.21)  Log (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Br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+ (4.16 ± 0.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040" y="4224240"/>
            <a:ext cx="83059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magnetospheric accretion mode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Muzerolle et al. 1998; 200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detailed analysi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mission line profile provi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a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040" y="5226120"/>
            <a:ext cx="83059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ethods require spectroscopy, very laborious, hence only ~100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objects currently have measur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mass accre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52680" y="1066680"/>
            <a:ext cx="6019560" cy="5562720"/>
            <a:chOff x="1552680" y="1066680"/>
            <a:chExt cx="6019560" cy="5562720"/>
          </a:xfrm>
        </p:grpSpPr>
        <p:grpSp>
          <p:nvGrpSpPr>
            <p:cNvPr id="83" name=""/>
            <p:cNvGrpSpPr/>
            <p:nvPr/>
          </p:nvGrpSpPr>
          <p:grpSpPr>
            <a:xfrm>
              <a:off x="1552680" y="1066680"/>
              <a:ext cx="6019560" cy="5562720"/>
              <a:chOff x="1552680" y="1066680"/>
              <a:chExt cx="6019560" cy="5562720"/>
            </a:xfrm>
          </p:grpSpPr>
          <p:sp>
            <p:nvSpPr>
              <p:cNvPr id="84" name=""/>
              <p:cNvSpPr/>
              <p:nvPr/>
            </p:nvSpPr>
            <p:spPr>
              <a:xfrm>
                <a:off x="1552680" y="1066680"/>
                <a:ext cx="6019560" cy="5562720"/>
              </a:xfrm>
              <a:prstGeom prst="roundRect">
                <a:avLst>
                  <a:gd name="adj" fmla="val 16667"/>
                </a:avLst>
              </a:prstGeom>
              <a:solidFill>
                <a:srgbClr val="99ccff">
                  <a:alpha val="9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200" y="1371600"/>
                <a:ext cx="5867280" cy="502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"/>
            <p:cNvSpPr/>
            <p:nvPr/>
          </p:nvSpPr>
          <p:spPr>
            <a:xfrm>
              <a:off x="2744640" y="198108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V continuum ex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428640" y="228600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419720" y="2590560"/>
            <a:ext cx="2047680" cy="1290240"/>
            <a:chOff x="4419720" y="2590560"/>
            <a:chExt cx="2047680" cy="1290240"/>
          </a:xfrm>
        </p:grpSpPr>
        <p:sp>
          <p:nvSpPr>
            <p:cNvPr id="89" name=""/>
            <p:cNvSpPr/>
            <p:nvPr/>
          </p:nvSpPr>
          <p:spPr>
            <a:xfrm>
              <a:off x="4419720" y="3543480"/>
              <a:ext cx="20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cess line e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10080" y="2590560"/>
              <a:ext cx="533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52680" y="1066680"/>
            <a:ext cx="6019560" cy="556272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retion evolution wit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1297080"/>
            <a:ext cx="6019560" cy="5159160"/>
            <a:chOff x="1447920" y="1297080"/>
            <a:chExt cx="6019560" cy="51591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447920" y="1297080"/>
              <a:ext cx="6019560" cy="51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778280" y="5397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tmann et al. 19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464080" y="45594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30492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about metal-poor st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76520"/>
            <a:ext cx="8382240" cy="47242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040" y="2133720"/>
            <a:ext cx="83059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tars in the Universe formed at redshift z~2, when metallicity w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lower, 1/3 - 1/10 solar, like in the nearby Magellanic Clouds, bu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troscopy of individual stars in MCs hampered by crowding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VLT/Flames programme currently ongoing, but efficienc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040" y="4035600"/>
            <a:ext cx="830592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imple method combines broad- (V, I) and narrow-band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photometry and allows us t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all objects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1" i="1" lang="en-US" sz="2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cess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rive their accretion luminosity and mass accre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hundreds of stars simultaneous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 Marchi, Panagia &amp; Romaniello 2008; De Marchi, Sabbi et al.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219320"/>
            <a:ext cx="7845480" cy="5486400"/>
          </a:xfrm>
          <a:prstGeom prst="roundRect">
            <a:avLst>
              <a:gd name="adj" fmla="val 16667"/>
            </a:avLst>
          </a:prstGeom>
          <a:solidFill>
            <a:srgbClr val="99cc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386240" cy="497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071960" y="1449360"/>
            <a:ext cx="4386240" cy="497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4840" y="304920"/>
            <a:ext cx="69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hot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880" y="1905120"/>
            <a:ext cx="1041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MC</a:t>
            </a:r>
            <a:br>
              <a:rPr sz="16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NGC 3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905120"/>
            <a:ext cx="1246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MC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SN 1987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3895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,300 K     5,000 K    3,50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53881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,300 K    5,000 K    3,50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43320" y="2300400"/>
            <a:ext cx="220680" cy="2217600"/>
            <a:chOff x="2443320" y="2300400"/>
            <a:chExt cx="220680" cy="2217600"/>
          </a:xfrm>
        </p:grpSpPr>
        <p:sp>
          <p:nvSpPr>
            <p:cNvPr id="113" name=""/>
            <p:cNvSpPr/>
            <p:nvPr/>
          </p:nvSpPr>
          <p:spPr>
            <a:xfrm>
              <a:off x="2443320" y="2300400"/>
              <a:ext cx="220680" cy="210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550600" y="2468520"/>
              <a:ext cx="3240" cy="204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59480" y="3267000"/>
            <a:ext cx="220680" cy="1249560"/>
            <a:chOff x="6459480" y="3267000"/>
            <a:chExt cx="220680" cy="1249560"/>
          </a:xfrm>
        </p:grpSpPr>
        <p:sp>
          <p:nvSpPr>
            <p:cNvPr id="116" name=""/>
            <p:cNvSpPr/>
            <p:nvPr/>
          </p:nvSpPr>
          <p:spPr>
            <a:xfrm>
              <a:off x="6459480" y="3267000"/>
              <a:ext cx="220680" cy="211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70720" y="3433680"/>
              <a:ext cx="0" cy="10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33920" y="1447920"/>
            <a:ext cx="2286000" cy="1600200"/>
            <a:chOff x="3733920" y="1447920"/>
            <a:chExt cx="2286000" cy="1600200"/>
          </a:xfrm>
        </p:grpSpPr>
        <p:sp>
          <p:nvSpPr>
            <p:cNvPr id="119" name=""/>
            <p:cNvSpPr/>
            <p:nvPr/>
          </p:nvSpPr>
          <p:spPr>
            <a:xfrm>
              <a:off x="3733920" y="1447920"/>
              <a:ext cx="2286000" cy="1600200"/>
            </a:xfrm>
            <a:prstGeom prst="wedgeEllipseCallout">
              <a:avLst>
                <a:gd name="adj1" fmla="val -99513"/>
                <a:gd name="adj2" fmla="val 78870"/>
              </a:avLst>
            </a:pr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1447920"/>
              <a:ext cx="2286000" cy="1600200"/>
            </a:xfrm>
            <a:prstGeom prst="wedgeEllipseCallout">
              <a:avLst>
                <a:gd name="adj1" fmla="val 71736"/>
                <a:gd name="adj2" fmla="val 101291"/>
              </a:avLst>
            </a:prstGeom>
            <a:solidFill>
              <a:srgbClr val="ffcc0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57720" y="1914480"/>
              <a:ext cx="167652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2200" spc="-1" strike="noStrike" baseline="-1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e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047240" y="1467000"/>
            <a:ext cx="23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Romaniello et al.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3200" y="146700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Nota et al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4840" y="304920"/>
            <a:ext cx="69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H</a:t>
            </a:r>
            <a:r>
              <a:rPr b="1" i="1" lang="en-US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uminosity to accre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676520"/>
            <a:ext cx="8382240" cy="47242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343320"/>
            <a:ext cx="380880" cy="457200"/>
          </a:xfrm>
          <a:prstGeom prst="ellipse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44920" y="3333600"/>
            <a:ext cx="3832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676520"/>
            <a:ext cx="8382240" cy="47242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436840"/>
            <a:ext cx="3200400" cy="866880"/>
            <a:chOff x="990720" y="2436840"/>
            <a:chExt cx="3200400" cy="866880"/>
          </a:xfrm>
        </p:grpSpPr>
        <p:sp>
          <p:nvSpPr>
            <p:cNvPr id="131" name=""/>
            <p:cNvSpPr/>
            <p:nvPr/>
          </p:nvSpPr>
          <p:spPr>
            <a:xfrm flipH="1" flipV="1">
              <a:off x="3276720" y="2970360"/>
              <a:ext cx="914400" cy="33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2436840"/>
              <a:ext cx="25909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om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, T</a:t>
              </a:r>
              <a:r>
                <a:rPr b="1" i="1" lang="en-US" sz="2200" spc="-1" strike="noStrike" baseline="-9000">
                  <a:solidFill>
                    <a:srgbClr val="000000"/>
                  </a:solidFill>
                  <a:latin typeface="Arial"/>
                </a:rPr>
                <a:t>eff</a:t>
              </a:r>
              <a:r>
                <a:rPr b="1" lang="en-US" sz="2200" spc="-1" strike="noStrike" baseline="-9000">
                  <a:solidFill>
                    <a:srgbClr val="000000"/>
                  </a:solidFill>
                  <a:latin typeface="Arial"/>
                </a:rPr>
                <a:t> )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evolutionary tr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19720" y="4205160"/>
            <a:ext cx="3159000" cy="1116000"/>
            <a:chOff x="4419720" y="4205160"/>
            <a:chExt cx="3159000" cy="1116000"/>
          </a:xfrm>
        </p:grpSpPr>
        <p:sp>
          <p:nvSpPr>
            <p:cNvPr id="134" name=""/>
            <p:cNvSpPr/>
            <p:nvPr/>
          </p:nvSpPr>
          <p:spPr>
            <a:xfrm>
              <a:off x="4419720" y="4205160"/>
              <a:ext cx="1523520" cy="76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47640" y="4890960"/>
              <a:ext cx="15310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om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, T</a:t>
              </a:r>
              <a:r>
                <a:rPr b="1" i="1" lang="en-US" sz="2200" spc="-1" strike="noStrike" baseline="-9000">
                  <a:solidFill>
                    <a:srgbClr val="000000"/>
                  </a:solidFill>
                  <a:latin typeface="Arial"/>
                </a:rPr>
                <a:t>eff)</a:t>
              </a:r>
              <a:r>
                <a:rPr b="1" lang="en-US" sz="2200" spc="-1" strike="noStrike" baseline="-9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752480" y="3571920"/>
            <a:ext cx="2057400" cy="2182320"/>
            <a:chOff x="1752480" y="3571920"/>
            <a:chExt cx="2057400" cy="2182320"/>
          </a:xfrm>
        </p:grpSpPr>
        <p:sp>
          <p:nvSpPr>
            <p:cNvPr id="137" name=""/>
            <p:cNvSpPr/>
            <p:nvPr/>
          </p:nvSpPr>
          <p:spPr>
            <a:xfrm flipV="1">
              <a:off x="2819520" y="4022280"/>
              <a:ext cx="380880" cy="1219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2480" y="5318280"/>
              <a:ext cx="2057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2200" spc="-1" strike="noStrike" baseline="-11000">
                  <a:solidFill>
                    <a:srgbClr val="000000"/>
                  </a:solidFill>
                  <a:latin typeface="Arial"/>
                </a:rPr>
                <a:t>acc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~ 50 L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2200" spc="-1" strike="noStrike" baseline="-1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680" y="3571920"/>
              <a:ext cx="533160" cy="533520"/>
            </a:xfrm>
            <a:prstGeom prst="ellipse">
              <a:avLst/>
            </a:prstGeom>
            <a:solidFill>
              <a:srgbClr val="ffcc66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024440" y="3343320"/>
            <a:ext cx="442800" cy="457200"/>
          </a:xfrm>
          <a:prstGeom prst="ellipse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809880"/>
            <a:ext cx="443160" cy="457200"/>
          </a:xfrm>
          <a:prstGeom prst="ellipse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62720" y="2438280"/>
            <a:ext cx="2438280" cy="1981440"/>
            <a:chOff x="5562720" y="2438280"/>
            <a:chExt cx="2438280" cy="1981440"/>
          </a:xfrm>
        </p:grpSpPr>
        <p:sp>
          <p:nvSpPr>
            <p:cNvPr id="143" name=""/>
            <p:cNvSpPr/>
            <p:nvPr/>
          </p:nvSpPr>
          <p:spPr>
            <a:xfrm>
              <a:off x="5562720" y="3200400"/>
              <a:ext cx="762120" cy="1219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220080" y="2819160"/>
              <a:ext cx="714240" cy="56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200" y="24382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opted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~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624640" y="3809880"/>
            <a:ext cx="442800" cy="457200"/>
          </a:xfrm>
          <a:prstGeom prst="ellipse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10640" cy="67932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4840" y="304920"/>
            <a:ext cx="69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H</a:t>
            </a:r>
            <a:r>
              <a:rPr b="1" i="1" lang="en-US" sz="3200" spc="-1" strike="noStrike" baseline="-1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uminosity to accre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44920" y="3335400"/>
            <a:ext cx="38322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4:27:30Z</dcterms:created>
  <dc:creator>Guido De Marchi</dc:creator>
  <dc:description/>
  <dc:language>en-US</dc:language>
  <cp:lastModifiedBy>Guido De Marchi</cp:lastModifiedBy>
  <cp:lastPrinted>2008-01-07T00:18:28Z</cp:lastPrinted>
  <dcterms:modified xsi:type="dcterms:W3CDTF">2008-08-28T08:44:26Z</dcterms:modified>
  <cp:revision>235</cp:revision>
  <dc:subject/>
  <dc:title>PowerPoint Presentation</dc:title>
</cp:coreProperties>
</file>