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82636-6E27-40C6-8C94-F12162AFD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4B046-88AA-4044-9A7B-7B52472BF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39068-81F7-4431-B6C9-FA1167933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433E9-FC70-4E81-97FA-A6584F81E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497F5-EBE5-4DF2-ADD7-F3500D6F5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40838-15B8-48B2-8902-70251DC9B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8BC93-B5D6-4213-898B-6F91B1F36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99766-132E-437F-A5FB-75A6EB52D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C935E-8DA4-4553-B13E-F5BB49924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CDD8B-27D2-4C72-A95E-0CE3219CA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86EE1-9CEA-444C-A575-D8088620A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8DC4A-13EE-4E75-B198-1A1DD61A3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b1b5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89C6C-22B4-4E00-8E3D-DF49699FE6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b1b5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tudies of planetary upper atmosphere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19920" y="1981080"/>
            <a:ext cx="1752480" cy="1447920"/>
          </a:xfrm>
          <a:prstGeom prst="ellipse">
            <a:avLst/>
          </a:prstGeom>
          <a:solidFill>
            <a:srgbClr val="333399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Ear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9920" y="4495680"/>
            <a:ext cx="1752480" cy="1447920"/>
          </a:xfrm>
          <a:prstGeom prst="ellipse">
            <a:avLst/>
          </a:prstGeom>
          <a:solidFill>
            <a:srgbClr val="333399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la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ts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2" idx="4"/>
            <a:endCxn id="43" idx="0"/>
          </p:cNvCxnSpPr>
          <p:nvPr/>
        </p:nvCxnSpPr>
        <p:spPr>
          <a:xfrm>
            <a:off x="6896160" y="3429000"/>
            <a:ext cx="360" cy="1067040"/>
          </a:xfrm>
          <a:prstGeom prst="straightConnector1">
            <a:avLst/>
          </a:prstGeom>
          <a:ln w="255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5" name=""/>
          <p:cNvSpPr/>
          <p:nvPr/>
        </p:nvSpPr>
        <p:spPr>
          <a:xfrm>
            <a:off x="5257800" y="617220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enus      Mars       Titan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5943600" y="5791320"/>
            <a:ext cx="38088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858000" y="5943600"/>
            <a:ext cx="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467480" y="5791320"/>
            <a:ext cx="30492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57200" y="2324160"/>
            <a:ext cx="3809880" cy="33145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696080" y="5486400"/>
            <a:ext cx="381240" cy="76320"/>
          </a:xfrm>
          <a:prstGeom prst="line">
            <a:avLst/>
          </a:prstGeom>
          <a:ln w="9360">
            <a:solidFill>
              <a:srgbClr val="ffffff"/>
            </a:solidFill>
            <a:prstDash val="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081280" y="5486400"/>
            <a:ext cx="106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Euro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b1b5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6019920" y="838080"/>
            <a:ext cx="2286000" cy="1905120"/>
          </a:xfrm>
          <a:prstGeom prst="ellipse">
            <a:avLst/>
          </a:prstGeom>
          <a:solidFill>
            <a:srgbClr val="333399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de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3352680"/>
            <a:ext cx="2362320" cy="1828800"/>
          </a:xfrm>
          <a:prstGeom prst="ellipse">
            <a:avLst/>
          </a:prstGeom>
          <a:solidFill>
            <a:srgbClr val="333399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upport 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aylo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62120" y="914400"/>
            <a:ext cx="2286000" cy="1828800"/>
          </a:xfrm>
          <a:prstGeom prst="ellipse">
            <a:avLst/>
          </a:prstGeom>
          <a:solidFill>
            <a:srgbClr val="333399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ata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5" name=""/>
          <p:cNvCxnSpPr>
            <a:stCxn id="53" idx="1"/>
            <a:endCxn id="54" idx="5"/>
          </p:cNvCxnSpPr>
          <p:nvPr/>
        </p:nvCxnSpPr>
        <p:spPr>
          <a:xfrm flipH="1" flipV="1">
            <a:off x="2712600" y="2482560"/>
            <a:ext cx="1062720" cy="113112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6" name=""/>
          <p:cNvCxnSpPr>
            <a:stCxn id="53" idx="7"/>
            <a:endCxn id="52" idx="3"/>
          </p:cNvCxnSpPr>
          <p:nvPr/>
        </p:nvCxnSpPr>
        <p:spPr>
          <a:xfrm flipV="1">
            <a:off x="5444640" y="2471040"/>
            <a:ext cx="910440" cy="11422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7" name=""/>
          <p:cNvCxnSpPr>
            <a:stCxn id="54" idx="6"/>
            <a:endCxn id="52" idx="2"/>
          </p:cNvCxnSpPr>
          <p:nvPr/>
        </p:nvCxnSpPr>
        <p:spPr>
          <a:xfrm flipV="1">
            <a:off x="3055680" y="1790280"/>
            <a:ext cx="2956680" cy="388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3615120" y="181080"/>
            <a:ext cx="178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ppro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4191120"/>
            <a:ext cx="2286000" cy="1828800"/>
          </a:xfrm>
          <a:prstGeom prst="ellipse">
            <a:avLst/>
          </a:prstGeom>
          <a:solidFill>
            <a:srgbClr val="333399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elescop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b1b5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52280" y="0"/>
            <a:ext cx="1289160" cy="128916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600200" y="38088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Martian auro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152280" y="1906560"/>
            <a:ext cx="4035960" cy="3046320"/>
            <a:chOff x="152280" y="1906560"/>
            <a:chExt cx="4035960" cy="3046320"/>
          </a:xfrm>
        </p:grpSpPr>
        <p:pic>
          <p:nvPicPr>
            <p:cNvPr id="63" name="" descr=""/>
            <p:cNvPicPr/>
            <p:nvPr/>
          </p:nvPicPr>
          <p:blipFill>
            <a:blip r:embed="rId2"/>
            <a:srcRect l="0" t="0" r="15663" b="0"/>
            <a:stretch/>
          </p:blipFill>
          <p:spPr>
            <a:xfrm>
              <a:off x="152280" y="1906560"/>
              <a:ext cx="3840840" cy="304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>
              <a:off x="888120" y="2162520"/>
              <a:ext cx="11520" cy="1076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>
              <a:off x="1778040" y="3999960"/>
              <a:ext cx="1411560" cy="549360"/>
            </a:xfrm>
            <a:prstGeom prst="line">
              <a:avLst/>
            </a:prstGeom>
            <a:ln w="28440">
              <a:solidFill>
                <a:srgbClr val="b2b2b2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945160" y="3541320"/>
              <a:ext cx="342360" cy="35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120" rIns="51120" tIns="25560" bIns="2556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b2b2b2"/>
                  </a:solidFill>
                  <a:latin typeface="Arial"/>
                </a:rPr>
                <a:t>LO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299040" y="4053600"/>
              <a:ext cx="889200" cy="20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120" rIns="51120" tIns="25560" bIns="2556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b2b2b2"/>
                  </a:solidFill>
                  <a:latin typeface="Arial"/>
                </a:rPr>
                <a:t>SPICAM FOV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15400" y="3867120"/>
              <a:ext cx="594360" cy="35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1120" rIns="51120" tIns="25560" bIns="2556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b2b2b2"/>
                  </a:solidFill>
                  <a:latin typeface="Arial"/>
                </a:rPr>
                <a:t>Pericent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538280" y="4593600"/>
              <a:ext cx="273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ff0000"/>
                  </a:solidFill>
                  <a:latin typeface="Arial"/>
                </a:rPr>
                <a:t>MEX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23440" y="4253040"/>
              <a:ext cx="764280" cy="20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120" rIns="51120" tIns="25560" bIns="2556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ffff00"/>
                  </a:solidFill>
                  <a:latin typeface="Arial"/>
                </a:rPr>
                <a:t>Terminato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 flipV="1">
              <a:off x="267840" y="2808000"/>
              <a:ext cx="191880" cy="6660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62720" y="2593440"/>
              <a:ext cx="603000" cy="20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1120" rIns="51120" tIns="25560" bIns="2556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ffff00"/>
                  </a:solidFill>
                  <a:latin typeface="Arial"/>
                </a:rPr>
                <a:t>The Su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621880" y="2282400"/>
              <a:ext cx="303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ff0000"/>
                  </a:solidFill>
                  <a:latin typeface="Arial"/>
                </a:rPr>
                <a:t>Orbi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 flipV="1">
              <a:off x="2566440" y="2277000"/>
              <a:ext cx="24120" cy="860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 flipV="1">
              <a:off x="1554480" y="3693960"/>
              <a:ext cx="1410840" cy="549720"/>
            </a:xfrm>
            <a:prstGeom prst="line">
              <a:avLst/>
            </a:prstGeom>
            <a:ln w="28440">
              <a:solidFill>
                <a:srgbClr val="b2b2b2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 flipV="1">
              <a:off x="1395000" y="3382920"/>
              <a:ext cx="1411560" cy="549720"/>
            </a:xfrm>
            <a:prstGeom prst="line">
              <a:avLst/>
            </a:prstGeom>
            <a:ln w="28440">
              <a:solidFill>
                <a:srgbClr val="b2b2b2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flipV="1">
              <a:off x="1252800" y="3073320"/>
              <a:ext cx="1410480" cy="549360"/>
            </a:xfrm>
            <a:prstGeom prst="line">
              <a:avLst/>
            </a:prstGeom>
            <a:ln w="28440">
              <a:solidFill>
                <a:srgbClr val="b2b2b2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 flipV="1">
              <a:off x="1121040" y="2711880"/>
              <a:ext cx="1411560" cy="549720"/>
            </a:xfrm>
            <a:prstGeom prst="line">
              <a:avLst/>
            </a:prstGeom>
            <a:ln w="28440">
              <a:solidFill>
                <a:srgbClr val="b2b2b2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351080" y="3897720"/>
              <a:ext cx="76680" cy="7164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4375440" y="2443320"/>
            <a:ext cx="397260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mic Sans MS"/>
              </a:rPr>
              <a:t>Orbit 716, November 2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Comic Sans MS"/>
              </a:rPr>
              <a:t>Enhancement</a:t>
            </a:r>
            <a:r>
              <a:rPr b="0" lang="fr-FR" sz="2400" spc="-1" strike="noStrike">
                <a:solidFill>
                  <a:srgbClr val="ffffff"/>
                </a:solidFill>
                <a:latin typeface="Comic Sans MS"/>
              </a:rPr>
              <a:t> of sig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fr-FR" sz="2400" spc="-1" strike="noStrike">
                <a:solidFill>
                  <a:srgbClr val="ffffff"/>
                </a:solidFill>
                <a:latin typeface="Comic Sans MS"/>
              </a:rPr>
              <a:t>Duration 7 seco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260360" y="5743440"/>
            <a:ext cx="661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What did we identify this event as an auror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b1b5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52280" y="0"/>
            <a:ext cx="1289160" cy="128916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rcRect l="0" t="0" r="3750" b="47988"/>
          <a:stretch/>
        </p:blipFill>
        <p:spPr>
          <a:xfrm>
            <a:off x="380880" y="2590920"/>
            <a:ext cx="3962520" cy="241596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1600200" y="38088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Martian auro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595680" y="5791320"/>
            <a:ext cx="457200" cy="609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5029200" y="1905120"/>
            <a:ext cx="3686040" cy="343512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4299480" y="594360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Signal x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b1b5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52280" y="0"/>
            <a:ext cx="1289160" cy="128916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rcRect l="4049" t="3779" r="8369" b="5669"/>
          <a:stretch/>
        </p:blipFill>
        <p:spPr>
          <a:xfrm>
            <a:off x="1371600" y="1981080"/>
            <a:ext cx="6324480" cy="282276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600200" y="38088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Martian auro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09480" y="5715000"/>
            <a:ext cx="457200" cy="609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80960" y="5867280"/>
            <a:ext cx="645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The spectrum contains signature of dayside feat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b1b5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52280" y="0"/>
            <a:ext cx="1289160" cy="128916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1600200" y="38088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Martian auro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85800" y="5715000"/>
            <a:ext cx="457200" cy="609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4343400"/>
            <a:ext cx="457200" cy="609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rcRect l="0" t="0" r="2656" b="0"/>
          <a:stretch/>
        </p:blipFill>
        <p:spPr>
          <a:xfrm>
            <a:off x="1773360" y="1371600"/>
            <a:ext cx="5595840" cy="36655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477800" y="5867280"/>
            <a:ext cx="618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</a:rPr>
              <a:t>Area characterized by crustal magnetic anomal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b1b5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52280" y="0"/>
            <a:ext cx="1289160" cy="12891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1600200" y="38088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Martian auro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80880" y="6080040"/>
            <a:ext cx="457200" cy="6098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6080040"/>
            <a:ext cx="7010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Numerical simulations: low energy electrons are creating the emissions by impacting the atmosphe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33520" y="976320"/>
            <a:ext cx="7565760" cy="50436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3983400" y="1027080"/>
            <a:ext cx="35946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Aspera 3 - MEX Orbite 7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179960" y="1484280"/>
            <a:ext cx="36036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ELS - MGS - Magnetoshe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(Mitchell et al. 200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2795400" y="1289160"/>
            <a:ext cx="1261800" cy="3380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2574720" y="1743120"/>
            <a:ext cx="1672920" cy="2300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610240" y="2338560"/>
            <a:ext cx="3884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ELS - MGS électrons auroraux (Brain et al. 200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5297040" y="2629080"/>
            <a:ext cx="366840" cy="442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712160" y="4502160"/>
            <a:ext cx="2835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ELS - MGS - "Spike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(Mitchell et al. 200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2006640" y="3301920"/>
            <a:ext cx="958680" cy="1222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b1b5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Summary of my activ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83944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100000"/>
              </a:lnSpc>
              <a:spcBef>
                <a:spcPts val="476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Comic Sans MS"/>
              </a:rPr>
              <a:t>Earth: Early Earth habitability/atmosphere screening (with I. Cnossen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100000"/>
              </a:lnSpc>
              <a:spcBef>
                <a:spcPts val="476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Comic Sans MS"/>
              </a:rPr>
              <a:t>Mars: Ionosphere modeling, MEX UV data analysis (with C. Simon), preparation of the MEX radar ionosphere data analysis (with J. Bauer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100000"/>
              </a:lnSpc>
              <a:spcBef>
                <a:spcPts val="476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Comic Sans MS"/>
              </a:rPr>
              <a:t>Titan: Ionosphere modeling, winds derived from ground-based observations (with T. Civeit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100000"/>
              </a:lnSpc>
              <a:spcBef>
                <a:spcPts val="476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Comic Sans MS"/>
              </a:rPr>
              <a:t>Venus: Preparation of the VEX drag and aerobraking experiments (with M.L Rihon, G. Roux) ; ionosphere modelling (with M. Helou) ; winds derived from ground-based observations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100000"/>
              </a:lnSpc>
              <a:spcBef>
                <a:spcPts val="476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ffff"/>
                </a:solidFill>
                <a:latin typeface="Comic Sans MS"/>
              </a:rPr>
              <a:t>Europa: instrumental design and simulation of the environment (with F. Cipriani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olivier witasse</cp:lastModifiedBy>
  <dcterms:modified xsi:type="dcterms:W3CDTF">2008-08-27T12:09:2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