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149868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ctivity of UXORs in the Infrared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imo Prust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S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rcRect l="0" t="83998" r="2134" b="0"/>
          <a:stretch/>
        </p:blipFill>
        <p:spPr>
          <a:xfrm>
            <a:off x="557280" y="812880"/>
            <a:ext cx="12231720" cy="23083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341360" y="3397320"/>
            <a:ext cx="12179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ast 100 years in visible light (Gurtler et al 1999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Recent years amplitude has decreased to 1 ma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Rostopchina et al (2000) shows small amplitude colour changes compatible with redden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54080" y="298440"/>
            <a:ext cx="5278320" cy="91854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931000" y="2298600"/>
            <a:ext cx="64641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ithin error bars no convincing evidence of variabi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However, global tentative trends: 3.6 </a:t>
            </a:r>
            <a:r>
              <a:rPr b="0" lang="en-US" sz="4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μm anti-correlates with V; 25 μm is flat; 100 μm correlates with V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704880" y="1353960"/>
            <a:ext cx="7200720" cy="725976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8211960" y="380880"/>
            <a:ext cx="4584960" cy="89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bservations (dotted line)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t 3.6 </a:t>
            </a:r>
            <a:r>
              <a:rPr b="0" lang="en-US" sz="4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μm tentative anticorrelation (-0.55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t 100 μm correlation (0.88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isk model (dashed lin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 fit at 12 and 25 μ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30120" y="888840"/>
            <a:ext cx="8128080" cy="8191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8864640" y="3676680"/>
            <a:ext cx="41400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Disk+envelope model (dashed lin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Lucida Grande"/>
              </a:rPr>
              <a:t>No fit at 100 μ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o model fully compatible with SV Cep IR variabi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Quality of data does not warrant drastic refinement of mode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etter observational characterisation of IR variability necessar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uture Look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Lucida Grande"/>
              </a:rPr>
              <a:t>Herschel: &gt;60 μm possible from 2009 onwar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kari: “warm” observations possible in shorter wavelengths; waiting for AO resul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81920" indent="-5025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round: It is possible to device high quality monitoring programme and the difficulty is to get over the hurdle caused by a non-standard observing reques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-50760" y="-38160"/>
            <a:ext cx="13106520" cy="983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troduction: Tuning to wavelengths beyond 3 </a:t>
            </a:r>
            <a:r>
              <a:rPr b="0" lang="en-US" sz="4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μ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RAS: Proof of variabi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SO: Study of variabi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uture loo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104840" y="5423040"/>
            <a:ext cx="10782360" cy="40258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1282680" y="3689280"/>
            <a:ext cx="1042668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Xor phenomenon:  irregular optical minima of max 2 mag lasting max week of tw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rcRect l="0" t="83998" r="2134" b="0"/>
          <a:stretch/>
        </p:blipFill>
        <p:spPr>
          <a:xfrm>
            <a:off x="379440" y="584280"/>
            <a:ext cx="12231720" cy="2308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-30240" y="1312920"/>
            <a:ext cx="8305920" cy="81500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8380440" y="1073160"/>
            <a:ext cx="4292640" cy="75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NIR is a combination of star and dis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t MIR wavelengths and beyond disk domin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Rim, Disk atmosphere, Disk mid-plane from 3, 15 to 100 </a:t>
            </a:r>
            <a:r>
              <a:rPr b="0" lang="en-US" sz="4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μm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bsorption: detailed study of the line-of-sigh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IR: mixed case of emission and absorp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mission: study of the whole system with the potential to connect UXORs with HAEBEs without UXOR phenomen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IRAS was tuned to produce reliable Point Source Catalog by redundancy with seconds, hours and weeks confirmation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After knowing the reliability, available redundancy can be used to study variability in the available time scale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Accuracy estimates based on 30228 and 11586 non-variable stars at 12 and 25 </a:t>
            </a:r>
            <a:r>
              <a:rPr b="0" lang="en-US" sz="3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μm give 6 and 7 % accuracy respectively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19040" y="202680"/>
            <a:ext cx="4546800" cy="9347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o systematic, statistical IRAS variability study of UXORs exis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ase study: IRAS variability of AB Aur (0.27 and 0.17 mag) and WW Vul (0.22 and 0.15 mag) at 12 and 25 </a:t>
            </a:r>
            <a:r>
              <a:rPr b="0" lang="en-US" sz="4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μm respectivel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5600880" y="711360"/>
          <a:ext cx="6819840" cy="8534160"/>
        </p:xfrm>
        <a:graphic>
          <a:graphicData uri="http://schemas.openxmlformats.org/drawingml/2006/table">
            <a:tbl>
              <a:tblPr/>
              <a:tblGrid>
                <a:gridCol w="2273400"/>
                <a:gridCol w="2273040"/>
                <a:gridCol w="2273400"/>
              </a:tblGrid>
              <a:tr h="21333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Lucida Grande"/>
                        </a:rPr>
                        <a:t>12μ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Lucida Grande"/>
                        </a:rPr>
                        <a:t>25μ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WW Vu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1.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.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.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AB Au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30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23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49.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42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37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[Jy]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[Jy]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nfirms structural changes in the circumstellar environment of UX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tructural changes are from few events rather than of an ensemble of events; whatever the ev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ime scales: absorption is convolution of the phenomenon and dynamics while emission should be there as long as the structure exists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4120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IS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1765440"/>
            <a:ext cx="10464840" cy="783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514440" indent="-514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edicated variability programme on UXOR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14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U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SOPHOT used instead of ISOCA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ime coverage limited by visibil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Only one UXOR warranted a detailed study: SV Cep (Juhasz et al 2007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14440" indent="-5144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same observer setup did not ensure the same observational setup i.e. faced with absolute accuracy rather than with relative accurac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