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67.jpeg" ContentType="image/jpeg"/>
  <Override PartName="/ppt/media/image22.png" ContentType="image/pn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77.png" ContentType="image/png"/>
  <Override PartName="/ppt/media/image40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3FF0E-E820-4AA1-8384-6B9A48E56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28187-9787-4CC5-84C8-E4F4DABC2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1BE87-7EBD-462E-B306-96375D54E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72BD3-94F6-4077-95BC-B430D0547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B61D7-17ED-40D4-86C2-985C9141B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76C2C-6763-4931-9B36-1934695D99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D0E23-2830-4441-BC40-1CEBF07F0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0BCC-9528-4C6B-B2BF-AFDE15E6C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6836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B73C-2315-41AF-ADBA-B2340B2E9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371600" y="763560"/>
            <a:ext cx="501804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E78D7-B6A9-42D6-8B7C-EDBA77055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B8C09-41ED-4F78-8725-D765C9EB23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C9EF2-891D-4A6F-985A-B3D404AC9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1371600" y="763560"/>
            <a:ext cx="50245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D1B3A-8ADA-4035-8B5D-DE72DEC2E7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DF935-FCC2-45E5-AC69-A0DEADFDDA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8AC5-F146-429E-A2D6-4C0E81809E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258-0E24-4125-9146-8B251215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912-1913-4E46-82B1-F1E8421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78E-DD4A-4712-BC5E-6EBD321D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36E-E663-4D91-AEBF-FDFA9C53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19C-F077-48B1-969D-1944F988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42E-6E45-43EC-B756-A1C77811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104-72F5-4E33-BA6D-15C4C693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CFE-0DA9-4CB9-8EA8-FED8224F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12C-B64D-4C5B-9039-A3837872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B4F-19D6-4294-80FF-80B73D2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959-067D-4EB4-BEB0-F1A1597D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96D-8FBC-47E5-9EED-723E202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B509B-1E67-46F8-BC98-FF2524EBD9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0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20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5.png"/><Relationship Id="rId43" Type="http://schemas.openxmlformats.org/officeDocument/2006/relationships/image" Target="../media/image46.png"/><Relationship Id="rId44" Type="http://schemas.openxmlformats.org/officeDocument/2006/relationships/image" Target="../media/image47.png"/><Relationship Id="rId45" Type="http://schemas.openxmlformats.org/officeDocument/2006/relationships/image" Target="../media/image48.png"/><Relationship Id="rId46" Type="http://schemas.openxmlformats.org/officeDocument/2006/relationships/image" Target="../media/image49.png"/><Relationship Id="rId47" Type="http://schemas.openxmlformats.org/officeDocument/2006/relationships/image" Target="../media/image50.png"/><Relationship Id="rId48" Type="http://schemas.openxmlformats.org/officeDocument/2006/relationships/image" Target="../media/image51.png"/><Relationship Id="rId49" Type="http://schemas.openxmlformats.org/officeDocument/2006/relationships/image" Target="../media/image52.pn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23760" y="228600"/>
            <a:ext cx="101282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CAIX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talogue of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n th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MM-Newto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05080" y="191448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tefano Bian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92280" y="2712960"/>
            <a:ext cx="509580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79640" y="3332160"/>
            <a:ext cx="4319640" cy="46836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228600" y="6821640"/>
            <a:ext cx="9601200" cy="1440"/>
          </a:xfrm>
          <a:prstGeom prst="line">
            <a:avLst/>
          </a:prstGeom>
          <a:ln w="1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98320" y="6966000"/>
            <a:ext cx="8883720" cy="457200"/>
          </a:xfrm>
          <a:prstGeom prst="rect">
            <a:avLst/>
          </a:prstGeom>
          <a:solidFill>
            <a:srgbClr val="ff8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'Inter Departmental Science Workshop' – ESTEC - 28/29</a:t>
            </a:r>
            <a:r>
              <a:rPr b="1" lang="en-US" sz="18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401920" y="4476600"/>
            <a:ext cx="5273640" cy="1801440"/>
            <a:chOff x="2401920" y="4476600"/>
            <a:chExt cx="5273640" cy="1801440"/>
          </a:xfrm>
        </p:grpSpPr>
        <p:sp>
          <p:nvSpPr>
            <p:cNvPr id="57" name="Text Box 8"/>
            <p:cNvSpPr/>
            <p:nvPr/>
          </p:nvSpPr>
          <p:spPr>
            <a:xfrm>
              <a:off x="2401920" y="4476600"/>
              <a:ext cx="254160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uria Fonseca Bon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Matteo Guainazz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iorgio Ma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abriele Pon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5162400" y="4716360"/>
              <a:ext cx="2513160" cy="1561680"/>
              <a:chOff x="5162400" y="4716360"/>
              <a:chExt cx="2513160" cy="156168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71636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0640" y="5556600"/>
                <a:ext cx="20559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0560" y="5869080"/>
                <a:ext cx="45684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2400" y="511092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169920" y="120600"/>
            <a:ext cx="9845640" cy="5552640"/>
            <a:chOff x="169920" y="120600"/>
            <a:chExt cx="9845640" cy="5552640"/>
          </a:xfrm>
        </p:grpSpPr>
        <p:grpSp>
          <p:nvGrpSpPr>
            <p:cNvPr id="201" name="Group 2"/>
            <p:cNvGrpSpPr/>
            <p:nvPr/>
          </p:nvGrpSpPr>
          <p:grpSpPr>
            <a:xfrm>
              <a:off x="169920" y="120600"/>
              <a:ext cx="9845640" cy="5282640"/>
              <a:chOff x="169920" y="120600"/>
              <a:chExt cx="9845640" cy="528264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380520"/>
                <a:ext cx="9845640" cy="50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AutoShape 4"/>
              <p:cNvSpPr/>
              <p:nvPr/>
            </p:nvSpPr>
            <p:spPr>
              <a:xfrm>
                <a:off x="2238120" y="120600"/>
                <a:ext cx="57121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EW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e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1.73±0.03) + (-0.17±0.03) 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X,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AutoShape 5"/>
            <p:cNvSpPr/>
            <p:nvPr/>
          </p:nvSpPr>
          <p:spPr>
            <a:xfrm>
              <a:off x="7191360" y="5216400"/>
              <a:ext cx="2743200" cy="4568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ianchi et al. 20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AutoShape 6"/>
          <p:cNvSpPr/>
          <p:nvPr/>
        </p:nvSpPr>
        <p:spPr>
          <a:xfrm>
            <a:off x="228600" y="594360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CAIX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e IT effect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56 data points (81 measures, 75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33 - P=4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28600" y="5257800"/>
            <a:ext cx="41148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anchi et al., 2007, A&amp;A, 467, L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"/>
          <p:cNvGrpSpPr/>
          <p:nvPr/>
        </p:nvGrpSpPr>
        <p:grpSpPr>
          <a:xfrm>
            <a:off x="1371600" y="2286000"/>
            <a:ext cx="7536960" cy="5229000"/>
            <a:chOff x="1371600" y="2286000"/>
            <a:chExt cx="7536960" cy="5229000"/>
          </a:xfrm>
        </p:grpSpPr>
        <p:grpSp>
          <p:nvGrpSpPr>
            <p:cNvPr id="208" name="Group 2"/>
            <p:cNvGrpSpPr/>
            <p:nvPr/>
          </p:nvGrpSpPr>
          <p:grpSpPr>
            <a:xfrm>
              <a:off x="1371600" y="2550960"/>
              <a:ext cx="7536960" cy="4964040"/>
              <a:chOff x="1371600" y="2550960"/>
              <a:chExt cx="7536960" cy="4964040"/>
            </a:xfrm>
          </p:grpSpPr>
          <p:pic>
            <p:nvPicPr>
              <p:cNvPr id="20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2550960"/>
                <a:ext cx="7014960" cy="47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AutoShape 4"/>
              <p:cNvSpPr/>
              <p:nvPr/>
            </p:nvSpPr>
            <p:spPr>
              <a:xfrm>
                <a:off x="6166080" y="705816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5"/>
            <p:cNvSpPr/>
            <p:nvPr/>
          </p:nvSpPr>
          <p:spPr>
            <a:xfrm>
              <a:off x="21416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61±0.05) + (-0.19±0.05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ol/Edd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AutoShape 6"/>
          <p:cNvSpPr/>
          <p:nvPr/>
        </p:nvSpPr>
        <p:spPr>
          <a:xfrm>
            <a:off x="239760" y="228600"/>
            <a:ext cx="96012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anti-correlation of the EW with the Eddington ratio is highly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ρ=-0.38 – P=6x10</a:t>
            </a:r>
            <a:r>
              <a:rPr b="0" lang="en-GB" sz="1800" spc="-1" strike="noStrike" baseline="33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ill significant if a constant bolometric correction i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"/>
          <p:cNvGrpSpPr/>
          <p:nvPr/>
        </p:nvGrpSpPr>
        <p:grpSpPr>
          <a:xfrm>
            <a:off x="1457280" y="2286000"/>
            <a:ext cx="7159320" cy="5070240"/>
            <a:chOff x="1457280" y="2286000"/>
            <a:chExt cx="7159320" cy="5070240"/>
          </a:xfrm>
        </p:grpSpPr>
        <p:grpSp>
          <p:nvGrpSpPr>
            <p:cNvPr id="214" name="Group 2"/>
            <p:cNvGrpSpPr/>
            <p:nvPr/>
          </p:nvGrpSpPr>
          <p:grpSpPr>
            <a:xfrm>
              <a:off x="1457280" y="2550960"/>
              <a:ext cx="7159320" cy="4805280"/>
              <a:chOff x="1457280" y="2550960"/>
              <a:chExt cx="7159320" cy="4805280"/>
            </a:xfrm>
          </p:grpSpPr>
          <p:pic>
            <p:nvPicPr>
              <p:cNvPr id="21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7280" y="2550960"/>
                <a:ext cx="6786720" cy="45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AutoShape 4"/>
              <p:cNvSpPr/>
              <p:nvPr/>
            </p:nvSpPr>
            <p:spPr>
              <a:xfrm>
                <a:off x="5874120" y="689940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AutoShape 5"/>
            <p:cNvSpPr/>
            <p:nvPr/>
          </p:nvSpPr>
          <p:spPr>
            <a:xfrm>
              <a:off x="19940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73±0.04) + (-0.07±0.04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H,8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1160" y="120600"/>
            <a:ext cx="100584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 significant dependence of the iron EW on the BH mass is ap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ρ=-0.15 – P=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"/>
          <p:cNvSpPr/>
          <p:nvPr/>
        </p:nvSpPr>
        <p:spPr>
          <a:xfrm>
            <a:off x="816120" y="108000"/>
            <a:ext cx="844704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uminosity-dependent covering factor of the tor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811080" y="985680"/>
            <a:ext cx="8458200" cy="2057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st of the iron line flux comes from the torus, not the BL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Bianchi et al. 2004, Nandra 2006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IT effect is mainly driven by the X-ray luminosity (or Eddington ratio)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T the BH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39760" y="3271680"/>
            <a:ext cx="960120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most likely explanation is in terms 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 luminosity-dependent covering factor of the tor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is in agreement with models which predict an increase of the opening angle of the torus with luminosity due to disc-driven wind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onigl &amp; Kartje 1994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68360" y="5557680"/>
            <a:ext cx="9144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terestingly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is implies a decrease of the fraction of obscured AGN with lumino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s observe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Ueda et al. 2003; La Franca et al. 2005)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beit in Compton-thin sour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735280" y="-27000"/>
            <a:ext cx="4610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5280" y="976320"/>
            <a:ext cx="98298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 presented CAIXA, a Catalogue of AGN In the XMM-Newton Arch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t consists of all the radio-quiet X-ray unobscured AGN observed by XMM-Newton in targeted observations, whose data are public as of March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85920" y="2154240"/>
            <a:ext cx="930744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strong correlations are found between the X-ray and radio luminosity, but the role of distance may be do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39760" y="3189240"/>
            <a:ext cx="9601200" cy="1200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ery strong anti-correlation between the FWHM of H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the ratio between the soft and the hard X-ray luminosity is present in CAIXA. In particular, our catalogue does not contain narrow-line objects with a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.5-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2-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atio lower tha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00040" y="4541760"/>
            <a:ext cx="907884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trong correlation between the X-ray luminosity and the BH mass has a slope flatter than 1, suggesting that high-luminosity objects may be X-ray we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39760" y="5380200"/>
            <a:ext cx="9601200" cy="1249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ti-correlation between the excess variance and the X-ray luminosity is very significant and likely driven by the BH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gnificant anti-correlation between the excess variance and the FWHM of the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ggests an intrinsic difference in the variability of the two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515960" y="6751800"/>
            <a:ext cx="7048440" cy="6858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Iwasawa-Taniguchi effect is highly signific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789280" y="6103800"/>
            <a:ext cx="120600" cy="1224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50760" y="0"/>
            <a:ext cx="7580520" cy="2886120"/>
            <a:chOff x="50760" y="0"/>
            <a:chExt cx="7580520" cy="2886120"/>
          </a:xfrm>
        </p:grpSpPr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49640" y="0"/>
              <a:ext cx="35816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4"/>
            <p:cNvSpPr/>
            <p:nvPr/>
          </p:nvSpPr>
          <p:spPr>
            <a:xfrm>
              <a:off x="50760" y="135000"/>
              <a:ext cx="392292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8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ctive Galactic Nucle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Strong (L~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2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6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erg s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non-stellar emission from the central regions (nuclei) of some galaxies</a:t>
              </a:r>
              <a:r>
                <a:rPr b="0" lang="cs-CZ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06520" y="4840200"/>
            <a:ext cx="474804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2678040" y="5686560"/>
            <a:ext cx="37152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55846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2467080" y="5935680"/>
            <a:ext cx="120600" cy="1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7"/>
          <a:stretch/>
        </p:blipFill>
        <p:spPr>
          <a:xfrm>
            <a:off x="3090960" y="5908680"/>
            <a:ext cx="120600" cy="1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8"/>
          <a:stretch/>
        </p:blipFill>
        <p:spPr>
          <a:xfrm>
            <a:off x="2700360" y="596592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9"/>
          <a:stretch/>
        </p:blipFill>
        <p:spPr>
          <a:xfrm>
            <a:off x="2901960" y="59752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10"/>
          <a:stretch/>
        </p:blipFill>
        <p:spPr>
          <a:xfrm>
            <a:off x="2409840" y="573552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11"/>
          <a:stretch/>
        </p:blipFill>
        <p:spPr>
          <a:xfrm>
            <a:off x="3255840" y="56260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12"/>
          <a:stretch/>
        </p:blipFill>
        <p:spPr>
          <a:xfrm>
            <a:off x="3152880" y="5756400"/>
            <a:ext cx="120600" cy="12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550960" y="6245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13"/>
          <a:stretch/>
        </p:blipFill>
        <p:spPr>
          <a:xfrm>
            <a:off x="2585880" y="563724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14"/>
          <a:stretch/>
        </p:blipFill>
        <p:spPr>
          <a:xfrm>
            <a:off x="2448000" y="5526000"/>
            <a:ext cx="120600" cy="1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15"/>
          <a:stretch/>
        </p:blipFill>
        <p:spPr>
          <a:xfrm>
            <a:off x="25239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441468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7"/>
          <a:stretch/>
        </p:blipFill>
        <p:spPr>
          <a:xfrm>
            <a:off x="2284560" y="4756320"/>
            <a:ext cx="287280" cy="31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8"/>
          <a:stretch/>
        </p:blipFill>
        <p:spPr>
          <a:xfrm>
            <a:off x="3106800" y="4757760"/>
            <a:ext cx="295200" cy="33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9"/>
          <a:stretch/>
        </p:blipFill>
        <p:spPr>
          <a:xfrm>
            <a:off x="4835520" y="52880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20"/>
          <a:stretch/>
        </p:blipFill>
        <p:spPr>
          <a:xfrm>
            <a:off x="2638440" y="437040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21"/>
          <a:stretch/>
        </p:blipFill>
        <p:spPr>
          <a:xfrm>
            <a:off x="4657680" y="39830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2"/>
          <a:stretch/>
        </p:blipFill>
        <p:spPr>
          <a:xfrm>
            <a:off x="4869000" y="47005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23"/>
          <a:stretch/>
        </p:blipFill>
        <p:spPr>
          <a:xfrm>
            <a:off x="4179960" y="4167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"/>
          <p:cNvPicPr/>
          <p:nvPr/>
        </p:nvPicPr>
        <p:blipFill>
          <a:blip r:embed="rId24"/>
          <a:stretch/>
        </p:blipFill>
        <p:spPr>
          <a:xfrm>
            <a:off x="3751200" y="32558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"/>
          <p:cNvPicPr/>
          <p:nvPr/>
        </p:nvPicPr>
        <p:blipFill>
          <a:blip r:embed="rId25"/>
          <a:stretch/>
        </p:blipFill>
        <p:spPr>
          <a:xfrm>
            <a:off x="3606840" y="39607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"/>
          <p:cNvPicPr/>
          <p:nvPr/>
        </p:nvPicPr>
        <p:blipFill>
          <a:blip r:embed="rId26"/>
          <a:stretch/>
        </p:blipFill>
        <p:spPr>
          <a:xfrm>
            <a:off x="3090960" y="4249800"/>
            <a:ext cx="2887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"/>
          <p:cNvPicPr/>
          <p:nvPr/>
        </p:nvPicPr>
        <p:blipFill>
          <a:blip r:embed="rId27"/>
          <a:stretch/>
        </p:blipFill>
        <p:spPr>
          <a:xfrm>
            <a:off x="2803680" y="550404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"/>
          <p:cNvPicPr/>
          <p:nvPr/>
        </p:nvPicPr>
        <p:blipFill>
          <a:blip r:embed="rId28"/>
          <a:stretch/>
        </p:blipFill>
        <p:spPr>
          <a:xfrm>
            <a:off x="960480" y="37116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"/>
          <p:cNvPicPr/>
          <p:nvPr/>
        </p:nvPicPr>
        <p:blipFill>
          <a:blip r:embed="rId29"/>
          <a:stretch/>
        </p:blipFill>
        <p:spPr>
          <a:xfrm>
            <a:off x="4297320" y="35956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"/>
          <p:cNvPicPr/>
          <p:nvPr/>
        </p:nvPicPr>
        <p:blipFill>
          <a:blip r:embed="rId30"/>
          <a:stretch/>
        </p:blipFill>
        <p:spPr>
          <a:xfrm>
            <a:off x="3025800" y="35701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"/>
          <p:cNvPicPr/>
          <p:nvPr/>
        </p:nvPicPr>
        <p:blipFill>
          <a:blip r:embed="rId31"/>
          <a:stretch/>
        </p:blipFill>
        <p:spPr>
          <a:xfrm>
            <a:off x="3726000" y="4667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5" descr=""/>
          <p:cNvPicPr/>
          <p:nvPr/>
        </p:nvPicPr>
        <p:blipFill>
          <a:blip r:embed="rId32"/>
          <a:stretch/>
        </p:blipFill>
        <p:spPr>
          <a:xfrm>
            <a:off x="4156200" y="51674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"/>
          <p:cNvPicPr/>
          <p:nvPr/>
        </p:nvPicPr>
        <p:blipFill>
          <a:blip r:embed="rId33"/>
          <a:stretch/>
        </p:blipFill>
        <p:spPr>
          <a:xfrm>
            <a:off x="1182600" y="43178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"/>
          <p:cNvPicPr/>
          <p:nvPr/>
        </p:nvPicPr>
        <p:blipFill>
          <a:blip r:embed="rId34"/>
          <a:stretch/>
        </p:blipFill>
        <p:spPr>
          <a:xfrm>
            <a:off x="25257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"/>
          <p:cNvPicPr/>
          <p:nvPr/>
        </p:nvPicPr>
        <p:blipFill>
          <a:blip r:embed="rId35"/>
          <a:stretch/>
        </p:blipFill>
        <p:spPr>
          <a:xfrm>
            <a:off x="3257640" y="3173400"/>
            <a:ext cx="29052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6"/>
          <a:stretch/>
        </p:blipFill>
        <p:spPr>
          <a:xfrm>
            <a:off x="514440" y="49975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"/>
          <p:cNvPicPr/>
          <p:nvPr/>
        </p:nvPicPr>
        <p:blipFill>
          <a:blip r:embed="rId37"/>
          <a:stretch/>
        </p:blipFill>
        <p:spPr>
          <a:xfrm>
            <a:off x="1674720" y="31860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38"/>
          <a:stretch/>
        </p:blipFill>
        <p:spPr>
          <a:xfrm>
            <a:off x="1530360" y="38908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39"/>
          <a:stretch/>
        </p:blipFill>
        <p:spPr>
          <a:xfrm>
            <a:off x="2220840" y="352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40"/>
          <a:stretch/>
        </p:blipFill>
        <p:spPr>
          <a:xfrm>
            <a:off x="1182600" y="310356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41"/>
          <a:stretch/>
        </p:blipFill>
        <p:spPr>
          <a:xfrm>
            <a:off x="1522440" y="4913280"/>
            <a:ext cx="285840" cy="3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42"/>
          <a:stretch/>
        </p:blipFill>
        <p:spPr>
          <a:xfrm>
            <a:off x="588960" y="44118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43"/>
          <a:stretch/>
        </p:blipFill>
        <p:spPr>
          <a:xfrm>
            <a:off x="1019160" y="48308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44"/>
          <a:stretch/>
        </p:blipFill>
        <p:spPr>
          <a:xfrm>
            <a:off x="1171440" y="522756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"/>
          <p:cNvPicPr/>
          <p:nvPr/>
        </p:nvPicPr>
        <p:blipFill>
          <a:blip r:embed="rId45"/>
          <a:stretch/>
        </p:blipFill>
        <p:spPr>
          <a:xfrm>
            <a:off x="3056040" y="541800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9" descr=""/>
          <p:cNvPicPr/>
          <p:nvPr/>
        </p:nvPicPr>
        <p:blipFill>
          <a:blip r:embed="rId46"/>
          <a:stretch/>
        </p:blipFill>
        <p:spPr>
          <a:xfrm>
            <a:off x="2644920" y="5440320"/>
            <a:ext cx="12060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0" descr=""/>
          <p:cNvPicPr/>
          <p:nvPr/>
        </p:nvPicPr>
        <p:blipFill>
          <a:blip r:embed="rId47"/>
          <a:stretch/>
        </p:blipFill>
        <p:spPr>
          <a:xfrm>
            <a:off x="2077920" y="4119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48"/>
          <a:stretch/>
        </p:blipFill>
        <p:spPr>
          <a:xfrm>
            <a:off x="1731960" y="444348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49"/>
          <a:stretch/>
        </p:blipFill>
        <p:spPr>
          <a:xfrm>
            <a:off x="2579760" y="3911760"/>
            <a:ext cx="28728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Oval 53"/>
          <p:cNvSpPr/>
          <p:nvPr/>
        </p:nvSpPr>
        <p:spPr>
          <a:xfrm>
            <a:off x="1832040" y="3537000"/>
            <a:ext cx="803160" cy="34452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1944720" y="5370480"/>
            <a:ext cx="803160" cy="34308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2287440" y="64468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2"/>
          <p:cNvSpPr/>
          <p:nvPr/>
        </p:nvSpPr>
        <p:spPr>
          <a:xfrm>
            <a:off x="6259680" y="6218280"/>
            <a:ext cx="312876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9833"/>
              <a:gd name="adj6" fmla="val -106259"/>
            </a:avLst>
          </a:prstGeom>
          <a:solidFill>
            <a:srgbClr val="ff0000"/>
          </a:solidFill>
          <a:ln w="18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BH + accretion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vert gravitational energy into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3061800" y="3093120"/>
            <a:ext cx="6768000" cy="2850480"/>
            <a:chOff x="3061800" y="3093120"/>
            <a:chExt cx="6768000" cy="2850480"/>
          </a:xfrm>
        </p:grpSpPr>
        <p:grpSp>
          <p:nvGrpSpPr>
            <p:cNvPr id="120" name="Group 65"/>
            <p:cNvGrpSpPr/>
            <p:nvPr/>
          </p:nvGrpSpPr>
          <p:grpSpPr>
            <a:xfrm>
              <a:off x="3061800" y="3093120"/>
              <a:ext cx="5625000" cy="2442600"/>
              <a:chOff x="3061800" y="3093120"/>
              <a:chExt cx="5625000" cy="2442600"/>
            </a:xfrm>
          </p:grpSpPr>
          <p:pic>
            <p:nvPicPr>
              <p:cNvPr id="121" name="Picture 56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49680" y="3436920"/>
                <a:ext cx="3237120" cy="113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Group 57"/>
              <p:cNvGrpSpPr/>
              <p:nvPr/>
            </p:nvGrpSpPr>
            <p:grpSpPr>
              <a:xfrm>
                <a:off x="4737240" y="3093120"/>
                <a:ext cx="626400" cy="594000"/>
                <a:chOff x="4737240" y="3093120"/>
                <a:chExt cx="626400" cy="594000"/>
              </a:xfrm>
            </p:grpSpPr>
            <p:sp>
              <p:nvSpPr>
                <p:cNvPr id="123" name="Freeform 58"/>
                <p:cNvSpPr/>
                <p:nvPr/>
              </p:nvSpPr>
              <p:spPr>
                <a:xfrm rot="19560000">
                  <a:off x="4800600" y="3200040"/>
                  <a:ext cx="499680" cy="379440"/>
                </a:xfrm>
                <a:prstGeom prst="pie">
                  <a:avLst/>
                </a:prstGeom>
                <a:noFill/>
                <a:ln w="309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 rot="19560000">
                  <a:off x="4880160" y="3362040"/>
                  <a:ext cx="61200" cy="292680"/>
                </a:xfrm>
                <a:prstGeom prst="pie">
                  <a:avLst/>
                </a:prstGeom>
                <a:noFill/>
                <a:ln w="18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60"/>
              <p:cNvSpPr/>
              <p:nvPr/>
            </p:nvSpPr>
            <p:spPr>
              <a:xfrm>
                <a:off x="5702040" y="3138480"/>
                <a:ext cx="295452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Type 1/Unobscured AG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61"/>
              <p:cNvSpPr/>
              <p:nvPr/>
            </p:nvSpPr>
            <p:spPr>
              <a:xfrm flipH="1">
                <a:off x="3061800" y="3657600"/>
                <a:ext cx="1739880" cy="18781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AutoShape 63"/>
            <p:cNvSpPr/>
            <p:nvPr/>
          </p:nvSpPr>
          <p:spPr>
            <a:xfrm>
              <a:off x="5486400" y="4800600"/>
              <a:ext cx="43434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tical spectrum rich of emission lin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road (from BLR)</a:t>
              </a:r>
              <a:r>
                <a:rPr b="1" lang="ar-SA" sz="1800" spc="-1" strike="noStrike" u="sng">
                  <a:solidFill>
                    <a:srgbClr val="000000"/>
                  </a:solidFill>
                  <a:uFillTx/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rrow (from NLR)</a:t>
              </a:r>
              <a:r>
                <a:rPr b="0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AutoShape 64"/>
          <p:cNvSpPr/>
          <p:nvPr/>
        </p:nvSpPr>
        <p:spPr>
          <a:xfrm>
            <a:off x="7707240" y="228600"/>
            <a:ext cx="2351160" cy="2743200"/>
          </a:xfrm>
          <a:custGeom>
            <a:avLst/>
            <a:gdLst>
              <a:gd name="textAreaLeft" fmla="*/ 114480 w 2351160"/>
              <a:gd name="textAreaRight" fmla="*/ 2236680 w 2351160"/>
              <a:gd name="textAreaTop" fmla="*/ 114480 h 2743200"/>
              <a:gd name="textAreaBottom" fmla="*/ 2628720 h 2743200"/>
            </a:gdLst>
            <a:ahLst/>
            <a:rect l="textAreaLeft" t="textAreaTop" r="textAreaRight" b="textAreaBottom"/>
            <a:pathLst>
              <a:path w="21600" h="25201">
                <a:moveTo>
                  <a:pt x="3600" y="0"/>
                </a:moveTo>
                <a:arcTo wR="3600" hR="3600" stAng="16200000" swAng="-5400000"/>
                <a:lnTo>
                  <a:pt x="0" y="21601"/>
                </a:lnTo>
                <a:arcTo wR="3600" hR="3600" stAng="10800000" swAng="-5400000"/>
                <a:lnTo>
                  <a:pt x="18000" y="25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lass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s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yf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-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rrow-lin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WHM(H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BL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2000 k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51000" y="5835600"/>
            <a:ext cx="42084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630680"/>
            <a:ext cx="537840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1384200" y="3660840"/>
            <a:ext cx="1708200" cy="15588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152360" y="4276440"/>
            <a:ext cx="8561160" cy="2830320"/>
            <a:chOff x="1152360" y="4276440"/>
            <a:chExt cx="8561160" cy="2830320"/>
          </a:xfrm>
        </p:grpSpPr>
        <p:grpSp>
          <p:nvGrpSpPr>
            <p:cNvPr id="133" name="Group 5"/>
            <p:cNvGrpSpPr/>
            <p:nvPr/>
          </p:nvGrpSpPr>
          <p:grpSpPr>
            <a:xfrm>
              <a:off x="1152360" y="4276440"/>
              <a:ext cx="4310640" cy="1731600"/>
              <a:chOff x="1152360" y="4276440"/>
              <a:chExt cx="4310640" cy="1731600"/>
            </a:xfrm>
          </p:grpSpPr>
          <p:sp>
            <p:nvSpPr>
              <p:cNvPr id="134" name="Line 6"/>
              <p:cNvSpPr/>
              <p:nvPr/>
            </p:nvSpPr>
            <p:spPr>
              <a:xfrm flipH="1" flipV="1">
                <a:off x="1169640" y="5709600"/>
                <a:ext cx="1053360" cy="2984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V="1">
                <a:off x="1152360" y="4276440"/>
                <a:ext cx="4310640" cy="14425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5639400" y="4350960"/>
              <a:ext cx="4074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9"/>
          <p:cNvGrpSpPr/>
          <p:nvPr/>
        </p:nvGrpSpPr>
        <p:grpSpPr>
          <a:xfrm>
            <a:off x="69840" y="868320"/>
            <a:ext cx="4073400" cy="5035320"/>
            <a:chOff x="69840" y="868320"/>
            <a:chExt cx="4073400" cy="5035320"/>
          </a:xfrm>
        </p:grpSpPr>
        <p:sp>
          <p:nvSpPr>
            <p:cNvPr id="138" name="Line 10"/>
            <p:cNvSpPr/>
            <p:nvPr/>
          </p:nvSpPr>
          <p:spPr>
            <a:xfrm flipV="1">
              <a:off x="2334240" y="3654360"/>
              <a:ext cx="1080" cy="22492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11" descr=""/>
            <p:cNvPicPr/>
            <p:nvPr/>
          </p:nvPicPr>
          <p:blipFill>
            <a:blip r:embed="rId4"/>
            <a:stretch/>
          </p:blipFill>
          <p:spPr>
            <a:xfrm>
              <a:off x="69840" y="868320"/>
              <a:ext cx="407340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Freeform 12"/>
          <p:cNvSpPr/>
          <p:nvPr/>
        </p:nvSpPr>
        <p:spPr>
          <a:xfrm>
            <a:off x="1552680" y="3652920"/>
            <a:ext cx="1630080" cy="146520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4400" y="5770440"/>
            <a:ext cx="566640" cy="289080"/>
          </a:xfrm>
          <a:prstGeom prst="pi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243080" y="6114960"/>
            <a:ext cx="91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59280" y="4680"/>
            <a:ext cx="4105440" cy="62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ype 1 AGN in 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2387520" y="884160"/>
            <a:ext cx="6787800" cy="5034960"/>
            <a:chOff x="2387520" y="884160"/>
            <a:chExt cx="6787800" cy="5034960"/>
          </a:xfrm>
        </p:grpSpPr>
        <p:grpSp>
          <p:nvGrpSpPr>
            <p:cNvPr id="145" name="Group 15"/>
            <p:cNvGrpSpPr/>
            <p:nvPr/>
          </p:nvGrpSpPr>
          <p:grpSpPr>
            <a:xfrm>
              <a:off x="2387520" y="1196640"/>
              <a:ext cx="6787800" cy="4722480"/>
              <a:chOff x="2387520" y="1196640"/>
              <a:chExt cx="6787800" cy="4722480"/>
            </a:xfrm>
          </p:grpSpPr>
          <p:grpSp>
            <p:nvGrpSpPr>
              <p:cNvPr id="146" name="Group 16"/>
              <p:cNvGrpSpPr/>
              <p:nvPr/>
            </p:nvGrpSpPr>
            <p:grpSpPr>
              <a:xfrm>
                <a:off x="2473200" y="1196640"/>
                <a:ext cx="6702120" cy="4722480"/>
                <a:chOff x="2473200" y="1196640"/>
                <a:chExt cx="6702120" cy="4722480"/>
              </a:xfrm>
            </p:grpSpPr>
            <p:sp>
              <p:nvSpPr>
                <p:cNvPr id="147" name="Line 17"/>
                <p:cNvSpPr/>
                <p:nvPr/>
              </p:nvSpPr>
              <p:spPr>
                <a:xfrm flipV="1">
                  <a:off x="2473200" y="2765520"/>
                  <a:ext cx="2318760" cy="3153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8" name="Picture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1560" y="1196640"/>
                  <a:ext cx="4073760" cy="272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Line 19"/>
              <p:cNvSpPr/>
              <p:nvPr/>
            </p:nvSpPr>
            <p:spPr>
              <a:xfrm>
                <a:off x="2387520" y="5838480"/>
                <a:ext cx="55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AutoShape 21"/>
            <p:cNvSpPr/>
            <p:nvPr/>
          </p:nvSpPr>
          <p:spPr>
            <a:xfrm>
              <a:off x="5279760" y="884160"/>
              <a:ext cx="37990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e FERO: A.L. Longinotti's tal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54160" y="157320"/>
            <a:ext cx="7772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IX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Catalogue of AGN in the XMM-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ewto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228600" y="1574640"/>
            <a:ext cx="9829800" cy="32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156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radio-quie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GN in targeted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pn observati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gt;200 counts in either of the (rest-frame) bands of 0.5-2 and 2-10 ke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1% pile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og(R)&lt;1 (quasar) – log(R)&lt;2.4 and log(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)&lt;-2.755 (Seyfert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2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57200" y="5087880"/>
            <a:ext cx="914400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 and 20 cm fluxes (~100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β FWHM (64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H mass (52% of the mas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uminosity dependent bolometric correction (Marconi et al. 2004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400800" y="7077240"/>
            <a:ext cx="3657600" cy="47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ianchi et al., A&amp;A sub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1280" y="120600"/>
            <a:ext cx="519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X-ray/radio e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hape 10"/>
          <p:cNvCxnSpPr>
            <a:stCxn id="157" idx="2"/>
          </p:cNvCxnSpPr>
          <p:nvPr/>
        </p:nvCxnSpPr>
        <p:spPr>
          <a:xfrm flipH="1" rot="16200000">
            <a:off x="3611160" y="1283760"/>
            <a:ext cx="381960" cy="2782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58" name="Group 13"/>
          <p:cNvGrpSpPr/>
          <p:nvPr/>
        </p:nvGrpSpPr>
        <p:grpSpPr>
          <a:xfrm>
            <a:off x="11160" y="184320"/>
            <a:ext cx="9982080" cy="4572000"/>
            <a:chOff x="11160" y="184320"/>
            <a:chExt cx="9982080" cy="4572000"/>
          </a:xfrm>
        </p:grpSpPr>
        <p:pic>
          <p:nvPicPr>
            <p:cNvPr id="159" name="Picture 1" descr=""/>
            <p:cNvPicPr/>
            <p:nvPr/>
          </p:nvPicPr>
          <p:blipFill>
            <a:blip r:embed="rId1"/>
            <a:stretch/>
          </p:blipFill>
          <p:spPr>
            <a:xfrm>
              <a:off x="5421240" y="18432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3"/>
            <p:cNvSpPr/>
            <p:nvPr/>
          </p:nvSpPr>
          <p:spPr>
            <a:xfrm>
              <a:off x="11160" y="884160"/>
              <a:ext cx="4800600" cy="1600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Very strong correlations are found between the hard (or soft) X-ray luminosity and the radio luminos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at 6 or 20 c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Elbow Connector 12"/>
            <p:cNvCxnSpPr>
              <a:stCxn id="157" idx="3"/>
            </p:cNvCxnSpPr>
            <p:nvPr/>
          </p:nvCxnSpPr>
          <p:spPr>
            <a:xfrm>
              <a:off x="4811400" y="1684440"/>
              <a:ext cx="610200" cy="78624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c000"/>
              </a:solidFill>
              <a:miter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239760" y="2941560"/>
            <a:ext cx="9753480" cy="4496040"/>
            <a:chOff x="239760" y="2941560"/>
            <a:chExt cx="9753480" cy="4496040"/>
          </a:xfrm>
        </p:grpSpPr>
        <p:sp>
          <p:nvSpPr>
            <p:cNvPr id="162" name="AutoShape 4"/>
            <p:cNvSpPr/>
            <p:nvPr/>
          </p:nvSpPr>
          <p:spPr>
            <a:xfrm>
              <a:off x="5421240" y="515160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lthough the correlations are still very strong even when the effect of distance is taken into account via a partial Kendall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test, a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crambling test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based on 100 000 simulated datasets suggests that the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ole of distance may be domina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2"/>
            <a:stretch/>
          </p:blipFill>
          <p:spPr>
            <a:xfrm>
              <a:off x="239760" y="2941560"/>
              <a:ext cx="4419360" cy="442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4" name="Elbow Connector 15"/>
            <p:cNvCxnSpPr>
              <a:endCxn id="162" idx="1"/>
            </p:cNvCxnSpPr>
            <p:nvPr/>
          </p:nvCxnSpPr>
          <p:spPr>
            <a:xfrm>
              <a:off x="4659120" y="5151240"/>
              <a:ext cx="762480" cy="1143720"/>
            </a:xfrm>
            <a:prstGeom prst="bentConnector3">
              <a:avLst>
                <a:gd name="adj1" fmla="val 49976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9"/>
          <p:cNvGrpSpPr/>
          <p:nvPr/>
        </p:nvGrpSpPr>
        <p:grpSpPr>
          <a:xfrm>
            <a:off x="1614600" y="1792440"/>
            <a:ext cx="6851520" cy="5517720"/>
            <a:chOff x="1614600" y="1792440"/>
            <a:chExt cx="6851520" cy="5517720"/>
          </a:xfrm>
        </p:grpSpPr>
        <p:grpSp>
          <p:nvGrpSpPr>
            <p:cNvPr id="166" name="Group 2"/>
            <p:cNvGrpSpPr/>
            <p:nvPr/>
          </p:nvGrpSpPr>
          <p:grpSpPr>
            <a:xfrm>
              <a:off x="1614600" y="1792440"/>
              <a:ext cx="6851520" cy="5517720"/>
              <a:chOff x="1614600" y="1792440"/>
              <a:chExt cx="6851520" cy="5517720"/>
            </a:xfrm>
          </p:grpSpPr>
          <p:pic>
            <p:nvPicPr>
              <p:cNvPr id="1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2120400"/>
                <a:ext cx="570924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4"/>
              <p:cNvSpPr/>
              <p:nvPr/>
            </p:nvSpPr>
            <p:spPr>
              <a:xfrm>
                <a:off x="1614600" y="1792440"/>
                <a:ext cx="6851520" cy="547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0.5-2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/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2-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0.14±0.03) + (-0.60±0.08) log(Hβ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WHM,200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AutoShape 8"/>
            <p:cNvSpPr/>
            <p:nvPr/>
          </p:nvSpPr>
          <p:spPr>
            <a:xfrm rot="16200000">
              <a:off x="6181920" y="5021280"/>
              <a:ext cx="3657600" cy="4730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5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mic Sans MS"/>
                </a:rPr>
                <a:t>Bianchi et al., A&amp;A subm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AutoShape 1"/>
          <p:cNvSpPr/>
          <p:nvPr/>
        </p:nvSpPr>
        <p:spPr>
          <a:xfrm>
            <a:off x="228600" y="3636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n anti-correlation bewtween the 0.5-2/2-10 luminosity ratio and the Hβ FWHM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93 data points (90 measures, 3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64 - P=6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28600" y="2514600"/>
            <a:ext cx="4572000" cy="4343400"/>
            <a:chOff x="228600" y="2514600"/>
            <a:chExt cx="4572000" cy="4343400"/>
          </a:xfrm>
        </p:grpSpPr>
        <p:sp>
          <p:nvSpPr>
            <p:cNvPr id="172" name="Oval 5"/>
            <p:cNvSpPr/>
            <p:nvPr/>
          </p:nvSpPr>
          <p:spPr>
            <a:xfrm>
              <a:off x="2743200" y="2514600"/>
              <a:ext cx="2057400" cy="2971800"/>
            </a:xfrm>
            <a:prstGeom prst="ellipse">
              <a:avLst/>
            </a:prstGeom>
            <a:noFill/>
            <a:ln w="18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228600" y="4800600"/>
              <a:ext cx="1828800" cy="2057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057400"/>
                <a:gd name="textAreaBottom" fmla="*/ 196812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3600" y="0"/>
                  </a:moveTo>
                  <a:arcTo wR="3600" hR="3600" stAng="16200000" swAng="-5400000"/>
                  <a:lnTo>
                    <a:pt x="0" y="20699"/>
                  </a:lnTo>
                  <a:arcTo wR="3600" hR="3600" stAng="10800000" swAng="-5400000"/>
                  <a:lnTo>
                    <a:pt x="18000" y="242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arrow-l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object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0.5-2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/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2-10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 flipH="1" rot="10800000">
              <a:off x="912600" y="3212640"/>
              <a:ext cx="1828800" cy="1600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943600" y="27000"/>
            <a:ext cx="408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with BH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7480" y="122400"/>
            <a:ext cx="6781680" cy="3657600"/>
            <a:chOff x="87480" y="122400"/>
            <a:chExt cx="6781680" cy="3657600"/>
          </a:xfrm>
        </p:grpSpPr>
        <p:pic>
          <p:nvPicPr>
            <p:cNvPr id="177" name="Picture 1" descr=""/>
            <p:cNvPicPr/>
            <p:nvPr/>
          </p:nvPicPr>
          <p:blipFill>
            <a:blip r:embed="rId1"/>
            <a:stretch/>
          </p:blipFill>
          <p:spPr>
            <a:xfrm>
              <a:off x="87480" y="1224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5"/>
            <p:cNvSpPr/>
            <p:nvPr/>
          </p:nvSpPr>
          <p:spPr>
            <a:xfrm>
              <a:off x="3821400" y="503280"/>
              <a:ext cx="3047760" cy="3048120"/>
            </a:xfrm>
            <a:custGeom>
              <a:avLst/>
              <a:gdLst>
                <a:gd name="textAreaLeft" fmla="*/ 148680 w 3047760"/>
                <a:gd name="textAreaRight" fmla="*/ 2899080 w 3047760"/>
                <a:gd name="textAreaTop" fmla="*/ 148680 h 3048120"/>
                <a:gd name="textAreaBottom" fmla="*/ 2899440 h 3048120"/>
              </a:gdLst>
              <a:ahLst/>
              <a:rect l="textAreaLeft" t="textAreaTop" r="textAreaRight" b="textAreaBottom"/>
              <a:pathLst>
                <a:path w="21600" h="21603">
                  <a:moveTo>
                    <a:pt x="3600" y="0"/>
                  </a:moveTo>
                  <a:arcTo wR="3600" hR="3600" stAng="16200000" swAng="-5400000"/>
                  <a:lnTo>
                    <a:pt x="0" y="18003"/>
                  </a:lnTo>
                  <a:arcTo wR="3600" hR="3600" stAng="10800000" swAng="-5400000"/>
                  <a:lnTo>
                    <a:pt x="18000" y="2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trong correlation between the X-ray luminosity and the BH mass has a slope flatter than 1, suggesting that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high-luminosity objects may be X-ray weak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6335640" y="503280"/>
            <a:ext cx="3657600" cy="6858000"/>
            <a:chOff x="6335640" y="503280"/>
            <a:chExt cx="3657600" cy="6858000"/>
          </a:xfrm>
        </p:grpSpPr>
        <p:sp>
          <p:nvSpPr>
            <p:cNvPr id="180" name="AutoShape 6"/>
            <p:cNvSpPr/>
            <p:nvPr/>
          </p:nvSpPr>
          <p:spPr>
            <a:xfrm>
              <a:off x="7021440" y="503280"/>
              <a:ext cx="2895840" cy="3048120"/>
            </a:xfrm>
            <a:custGeom>
              <a:avLst/>
              <a:gdLst>
                <a:gd name="textAreaLeft" fmla="*/ 141120 w 2895840"/>
                <a:gd name="textAreaRight" fmla="*/ 2754720 w 2895840"/>
                <a:gd name="textAreaTop" fmla="*/ 141120 h 3048120"/>
                <a:gd name="textAreaBottom" fmla="*/ 2907000 h 3048120"/>
              </a:gdLst>
              <a:ahLst/>
              <a:rect l="textAreaLeft" t="textAreaTop" r="textAreaRight" b="textAreaBottom"/>
              <a:pathLst>
                <a:path w="21600" h="22736">
                  <a:moveTo>
                    <a:pt x="3600" y="0"/>
                  </a:moveTo>
                  <a:arcTo wR="3600" hR="3600" stAng="16200000" swAng="-5400000"/>
                  <a:lnTo>
                    <a:pt x="0" y="19136"/>
                  </a:lnTo>
                  <a:arcTo wR="3600" hR="3600" stAng="10800000" swAng="-5400000"/>
                  <a:lnTo>
                    <a:pt x="18000" y="22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 luminosity dependent bolometric factor could explain this result, but the one proposed by Marconi (2004) seems too strong at high luminos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3" descr=""/>
            <p:cNvPicPr/>
            <p:nvPr/>
          </p:nvPicPr>
          <p:blipFill>
            <a:blip r:embed="rId2"/>
            <a:stretch/>
          </p:blipFill>
          <p:spPr>
            <a:xfrm>
              <a:off x="63356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1"/>
          <p:cNvGrpSpPr/>
          <p:nvPr/>
        </p:nvGrpSpPr>
        <p:grpSpPr>
          <a:xfrm>
            <a:off x="87480" y="3703680"/>
            <a:ext cx="6248160" cy="3657600"/>
            <a:chOff x="87480" y="3703680"/>
            <a:chExt cx="6248160" cy="3657600"/>
          </a:xfrm>
        </p:grpSpPr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26780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87480" y="3932280"/>
              <a:ext cx="2449440" cy="3383280"/>
            </a:xfrm>
            <a:custGeom>
              <a:avLst/>
              <a:gdLst>
                <a:gd name="textAreaLeft" fmla="*/ 119520 w 2449440"/>
                <a:gd name="textAreaRight" fmla="*/ 2329920 w 2449440"/>
                <a:gd name="textAreaTop" fmla="*/ 119520 h 3383280"/>
                <a:gd name="textAreaBottom" fmla="*/ 3263760 h 3383280"/>
              </a:gdLst>
              <a:ahLst/>
              <a:rect l="textAreaLeft" t="textAreaTop" r="textAreaRight" b="textAreaBottom"/>
              <a:pathLst>
                <a:path w="21600" h="29834">
                  <a:moveTo>
                    <a:pt x="3600" y="0"/>
                  </a:moveTo>
                  <a:arcTo wR="3600" hR="3600" stAng="16200000" swAng="-5400000"/>
                  <a:lnTo>
                    <a:pt x="0" y="26234"/>
                  </a:lnTo>
                  <a:arcTo wR="3600" hR="3600" stAng="10800000" swAng="-5400000"/>
                  <a:lnTo>
                    <a:pt x="18000" y="298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 linear relation is recovered when using radio luminosity, suggesting that the intrinsic total power of AGN indeed scales linearly with BH 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280" y="120600"/>
            <a:ext cx="239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im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" y="71280"/>
            <a:ext cx="9975960" cy="3659400"/>
            <a:chOff x="11160" y="71280"/>
            <a:chExt cx="9975960" cy="3659400"/>
          </a:xfrm>
        </p:grpSpPr>
        <p:pic>
          <p:nvPicPr>
            <p:cNvPr id="187" name="Picture 7" descr="variability_lx.jpg"/>
            <p:cNvPicPr/>
            <p:nvPr/>
          </p:nvPicPr>
          <p:blipFill>
            <a:blip r:embed="rId1"/>
            <a:stretch/>
          </p:blipFill>
          <p:spPr>
            <a:xfrm>
              <a:off x="2754360" y="7272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"/>
            <p:cNvPicPr/>
            <p:nvPr/>
          </p:nvPicPr>
          <p:blipFill>
            <a:blip r:embed="rId2"/>
            <a:stretch/>
          </p:blipFill>
          <p:spPr>
            <a:xfrm>
              <a:off x="6329520" y="7128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5"/>
            <p:cNvSpPr/>
            <p:nvPr/>
          </p:nvSpPr>
          <p:spPr>
            <a:xfrm>
              <a:off x="11160" y="655200"/>
              <a:ext cx="2666880" cy="3009960"/>
            </a:xfrm>
            <a:custGeom>
              <a:avLst/>
              <a:gdLst>
                <a:gd name="textAreaLeft" fmla="*/ 129960 w 2666880"/>
                <a:gd name="textAreaRight" fmla="*/ 2536920 w 2666880"/>
                <a:gd name="textAreaTop" fmla="*/ 129960 h 3009960"/>
                <a:gd name="textAreaBottom" fmla="*/ 2880000 h 3009960"/>
              </a:gdLst>
              <a:ahLst/>
              <a:rect l="textAreaLeft" t="textAreaTop" r="textAreaRight" b="textAreaBottom"/>
              <a:pathLst>
                <a:path w="21600" h="24378">
                  <a:moveTo>
                    <a:pt x="3600" y="0"/>
                  </a:moveTo>
                  <a:arcTo wR="3600" hR="3600" stAng="16200000" swAng="-5400000"/>
                  <a:lnTo>
                    <a:pt x="0" y="20778"/>
                  </a:lnTo>
                  <a:arcTo wR="3600" hR="3600" stAng="10800000" swAng="-5400000"/>
                  <a:lnTo>
                    <a:pt x="18000" y="2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 anti-correlation between the excess variance and the X-ray luminosity is very significant in our data, but it is likely driven by the anti-correlation between the excess variance and the BH m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228600" y="3728880"/>
            <a:ext cx="9764640" cy="3657600"/>
            <a:chOff x="228600" y="3728880"/>
            <a:chExt cx="9764640" cy="3657600"/>
          </a:xfrm>
        </p:grpSpPr>
        <p:pic>
          <p:nvPicPr>
            <p:cNvPr id="191" name="Picture 4" descr=""/>
            <p:cNvPicPr/>
            <p:nvPr/>
          </p:nvPicPr>
          <p:blipFill>
            <a:blip r:embed="rId3"/>
            <a:stretch/>
          </p:blipFill>
          <p:spPr>
            <a:xfrm>
              <a:off x="6335640" y="37288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6"/>
            <p:cNvSpPr/>
            <p:nvPr/>
          </p:nvSpPr>
          <p:spPr>
            <a:xfrm>
              <a:off x="228600" y="4008240"/>
              <a:ext cx="5943600" cy="33069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ignificant anti-correlation between the excess variance and the FWHM of the H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is a clear piece of evidence in favour of an intrinsic difference in the variability behaviours of the two cla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owever, this difference seems not to be driven by the Eddington rate, which appears completely uncorrelated with the excess variance in CAIX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84240" y="842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X-ray Baldwi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(Iwasawa-Taniguchi effect)</a:t>
            </a:r>
            <a:r>
              <a:rPr b="0" lang="ar-SA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28600" y="3657600"/>
            <a:ext cx="480060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ignificance of this effect was questioned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iménez-Bailón et al. (2005) in their analysis of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data of PG quasars, pointing out the importance of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amination from radio-loud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28600" y="1143000"/>
            <a:ext cx="9601200" cy="6307200"/>
            <a:chOff x="228600" y="1143000"/>
            <a:chExt cx="9601200" cy="6307200"/>
          </a:xfrm>
        </p:grpSpPr>
        <p:sp>
          <p:nvSpPr>
            <p:cNvPr id="196" name="AutoShape 1"/>
            <p:cNvSpPr/>
            <p:nvPr/>
          </p:nvSpPr>
          <p:spPr>
            <a:xfrm>
              <a:off x="228600" y="1143000"/>
              <a:ext cx="960120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 1993, Iwasawa &amp; Taniguchi presented an anti-correlation between the iron Kα emission line and the 2-10 keV luminosity, according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Ginga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observations of 37 AGN. This 'Iwasawa-Taniguchi effect' (IT effect) was then found in a lar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ample of objects observed by XMM-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Newton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, giving a relation between luminosity and EW) of the narrow core of the Fe Kα as EW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r>
                <a:rPr b="0" lang="en-GB" sz="1800" spc="-1" strike="noStrike" baseline="33000">
                  <a:solidFill>
                    <a:srgbClr val="000000"/>
                  </a:solidFill>
                  <a:latin typeface="Comic Sans MS"/>
                </a:rPr>
                <a:t>-0.17±0.08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Page et al. 2004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4"/>
            <p:cNvGrpSpPr/>
            <p:nvPr/>
          </p:nvGrpSpPr>
          <p:grpSpPr>
            <a:xfrm>
              <a:off x="5154480" y="3171960"/>
              <a:ext cx="4672440" cy="4278240"/>
              <a:chOff x="5154480" y="3171960"/>
              <a:chExt cx="4672440" cy="4278240"/>
            </a:xfrm>
          </p:grpSpPr>
          <p:pic>
            <p:nvPicPr>
              <p:cNvPr id="19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4480" y="3171960"/>
                <a:ext cx="4268880" cy="42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utoShape 6"/>
              <p:cNvSpPr/>
              <p:nvPr/>
            </p:nvSpPr>
            <p:spPr>
              <a:xfrm flipH="1" rot="16200000">
                <a:off x="7999920" y="5217120"/>
                <a:ext cx="31960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wasawa &amp; Taniguchi 199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ianchi</dc:creator>
  <dc:description/>
  <dc:language>en-US</dc:language>
  <cp:lastModifiedBy>Stefano Bianchi</cp:lastModifiedBy>
  <dcterms:modified xsi:type="dcterms:W3CDTF">2008-08-26T17:35:35Z</dcterms:modified>
  <cp:revision>27</cp:revision>
  <dc:subject/>
  <dc:title>Slide 1</dc:title>
</cp:coreProperties>
</file>