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30E4-4299-470F-B975-4C94849454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A64F-8572-4ACA-B60F-0670A51FE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talk, including time fo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43B9-BC10-4F37-92FA-23A271AF8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s do not always show the hot collimated beam outside of separatrix (in cold plas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1 (almost simultaneous with C2 crossing presented earlier) without collimated beam in the cold plasma (but very clear ∂By. Not clear density dip, but this is maybe to time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4 crossing with collimated beam(s) (most clear in last crossing from cold to hot plasma region ( ~18:12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8D18-5216-467E-9C96-39E4D2AC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t beam outside separ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ACFF-88AC-4FB1-9899-E452B762B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1AF1-85E9-4993-AACD-88EDAD190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ut of only 3 reconnection events with Burst mode. A previous event published (Asnes 2008a)*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40E8-8285-440B-849B-D7F0498B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scale size of PS is &gt;4000 km (separation of CL within northern plasma sh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nd of bulge is propagating over spacecraft when the tailward flow star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3 remains in the plasma sheet most of the time (while C1, C2 and C4 moves in and out of plasma sh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E548-B96C-4706-825D-FC926D5A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ward, then Earthward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don’t want to mention apparent weak tailward flow at C1 after 18:15. This is only observed in the “inflow”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E67F-A555-44D9-9454-86FA3414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comparisons only was made with Geotail plasma energy instrument (LEP?), with time resolution=12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Japanese focused on the most common distribution shapes without looking into the details of separatrix dis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0D90-272B-4B88-A478-66139C86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C723-228F-479A-8520-07817212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rom PS to 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beam after entry into col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 dip indicates separ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By consistent with passing through current sheet (field aligned, away from X-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5042-FC98-4836-A992-9ADF45109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separatrix beam fits well with PIC mode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separatrix hot beam is narrow, unlike PIC results (PIC doesn’t even have a beam her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E6D-2ECB-4A79-A589-10F0DA6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8F6-5870-4329-967C-0E7CA7B1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E51-DD5E-4541-95B3-FC05D50E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726-6AC2-4482-9CDE-07201FC7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809-1C19-4B29-90C6-F96CC640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372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372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AF0-F02A-46E0-88BC-29160735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FD5-45D6-4009-B884-A9FB6E87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E30-71C9-47B3-A5CC-EB7B4760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B10-BA8E-42D3-B175-0E8EDC7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281-CB99-4F7F-A2D1-6A81800C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4A2-0BA6-4070-BF52-4E7ED6EB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94E-AE04-44FA-8C08-804CC0A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483F-0EAF-4C91-991D-461E0608C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poster_wo_titles_3"/>
          <p:cNvPicPr/>
          <p:nvPr/>
        </p:nvPicPr>
        <p:blipFill>
          <a:blip r:embed="rId2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475320" y="6400800"/>
            <a:ext cx="199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ne.Aasnes@rssd.esa.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Cflag_s"/>
          <p:cNvPicPr/>
          <p:nvPr/>
        </p:nvPicPr>
        <p:blipFill>
          <a:blip r:embed="rId3"/>
          <a:stretch/>
        </p:blipFill>
        <p:spPr>
          <a:xfrm>
            <a:off x="3809880" y="228600"/>
            <a:ext cx="487692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lectron beams in a near-Earth reconnection ev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ed observations of cold/hot beam structure on the separ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Åsnes, M. Taylor, C.P. Escoubet, H. Laakso, A. Masson, J. Davies, C. Perry, A. Fazakerley, P. D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53" descr="SC4_event1"/>
          <p:cNvPicPr/>
          <p:nvPr/>
        </p:nvPicPr>
        <p:blipFill>
          <a:blip r:embed="rId1"/>
          <a:stretch/>
        </p:blipFill>
        <p:spPr>
          <a:xfrm>
            <a:off x="433440" y="914400"/>
            <a:ext cx="4054320" cy="5943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828800" y="685800"/>
            <a:ext cx="10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49" descr="SC1_event_detail1"/>
          <p:cNvPicPr/>
          <p:nvPr/>
        </p:nvPicPr>
        <p:blipFill>
          <a:blip r:embed="rId2"/>
          <a:stretch/>
        </p:blipFill>
        <p:spPr>
          <a:xfrm>
            <a:off x="4410000" y="914400"/>
            <a:ext cx="4405320" cy="5943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6019920" y="6858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eparatrix cro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59"/>
          <p:cNvSpPr/>
          <p:nvPr/>
        </p:nvSpPr>
        <p:spPr>
          <a:xfrm>
            <a:off x="6173280" y="49528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60"/>
          <p:cNvSpPr/>
          <p:nvPr/>
        </p:nvSpPr>
        <p:spPr>
          <a:xfrm>
            <a:off x="6019920" y="5638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61"/>
          <p:cNvSpPr/>
          <p:nvPr/>
        </p:nvSpPr>
        <p:spPr>
          <a:xfrm>
            <a:off x="6554160" y="1066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62"/>
          <p:cNvSpPr/>
          <p:nvPr/>
        </p:nvSpPr>
        <p:spPr>
          <a:xfrm>
            <a:off x="2210400" y="14479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63"/>
          <p:cNvSpPr/>
          <p:nvPr/>
        </p:nvSpPr>
        <p:spPr>
          <a:xfrm>
            <a:off x="3124800" y="9144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64"/>
          <p:cNvSpPr/>
          <p:nvPr/>
        </p:nvSpPr>
        <p:spPr>
          <a:xfrm>
            <a:off x="1524600" y="14479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65"/>
          <p:cNvSpPr/>
          <p:nvPr/>
        </p:nvSpPr>
        <p:spPr>
          <a:xfrm>
            <a:off x="3354480" y="495288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66"/>
          <p:cNvSpPr/>
          <p:nvPr/>
        </p:nvSpPr>
        <p:spPr>
          <a:xfrm>
            <a:off x="2438280" y="59436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not 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rix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known” broad counter-streaming cold/hot beam at separ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nergy collimated beam (away from X-line) sometimes extends into cold plasm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7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mated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2590920" y="5668920"/>
            <a:ext cx="327636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nnection out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590920" y="4906800"/>
            <a:ext cx="327636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590920" y="3611520"/>
            <a:ext cx="327636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095880" y="6583320"/>
            <a:ext cx="1524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 flipV="1">
            <a:off x="6095880" y="37638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5869440" y="36878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25560" y="6583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1"/>
          <p:cNvSpPr/>
          <p:nvPr/>
        </p:nvSpPr>
        <p:spPr>
          <a:xfrm>
            <a:off x="6605640" y="3763800"/>
            <a:ext cx="735120" cy="28195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5"/>
          <p:cNvSpPr/>
          <p:nvPr/>
        </p:nvSpPr>
        <p:spPr>
          <a:xfrm flipH="1">
            <a:off x="3352680" y="4906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6"/>
          <p:cNvSpPr/>
          <p:nvPr/>
        </p:nvSpPr>
        <p:spPr>
          <a:xfrm>
            <a:off x="4114800" y="49068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7"/>
          <p:cNvSpPr/>
          <p:nvPr/>
        </p:nvSpPr>
        <p:spPr>
          <a:xfrm>
            <a:off x="3733920" y="46022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8"/>
          <p:cNvSpPr/>
          <p:nvPr/>
        </p:nvSpPr>
        <p:spPr>
          <a:xfrm>
            <a:off x="3276720" y="5973840"/>
            <a:ext cx="2209680" cy="3045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9"/>
          <p:cNvSpPr/>
          <p:nvPr/>
        </p:nvSpPr>
        <p:spPr>
          <a:xfrm>
            <a:off x="7010280" y="4933800"/>
            <a:ext cx="197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e waves (electro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6919560" y="451476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wav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1"/>
          <p:cNvSpPr/>
          <p:nvPr/>
        </p:nvSpPr>
        <p:spPr>
          <a:xfrm flipH="1">
            <a:off x="2437920" y="6583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2516040" y="6521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557280" y="658332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5"/>
          <p:cNvSpPr/>
          <p:nvPr/>
        </p:nvSpPr>
        <p:spPr>
          <a:xfrm flipV="1">
            <a:off x="557280" y="37638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786600" y="6583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3505320" y="4038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imes) Hot collimated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3429000" y="5105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d/Hot broad counterstreaming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050"/>
          <p:cNvSpPr/>
          <p:nvPr/>
        </p:nvSpPr>
        <p:spPr>
          <a:xfrm>
            <a:off x="741240" y="3886200"/>
            <a:ext cx="1179720" cy="268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230760" y="36576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53"/>
          <p:cNvSpPr/>
          <p:nvPr/>
        </p:nvSpPr>
        <p:spPr>
          <a:xfrm rot="16200000">
            <a:off x="2304720" y="60026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54"/>
          <p:cNvSpPr/>
          <p:nvPr/>
        </p:nvSpPr>
        <p:spPr>
          <a:xfrm rot="16200000">
            <a:off x="2104200" y="51357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55"/>
          <p:cNvSpPr/>
          <p:nvPr/>
        </p:nvSpPr>
        <p:spPr>
          <a:xfrm rot="16200000">
            <a:off x="2136600" y="4114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nection event, Sept. 13th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very few reconnection events with full 3D particle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separatrix crossings s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(observations and PIC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 low energy electrons toward X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 high energy electrons away from X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into cold plasma region of high energy collimated electron beam away from X-line (with absence of cold beam toward X-li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Energy beam apparently not accompanied by strong wav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ynop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vestigate high resolution Cluster particle measurements obtained during several crossings of reconnection separatrix on September 13,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 existence of counter-streaming cold+hot electron be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Occasional layer of hot electron beam outside the separatrix (NEW FEATURE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ASYSYM"/>
          <p:cNvPicPr/>
          <p:nvPr/>
        </p:nvPicPr>
        <p:blipFill>
          <a:blip r:embed="rId1"/>
          <a:stretch/>
        </p:blipFill>
        <p:spPr>
          <a:xfrm>
            <a:off x="4343400" y="1066680"/>
            <a:ext cx="5013360" cy="5791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. 13, 2002 reconnecti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located at [-17.6, 2.4, 2.5] 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craft separation: ~400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 mode (full 3D particle distributions per spin ~4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orm event (AL decr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publications on this ev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/PEACE show existence of cold (500 eV) beams toward X-line on PS/Lobe interface (Asano et al. 2006, Adv. Space R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electron moments average j -&gt; reversal from neutral sheet to lobe - consistent with Hall current (only on earthward side of X-line) (Alexeev et al. 2005, Geophys. Res. Lett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 flipV="1">
            <a:off x="60958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00240" y="3805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. 13, 2002 reconnecti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3200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pacecraft located within PS as event init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connection signature (Tailward flow) at 18: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nection separatrix crossings tailward of X-line 18:09-18:12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rix crossings Earthward of X-line 18:18 - 18:26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7"/>
          <p:cNvGrpSpPr/>
          <p:nvPr/>
        </p:nvGrpSpPr>
        <p:grpSpPr>
          <a:xfrm>
            <a:off x="3200400" y="1905120"/>
            <a:ext cx="2939760" cy="1675800"/>
            <a:chOff x="3200400" y="1905120"/>
            <a:chExt cx="2939760" cy="1675800"/>
          </a:xfrm>
        </p:grpSpPr>
        <p:sp>
          <p:nvSpPr>
            <p:cNvPr id="105" name="Freeform 2"/>
            <p:cNvSpPr/>
            <p:nvPr/>
          </p:nvSpPr>
          <p:spPr>
            <a:xfrm>
              <a:off x="3290040" y="2581920"/>
              <a:ext cx="1601280" cy="9990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3310920" y="2414520"/>
              <a:ext cx="2802960" cy="1130040"/>
            </a:xfrm>
            <a:prstGeom prst="pie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"/>
            <p:cNvSpPr/>
            <p:nvPr/>
          </p:nvSpPr>
          <p:spPr>
            <a:xfrm>
              <a:off x="3200400" y="2268720"/>
              <a:ext cx="2918880" cy="959040"/>
            </a:xfrm>
            <a:prstGeom prst="pie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4"/>
            <p:cNvSpPr/>
            <p:nvPr/>
          </p:nvSpPr>
          <p:spPr>
            <a:xfrm>
              <a:off x="3323880" y="2580480"/>
              <a:ext cx="1617120" cy="9471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5"/>
            <p:cNvSpPr/>
            <p:nvPr/>
          </p:nvSpPr>
          <p:spPr>
            <a:xfrm>
              <a:off x="3336480" y="2423160"/>
              <a:ext cx="2768040" cy="7682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6"/>
            <p:cNvSpPr/>
            <p:nvPr/>
          </p:nvSpPr>
          <p:spPr>
            <a:xfrm>
              <a:off x="3336480" y="2271600"/>
              <a:ext cx="2744280" cy="556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7"/>
            <p:cNvSpPr/>
            <p:nvPr/>
          </p:nvSpPr>
          <p:spPr>
            <a:xfrm>
              <a:off x="3310920" y="1905120"/>
              <a:ext cx="2791800" cy="1052280"/>
            </a:xfrm>
            <a:prstGeom prst="pie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8"/>
            <p:cNvSpPr/>
            <p:nvPr/>
          </p:nvSpPr>
          <p:spPr>
            <a:xfrm>
              <a:off x="4324320" y="3241800"/>
              <a:ext cx="164880" cy="84240"/>
            </a:xfrm>
            <a:prstGeom prst="can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9"/>
            <p:cNvSpPr/>
            <p:nvPr/>
          </p:nvSpPr>
          <p:spPr>
            <a:xfrm>
              <a:off x="3862440" y="2662560"/>
              <a:ext cx="180720" cy="1033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>
              <a:off x="4324320" y="2745720"/>
              <a:ext cx="174240" cy="806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31"/>
            <p:cNvSpPr/>
            <p:nvPr/>
          </p:nvSpPr>
          <p:spPr>
            <a:xfrm>
              <a:off x="4785840" y="2828520"/>
              <a:ext cx="180720" cy="1029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2"/>
            <p:cNvSpPr/>
            <p:nvPr/>
          </p:nvSpPr>
          <p:spPr>
            <a:xfrm>
              <a:off x="4532760" y="1918440"/>
              <a:ext cx="160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8:08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3"/>
            <p:cNvSpPr/>
            <p:nvPr/>
          </p:nvSpPr>
          <p:spPr>
            <a:xfrm>
              <a:off x="3323880" y="3076560"/>
              <a:ext cx="716400" cy="496080"/>
            </a:xfrm>
            <a:prstGeom prst="rightArrow">
              <a:avLst>
                <a:gd name="adj1" fmla="val 50000"/>
                <a:gd name="adj2" fmla="val 36103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8"/>
          <p:cNvGrpSpPr/>
          <p:nvPr/>
        </p:nvGrpSpPr>
        <p:grpSpPr>
          <a:xfrm>
            <a:off x="5105520" y="3505320"/>
            <a:ext cx="3047400" cy="1751400"/>
            <a:chOff x="5105520" y="3505320"/>
            <a:chExt cx="3047400" cy="1751400"/>
          </a:xfrm>
        </p:grpSpPr>
        <p:sp>
          <p:nvSpPr>
            <p:cNvPr id="119" name="Text Box 48"/>
            <p:cNvSpPr/>
            <p:nvPr/>
          </p:nvSpPr>
          <p:spPr>
            <a:xfrm>
              <a:off x="5139360" y="3520440"/>
              <a:ext cx="301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8:09 - 18:12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85"/>
            <p:cNvGrpSpPr/>
            <p:nvPr/>
          </p:nvGrpSpPr>
          <p:grpSpPr>
            <a:xfrm>
              <a:off x="5105520" y="3505320"/>
              <a:ext cx="2867040" cy="1751400"/>
              <a:chOff x="5105520" y="3505320"/>
              <a:chExt cx="2867040" cy="1751400"/>
            </a:xfrm>
          </p:grpSpPr>
          <p:sp>
            <p:nvSpPr>
              <p:cNvPr id="121" name="Freeform 38"/>
              <p:cNvSpPr/>
              <p:nvPr/>
            </p:nvSpPr>
            <p:spPr>
              <a:xfrm>
                <a:off x="5105520" y="4115160"/>
                <a:ext cx="2836800" cy="1019880"/>
              </a:xfrm>
              <a:prstGeom prst="pie">
                <a:avLst/>
              </a:prstGeom>
              <a:solidFill>
                <a:srgbClr val="ff00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9"/>
              <p:cNvSpPr/>
              <p:nvPr/>
            </p:nvSpPr>
            <p:spPr>
              <a:xfrm>
                <a:off x="5135760" y="3931200"/>
                <a:ext cx="2823480" cy="822600"/>
              </a:xfrm>
              <a:prstGeom prst="pie">
                <a:avLst/>
              </a:prstGeom>
              <a:solidFill>
                <a:srgbClr val="ff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0"/>
              <p:cNvSpPr/>
              <p:nvPr/>
            </p:nvSpPr>
            <p:spPr>
              <a:xfrm>
                <a:off x="5135760" y="3505320"/>
                <a:ext cx="2809800" cy="1051560"/>
              </a:xfrm>
              <a:prstGeom prst="pie">
                <a:avLst/>
              </a:prstGeom>
              <a:solidFill>
                <a:srgbClr val="0000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1"/>
              <p:cNvSpPr/>
              <p:nvPr/>
            </p:nvSpPr>
            <p:spPr>
              <a:xfrm flipV="1">
                <a:off x="5135760" y="3931200"/>
                <a:ext cx="2836800" cy="64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2"/>
              <p:cNvSpPr/>
              <p:nvPr/>
            </p:nvSpPr>
            <p:spPr>
              <a:xfrm flipV="1">
                <a:off x="5135760" y="4115160"/>
                <a:ext cx="2836800" cy="63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3"/>
              <p:cNvGrpSpPr/>
              <p:nvPr/>
            </p:nvGrpSpPr>
            <p:grpSpPr>
              <a:xfrm>
                <a:off x="5863680" y="4205880"/>
                <a:ext cx="1288800" cy="732960"/>
                <a:chOff x="5863680" y="4205880"/>
                <a:chExt cx="1288800" cy="732960"/>
              </a:xfrm>
            </p:grpSpPr>
            <p:sp>
              <p:nvSpPr>
                <p:cNvPr id="127" name="AutoShape 44"/>
                <p:cNvSpPr/>
                <p:nvPr/>
              </p:nvSpPr>
              <p:spPr>
                <a:xfrm>
                  <a:off x="6396120" y="4845600"/>
                  <a:ext cx="204840" cy="9324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45"/>
                <p:cNvSpPr/>
                <p:nvPr/>
              </p:nvSpPr>
              <p:spPr>
                <a:xfrm>
                  <a:off x="5863680" y="4205880"/>
                  <a:ext cx="223920" cy="114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AutoShape 46"/>
                <p:cNvSpPr/>
                <p:nvPr/>
              </p:nvSpPr>
              <p:spPr>
                <a:xfrm>
                  <a:off x="6396120" y="4297320"/>
                  <a:ext cx="216360" cy="892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47"/>
                <p:cNvSpPr/>
                <p:nvPr/>
              </p:nvSpPr>
              <p:spPr>
                <a:xfrm>
                  <a:off x="6928560" y="4388760"/>
                  <a:ext cx="223920" cy="11376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AutoShape 50"/>
              <p:cNvSpPr/>
              <p:nvPr/>
            </p:nvSpPr>
            <p:spPr>
              <a:xfrm>
                <a:off x="5135760" y="4708800"/>
                <a:ext cx="885600" cy="547920"/>
              </a:xfrm>
              <a:prstGeom prst="rightArrow">
                <a:avLst>
                  <a:gd name="adj1" fmla="val 50000"/>
                  <a:gd name="adj2" fmla="val 40407"/>
                </a:avLst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57"/>
          <p:cNvSpPr/>
          <p:nvPr/>
        </p:nvSpPr>
        <p:spPr>
          <a:xfrm>
            <a:off x="66294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:18-18:26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3"/>
          <p:cNvGrpSpPr/>
          <p:nvPr/>
        </p:nvGrpSpPr>
        <p:grpSpPr>
          <a:xfrm>
            <a:off x="6552720" y="5334120"/>
            <a:ext cx="2439000" cy="1523880"/>
            <a:chOff x="6552720" y="5334120"/>
            <a:chExt cx="2439000" cy="1523880"/>
          </a:xfrm>
        </p:grpSpPr>
        <p:sp>
          <p:nvSpPr>
            <p:cNvPr id="134" name="Freeform 51"/>
            <p:cNvSpPr/>
            <p:nvPr/>
          </p:nvSpPr>
          <p:spPr>
            <a:xfrm flipH="1">
              <a:off x="6553080" y="5334120"/>
              <a:ext cx="2438640" cy="990360"/>
            </a:xfrm>
            <a:prstGeom prst="pie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2"/>
            <p:cNvSpPr/>
            <p:nvPr/>
          </p:nvSpPr>
          <p:spPr>
            <a:xfrm flipH="1">
              <a:off x="6552360" y="5943600"/>
              <a:ext cx="2406600" cy="8352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3"/>
            <p:cNvSpPr/>
            <p:nvPr/>
          </p:nvSpPr>
          <p:spPr>
            <a:xfrm flipH="1">
              <a:off x="6552360" y="5791320"/>
              <a:ext cx="2395800" cy="647640"/>
            </a:xfrm>
            <a:prstGeom prst="pie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4"/>
            <p:cNvSpPr/>
            <p:nvPr/>
          </p:nvSpPr>
          <p:spPr>
            <a:xfrm flipH="1" flipV="1">
              <a:off x="6553080" y="5790960"/>
              <a:ext cx="243864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5"/>
            <p:cNvSpPr/>
            <p:nvPr/>
          </p:nvSpPr>
          <p:spPr>
            <a:xfrm flipH="1" flipV="1">
              <a:off x="6553080" y="5943600"/>
              <a:ext cx="243864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58"/>
            <p:cNvGrpSpPr/>
            <p:nvPr/>
          </p:nvGrpSpPr>
          <p:grpSpPr>
            <a:xfrm>
              <a:off x="6781680" y="5867280"/>
              <a:ext cx="956880" cy="774360"/>
              <a:chOff x="6781680" y="5867280"/>
              <a:chExt cx="956880" cy="774360"/>
            </a:xfrm>
          </p:grpSpPr>
          <p:sp>
            <p:nvSpPr>
              <p:cNvPr id="140" name="AutoShape 59"/>
              <p:cNvSpPr/>
              <p:nvPr/>
            </p:nvSpPr>
            <p:spPr>
              <a:xfrm>
                <a:off x="7176960" y="6543360"/>
                <a:ext cx="152280" cy="98280"/>
              </a:xfrm>
              <a:prstGeom prst="can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60"/>
              <p:cNvSpPr/>
              <p:nvPr/>
            </p:nvSpPr>
            <p:spPr>
              <a:xfrm>
                <a:off x="6781680" y="5867280"/>
                <a:ext cx="165960" cy="120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61"/>
              <p:cNvSpPr/>
              <p:nvPr/>
            </p:nvSpPr>
            <p:spPr>
              <a:xfrm>
                <a:off x="7176960" y="5963760"/>
                <a:ext cx="160560" cy="943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62"/>
              <p:cNvSpPr/>
              <p:nvPr/>
            </p:nvSpPr>
            <p:spPr>
              <a:xfrm>
                <a:off x="7572600" y="6060600"/>
                <a:ext cx="165960" cy="120240"/>
              </a:xfrm>
              <a:prstGeom prst="can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63"/>
            <p:cNvSpPr/>
            <p:nvPr/>
          </p:nvSpPr>
          <p:spPr>
            <a:xfrm flipH="1">
              <a:off x="8430480" y="6276960"/>
              <a:ext cx="460440" cy="581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83"/>
          <p:cNvGrpSpPr/>
          <p:nvPr/>
        </p:nvGrpSpPr>
        <p:grpSpPr>
          <a:xfrm>
            <a:off x="27000" y="0"/>
            <a:ext cx="4011120" cy="1904760"/>
            <a:chOff x="27000" y="0"/>
            <a:chExt cx="4011120" cy="1904760"/>
          </a:xfrm>
        </p:grpSpPr>
        <p:sp>
          <p:nvSpPr>
            <p:cNvPr id="146" name="Rectangle 5"/>
            <p:cNvSpPr/>
            <p:nvPr/>
          </p:nvSpPr>
          <p:spPr>
            <a:xfrm>
              <a:off x="645840" y="172800"/>
              <a:ext cx="2584800" cy="692640"/>
            </a:xfrm>
            <a:prstGeom prst="rect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645840" y="1298880"/>
              <a:ext cx="2584800" cy="60588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645840" y="865440"/>
              <a:ext cx="2584800" cy="43308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645840" y="864000"/>
              <a:ext cx="2584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1695960" y="1645200"/>
              <a:ext cx="186480" cy="88200"/>
            </a:xfrm>
            <a:prstGeom prst="can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"/>
            <p:cNvSpPr/>
            <p:nvPr/>
          </p:nvSpPr>
          <p:spPr>
            <a:xfrm>
              <a:off x="1292400" y="865440"/>
              <a:ext cx="203040" cy="10836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1"/>
            <p:cNvSpPr/>
            <p:nvPr/>
          </p:nvSpPr>
          <p:spPr>
            <a:xfrm>
              <a:off x="1776960" y="952200"/>
              <a:ext cx="196560" cy="8460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84560" y="1645200"/>
              <a:ext cx="2746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0280" y="7794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1374840" y="9522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2424600" y="9522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1954440" y="12988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567360" y="860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fore 18:07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67360" y="1298880"/>
              <a:ext cx="136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utralSh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645840" y="51948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0"/>
            <p:cNvSpPr/>
            <p:nvPr/>
          </p:nvSpPr>
          <p:spPr>
            <a:xfrm>
              <a:off x="2261520" y="1038960"/>
              <a:ext cx="203040" cy="1080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1"/>
            <p:cNvSpPr/>
            <p:nvPr/>
          </p:nvSpPr>
          <p:spPr>
            <a:xfrm>
              <a:off x="27000" y="1472040"/>
              <a:ext cx="58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 flipV="1">
              <a:off x="3230640" y="86040"/>
              <a:ext cx="0" cy="15588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6"/>
            <p:cNvSpPr/>
            <p:nvPr/>
          </p:nvSpPr>
          <p:spPr>
            <a:xfrm>
              <a:off x="3258000" y="0"/>
              <a:ext cx="57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4"/>
            <p:cNvSpPr/>
            <p:nvPr/>
          </p:nvSpPr>
          <p:spPr>
            <a:xfrm>
              <a:off x="3311280" y="865440"/>
              <a:ext cx="0" cy="77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5"/>
            <p:cNvSpPr/>
            <p:nvPr/>
          </p:nvSpPr>
          <p:spPr>
            <a:xfrm>
              <a:off x="3311280" y="952200"/>
              <a:ext cx="72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 4000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90"/>
          <p:cNvSpPr/>
          <p:nvPr/>
        </p:nvSpPr>
        <p:spPr>
          <a:xfrm>
            <a:off x="4268880" y="5486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1"/>
          <p:cNvSpPr/>
          <p:nvPr/>
        </p:nvSpPr>
        <p:spPr>
          <a:xfrm flipV="1">
            <a:off x="4724280" y="4572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2"/>
          <p:cNvSpPr/>
          <p:nvPr/>
        </p:nvSpPr>
        <p:spPr>
          <a:xfrm>
            <a:off x="4724280" y="5410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3" descr="Event_overview1"/>
          <p:cNvPicPr/>
          <p:nvPr/>
        </p:nvPicPr>
        <p:blipFill>
          <a:blip r:embed="rId1"/>
          <a:stretch/>
        </p:blipFill>
        <p:spPr>
          <a:xfrm>
            <a:off x="0" y="42840"/>
            <a:ext cx="5281560" cy="7043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4120" y="304560"/>
            <a:ext cx="3504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486400" y="1981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10080" y="914400"/>
            <a:ext cx="358164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focus on several crossings of interface between hot and cold plasma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t (Central Plasma sh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e=1-2 keV, n=0.2-0.3/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 ion bulk flow (tailward, then earth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sotropic or slightly bidirectional elec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Boundary (“PSBL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Intermediate Te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Flat top or peaked, bidirectional/streaming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ld (Lo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e=200-300 eV, n=0.07-0.1/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lmost isotropic, slightly bidirectional elec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s this an open field line reg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160" y="152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160" y="13716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160" y="2590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2160" y="3733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3581280" y="762120"/>
            <a:ext cx="1828800" cy="129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 flipH="1" flipV="1">
            <a:off x="2590560" y="1828440"/>
            <a:ext cx="28191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 flipH="1" flipV="1">
            <a:off x="3885840" y="3200040"/>
            <a:ext cx="1600200" cy="685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0"/>
          <p:cNvSpPr/>
          <p:nvPr/>
        </p:nvSpPr>
        <p:spPr>
          <a:xfrm flipH="1">
            <a:off x="3200400" y="3886200"/>
            <a:ext cx="228600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 flipV="1">
            <a:off x="1752480" y="2133360"/>
            <a:ext cx="3657600" cy="2895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"/>
          <p:cNvSpPr/>
          <p:nvPr/>
        </p:nvSpPr>
        <p:spPr>
          <a:xfrm flipH="1" flipV="1">
            <a:off x="3352320" y="4495680"/>
            <a:ext cx="205740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PIC)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64832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5183280" y="175248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hino et al., JGR, 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electron distributions depending on location relative to X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Outside separatrix -&gt; cold beam toward X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Separatrix -&gt; hot electrons escaping from X-line, cold electrons “sucked 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&amp; d) Inside plasmoid -&gt; toward a hot, isotropic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atch with Geotail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nection separ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between reconnected and pre-reconnected field 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density dip, intense E-field, wave activity, electron b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vent: Density drop observed on approx. half the separatrix crossings between hot/cold plasma - small guide field (3 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Cattel_densitydrop"/>
          <p:cNvPicPr/>
          <p:nvPr/>
        </p:nvPicPr>
        <p:blipFill>
          <a:blip r:embed="rId1"/>
          <a:stretch/>
        </p:blipFill>
        <p:spPr>
          <a:xfrm rot="5400000">
            <a:off x="5995080" y="3709080"/>
            <a:ext cx="3886200" cy="2411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7848720" y="622296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ell et al. JG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781320" y="475128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guid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V="1">
            <a:off x="7086600" y="43941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8077320" y="38098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guid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8686800" y="431784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6" descr="reconnection_manapat"/>
          <p:cNvPicPr/>
          <p:nvPr/>
        </p:nvPicPr>
        <p:blipFill>
          <a:blip r:embed="rId2"/>
          <a:stretch/>
        </p:blipFill>
        <p:spPr>
          <a:xfrm>
            <a:off x="0" y="3657600"/>
            <a:ext cx="6553080" cy="3035160"/>
          </a:xfrm>
          <a:prstGeom prst="rect">
            <a:avLst/>
          </a:prstGeom>
          <a:ln w="0">
            <a:noFill/>
          </a:ln>
        </p:spPr>
      </p:pic>
      <p:sp>
        <p:nvSpPr>
          <p:cNvPr id="197" name="Line 18"/>
          <p:cNvSpPr/>
          <p:nvPr/>
        </p:nvSpPr>
        <p:spPr>
          <a:xfrm flipV="1">
            <a:off x="4572000" y="3733560"/>
            <a:ext cx="0" cy="2819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 flipV="1">
            <a:off x="4572000" y="342864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4572000" y="6553080"/>
            <a:ext cx="2209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67" descr="Event_overview1"/>
          <p:cNvPicPr/>
          <p:nvPr/>
        </p:nvPicPr>
        <p:blipFill>
          <a:blip r:embed="rId1"/>
          <a:stretch/>
        </p:blipFill>
        <p:spPr>
          <a:xfrm>
            <a:off x="3240" y="588960"/>
            <a:ext cx="4944960" cy="6008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0"/>
          <p:cNvSpPr/>
          <p:nvPr/>
        </p:nvSpPr>
        <p:spPr>
          <a:xfrm>
            <a:off x="1676520" y="4648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d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297800" y="64008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min 30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2"/>
          <p:cNvSpPr/>
          <p:nvPr/>
        </p:nvSpPr>
        <p:spPr>
          <a:xfrm flipH="1">
            <a:off x="701640" y="6657840"/>
            <a:ext cx="61272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4"/>
          <p:cNvSpPr/>
          <p:nvPr/>
        </p:nvSpPr>
        <p:spPr>
          <a:xfrm flipH="1">
            <a:off x="3047760" y="6629400"/>
            <a:ext cx="99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51"/>
          <p:cNvSpPr/>
          <p:nvPr/>
        </p:nvSpPr>
        <p:spPr>
          <a:xfrm>
            <a:off x="1828800" y="5334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52"/>
          <p:cNvSpPr/>
          <p:nvPr/>
        </p:nvSpPr>
        <p:spPr>
          <a:xfrm flipH="1">
            <a:off x="19807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53"/>
          <p:cNvSpPr/>
          <p:nvPr/>
        </p:nvSpPr>
        <p:spPr>
          <a:xfrm flipH="1">
            <a:off x="1905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54"/>
          <p:cNvSpPr/>
          <p:nvPr/>
        </p:nvSpPr>
        <p:spPr>
          <a:xfrm>
            <a:off x="685800" y="114300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IES 50-97 k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65"/>
          <p:cNvSpPr/>
          <p:nvPr/>
        </p:nvSpPr>
        <p:spPr>
          <a:xfrm>
            <a:off x="379080" y="152280"/>
            <a:ext cx="47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 Separatrix crossing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68" descr="sc2_spec3"/>
          <p:cNvPicPr/>
          <p:nvPr/>
        </p:nvPicPr>
        <p:blipFill>
          <a:blip r:embed="rId2"/>
          <a:stretch/>
        </p:blipFill>
        <p:spPr>
          <a:xfrm>
            <a:off x="5270400" y="152280"/>
            <a:ext cx="3873600" cy="3500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69" descr="sc2_spec7"/>
          <p:cNvPicPr/>
          <p:nvPr/>
        </p:nvPicPr>
        <p:blipFill>
          <a:blip r:embed="rId3"/>
          <a:stretch/>
        </p:blipFill>
        <p:spPr>
          <a:xfrm>
            <a:off x="5257800" y="3346560"/>
            <a:ext cx="3886200" cy="3511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70"/>
          <p:cNvSpPr/>
          <p:nvPr/>
        </p:nvSpPr>
        <p:spPr>
          <a:xfrm>
            <a:off x="5943600" y="11430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d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71"/>
          <p:cNvSpPr/>
          <p:nvPr/>
        </p:nvSpPr>
        <p:spPr>
          <a:xfrm>
            <a:off x="8153280" y="11430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72"/>
          <p:cNvSpPr/>
          <p:nvPr/>
        </p:nvSpPr>
        <p:spPr>
          <a:xfrm flipV="1">
            <a:off x="6324480" y="6858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73"/>
          <p:cNvSpPr/>
          <p:nvPr/>
        </p:nvSpPr>
        <p:spPr>
          <a:xfrm>
            <a:off x="8305920" y="1752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74"/>
          <p:cNvSpPr/>
          <p:nvPr/>
        </p:nvSpPr>
        <p:spPr>
          <a:xfrm flipH="1">
            <a:off x="7696080" y="1371600"/>
            <a:ext cx="4572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76"/>
          <p:cNvSpPr/>
          <p:nvPr/>
        </p:nvSpPr>
        <p:spPr>
          <a:xfrm>
            <a:off x="8077320" y="43434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77"/>
          <p:cNvSpPr/>
          <p:nvPr/>
        </p:nvSpPr>
        <p:spPr>
          <a:xfrm>
            <a:off x="8380440" y="48751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78"/>
          <p:cNvSpPr/>
          <p:nvPr/>
        </p:nvSpPr>
        <p:spPr>
          <a:xfrm flipH="1">
            <a:off x="7695720" y="4572000"/>
            <a:ext cx="38124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79"/>
          <p:cNvSpPr/>
          <p:nvPr/>
        </p:nvSpPr>
        <p:spPr>
          <a:xfrm>
            <a:off x="6021720" y="277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80"/>
          <p:cNvSpPr/>
          <p:nvPr/>
        </p:nvSpPr>
        <p:spPr>
          <a:xfrm>
            <a:off x="6021720" y="59720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81"/>
          <p:cNvSpPr/>
          <p:nvPr/>
        </p:nvSpPr>
        <p:spPr>
          <a:xfrm>
            <a:off x="1906920" y="5810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82"/>
          <p:cNvSpPr/>
          <p:nvPr/>
        </p:nvSpPr>
        <p:spPr>
          <a:xfrm>
            <a:off x="2592720" y="5810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83"/>
          <p:cNvSpPr/>
          <p:nvPr/>
        </p:nvSpPr>
        <p:spPr>
          <a:xfrm rot="5391600">
            <a:off x="3610800" y="2028240"/>
            <a:ext cx="136836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CE      Field al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84"/>
          <p:cNvSpPr/>
          <p:nvPr/>
        </p:nvSpPr>
        <p:spPr>
          <a:xfrm rot="5385000">
            <a:off x="3494880" y="3593880"/>
            <a:ext cx="160020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CE Perpend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86"/>
          <p:cNvSpPr/>
          <p:nvPr/>
        </p:nvSpPr>
        <p:spPr>
          <a:xfrm>
            <a:off x="4030560" y="47894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3"/>
          <p:cNvSpPr/>
          <p:nvPr/>
        </p:nvSpPr>
        <p:spPr>
          <a:xfrm>
            <a:off x="6608880" y="-901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Hoshino_separatrix_dist"/>
          <p:cNvPicPr/>
          <p:nvPr/>
        </p:nvPicPr>
        <p:blipFill>
          <a:blip r:embed="rId1"/>
          <a:stretch/>
        </p:blipFill>
        <p:spPr>
          <a:xfrm>
            <a:off x="228600" y="3505320"/>
            <a:ext cx="2573280" cy="3352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1"/>
          <p:cNvSpPr/>
          <p:nvPr/>
        </p:nvSpPr>
        <p:spPr>
          <a:xfrm>
            <a:off x="6550560" y="342900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, 18:10:52-18:10:56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52" descr="slice2"/>
          <p:cNvPicPr/>
          <p:nvPr/>
        </p:nvPicPr>
        <p:blipFill>
          <a:blip r:embed="rId2"/>
          <a:stretch/>
        </p:blipFill>
        <p:spPr>
          <a:xfrm>
            <a:off x="6019920" y="37339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53" descr="slice1"/>
          <p:cNvPicPr/>
          <p:nvPr/>
        </p:nvPicPr>
        <p:blipFill>
          <a:blip r:embed="rId3"/>
          <a:stretch/>
        </p:blipFill>
        <p:spPr>
          <a:xfrm>
            <a:off x="3124080" y="3692520"/>
            <a:ext cx="3165480" cy="3165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578760" y="3429000"/>
            <a:ext cx="195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, 18:10:36-18:10:40 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 in beam 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56"/>
          <p:cNvSpPr/>
          <p:nvPr/>
        </p:nvSpPr>
        <p:spPr>
          <a:xfrm>
            <a:off x="457200" y="3200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model separatrix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57"/>
          <p:cNvSpPr/>
          <p:nvPr/>
        </p:nvSpPr>
        <p:spPr>
          <a:xfrm>
            <a:off x="6631920" y="320040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imated hot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58"/>
          <p:cNvSpPr/>
          <p:nvPr/>
        </p:nvSpPr>
        <p:spPr>
          <a:xfrm>
            <a:off x="3657600" y="3200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Counter-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of separatrix beam fits well with PIC model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of separatrix beam is coll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2:21:41Z</dcterms:created>
  <dc:creator>Arne Åsnes</dc:creator>
  <dc:description/>
  <dc:language>en-US</dc:language>
  <cp:lastModifiedBy>Arne Åsnes</cp:lastModifiedBy>
  <dcterms:modified xsi:type="dcterms:W3CDTF">2008-08-27T08:04:56Z</dcterms:modified>
  <cp:revision>60</cp:revision>
  <dc:subject/>
  <dc:title>Reconnection electrons</dc:title>
</cp:coreProperties>
</file>