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63A1-68E6-4712-883E-17C3877DC5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5E15-95A3-49DC-AF2C-96E26930B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2B51-52C9-40B1-9E08-A94551295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A57F4-279B-4B82-8584-31D70350B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E5965-AF06-4EC9-A5A8-4324E72AA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D6142-D1D8-41B6-B0E1-F4269EC48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2C10-E2F0-43A4-80AE-56B3FF1E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F314-B8CA-4D72-B266-9A8D5FBAF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3F96-9818-435C-9195-88451C0E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C093-37A1-4CD5-B3CA-203A6743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7725-56C8-411E-B132-3B990D6B0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502B-DD48-402A-A5CC-6FE04FD5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DD92-2246-4FEE-B211-6645E7F2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432D-F284-4C15-AF32-C86A15C84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7963-A92C-4B30-B628-581C00DD6DD9}" type="datetime5">
              <a:rPr b="0" lang="en-GB" sz="1400" spc="-1" strike="noStrike">
                <a:solidFill>
                  <a:srgbClr val="000000"/>
                </a:solidFill>
                <a:latin typeface="Times New Roman"/>
              </a:rPr>
              <a:t>30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5F18-1BA0-42D5-9CD9-69D441FE57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