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A2F-DFEA-497A-83D7-0393203E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ED8-B4E2-4333-B076-811848D3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27D-6AA4-4BB7-BC42-EB7A5091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46C-A9BE-49BB-B714-C29B3C08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D421-0222-46A1-8E36-AC6A450D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4B8-D990-4074-AF6F-8B8F957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E013-53AC-47E0-93C4-6FB84D7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BD07-8EAB-4926-8837-CAB96E3E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8FF4-0796-44EE-8630-EC367262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ACFA-CCEF-4E1E-AEBA-217F3DF1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89F-908A-4781-A264-4E9E598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5D8-D02D-42B5-9471-01F6D245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D850-59D4-425E-8266-52F28B8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2CA-3570-48C1-B353-027AB11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DD89-FD7D-4935-9D74-47A5279E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CB86-E5CC-40E7-9225-EB8CC959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FD29-566E-4C1F-9AF1-899FD74F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1E5-C304-45DA-BDFD-EB546E92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E3D-0D17-46BA-8C5F-41388BB8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CDB-BFC3-4354-B827-0F7921A3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392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96D-2BB3-4404-9C64-ED15580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C36-A2F5-4C8F-9099-D2997F21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4AF-61F1-46BB-B7B3-B991951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668-3BC3-46A8-8DA7-580BC2E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392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5A5485-9E87-407A-826C-7F66C16605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4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5BE4C-5B74-4626-A755-AD6273BB5E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1225440"/>
            <a:ext cx="56959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.T.M. Peters (1, 2), B.H. Foing (1)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) ESTEC – RSSD, 2) VU University Amsterd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tudy of lunar circular basins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Isostasy and flexure of mascon reg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023840" y="2448000"/>
            <a:ext cx="7129440" cy="3779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95480" y="2592360"/>
            <a:ext cx="7056360" cy="3532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447920" y="6364440"/>
            <a:ext cx="800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 Department Science Workshop, ESA / ESTEC, 29 August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mascon under Mare Serenitatis"/>
          <p:cNvPicPr/>
          <p:nvPr/>
        </p:nvPicPr>
        <p:blipFill>
          <a:blip r:embed="rId1"/>
          <a:stretch/>
        </p:blipFill>
        <p:spPr>
          <a:xfrm>
            <a:off x="3886200" y="3809880"/>
            <a:ext cx="3657600" cy="30178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-76320" y="762120"/>
            <a:ext cx="3810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s of excess positive gravity anomalies, result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) disruption of the lithosphere by basin forming impacts that triggered isostatic uplift of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07884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4200" indent="0" algn="ctr">
              <a:lnSpc>
                <a:spcPct val="100000"/>
              </a:lnSpc>
              <a:buNone/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Origin of masc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3733920"/>
            <a:ext cx="1752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pography and gravity data for Mare Serenitatis from Lunar Prospector data taken from www.daviddarling.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3886200" y="838080"/>
            <a:ext cx="5219640" cy="26100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09880" y="34290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Zuber et al., 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-76320" y="38862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high density of mare basalts that filled the bas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44640"/>
            <a:ext cx="92962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14200" indent="-214200" algn="ctr">
              <a:lnSpc>
                <a:spcPct val="100000"/>
              </a:lnSpc>
              <a:tabLst>
                <a:tab algn="l" pos="0"/>
                <a:tab algn="l" pos="214200"/>
                <a:tab algn="l" pos="1128600"/>
                <a:tab algn="l" pos="2043000"/>
                <a:tab algn="l" pos="2957400"/>
                <a:tab algn="l" pos="3871800"/>
                <a:tab algn="l" pos="4786200"/>
                <a:tab algn="l" pos="5700600"/>
                <a:tab algn="l" pos="6615000"/>
                <a:tab algn="l" pos="7529400"/>
                <a:tab algn="l" pos="8443800"/>
                <a:tab algn="l" pos="9358200"/>
                <a:tab algn="l" pos="102726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Times New Roman"/>
              </a:rPr>
              <a:t>Compensation rate of the mascon: a function of lithospheric thick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52480"/>
            <a:ext cx="3276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static compensation rates depend on thickness of the lithosphere and are hence coupled with its variations through time due to planetary cool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50292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Sugano and Heki,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124080" y="1474920"/>
            <a:ext cx="5943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-685800" y="75960"/>
            <a:ext cx="10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tion of the lithosphere by flexure and faul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9907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20600" y="914400"/>
            <a:ext cx="5137200" cy="1263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6840" y="2438280"/>
            <a:ext cx="5178600" cy="4237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5415120" y="3678120"/>
            <a:ext cx="3657600" cy="2951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34120" y="838080"/>
            <a:ext cx="3809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cons act like a dense load on the lunar lithosphere and flexure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tresses related to flexure exceed the crustal yield strength, fault systems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2133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Peters et al.,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6629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Arkani-Hamed, 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655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Melosh, 197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-36360" y="-216000"/>
            <a:ext cx="968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ck of gravity anomalies for S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79280" y="846000"/>
            <a:ext cx="4032360" cy="2765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179280" y="3727440"/>
            <a:ext cx="4032360" cy="2749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-53352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320" y="6507000"/>
            <a:ext cx="1159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Figures show South Pole Aitken topography (km) and Free Air anomalies (mgal) respectively and were taken from Arkani-Hamed (1998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17524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guer anomalies imply isostatic compen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3124080"/>
            <a:ext cx="3809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in agreement with age indications of the basi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(Head et al., 1993) that imply a much older basin age than for other mascons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Font typeface="Arial"/>
              <a:buChar char="►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46520" y="-380880"/>
            <a:ext cx="951876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oject outline, methods and temporarily resul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480060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90520" y="3048120"/>
            <a:ext cx="2638440" cy="25146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276720" y="45720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Project outl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Verify flexure profiles with COBRA for models resulting from new data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mith et 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1997); GLTM2C);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Konopliv 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(2001); LP150Q) and different crustal structure mode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rientation and location of different fault patterns that are predicted by the model with those observed on SMART-1 AMIE images and geological ma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l compensation for SPA for early crustal conditions: Can the lack of gravity anomalies fully be attributed to isostasy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st fluidization hypothesis for explanation of surrounding rings with negative anoma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3062160" y="3305160"/>
            <a:ext cx="60055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apt software for lunar conditions and define model parameters (e.g. elastic properties, material densities, size and depth of the subloads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profiles along basins, select related gravity and topography data from database (Wieckzorek, 2006) and plot mascon induced flex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D finite element modeling for interactions of flexure for different mas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5715000"/>
            <a:ext cx="8839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Times New Roman"/>
              </a:rPr>
              <a:t>Temporarily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Font typeface="Arial"/>
              <a:buChar char="►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e Humorum: Concentric graben match predicted fault pattern. Annulus zone of strike-slip is poorly developed because of failure criteria, probably as well as the inner zone of thrust faults, which is not observed at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54864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eters et al.,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 Peters</dc:creator>
  <dc:description/>
  <dc:language>en-US</dc:language>
  <cp:lastModifiedBy>IT Servicedesk</cp:lastModifiedBy>
  <dcterms:modified xsi:type="dcterms:W3CDTF">2008-08-27T18:34:17Z</dcterms:modified>
  <cp:revision>4</cp:revision>
  <dc:subject/>
  <dc:title>Slide 1</dc:title>
</cp:coreProperties>
</file>