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335-A20D-4A62-9EEB-5FC941F5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975-A406-4E47-8B1A-D2BA7B96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39E-ABF0-4746-BBBA-A7CEEE92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354-D60A-47DA-8065-2EA3F7EA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8481-5E1E-4451-B99F-70F38787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C20-56E5-4DD2-A4D8-EA48281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DEF-7DDF-4E9E-9F84-BB553B53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05E-5EB6-417E-A2BB-E4E174C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19B8-47BF-4FAD-92D2-20006F62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11CB-62A2-4289-A504-D5C9385D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2F01-6E55-42C2-BB95-21791FD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61C-322C-4298-93B0-5904E06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B833-0EA9-4878-95A1-DC0739F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9DAD-94D5-4E87-A5BE-90A3555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F778-9F2B-4618-85F8-8F399ED4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0901-BBA3-4138-9995-9F715422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5E5-01A3-4F42-8C89-D357C455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5B2-0208-43E2-91E6-9D76515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07F-76C4-4A2A-BBB8-FF88D98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385-1503-4CB2-A8DB-A661E989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911-363E-429C-BEA5-37C35A8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166-AB27-4A22-BA8D-2A8459D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7C0-2D11-4760-8196-E7B54B0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25C-424A-4178-BDA9-B75B4B09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C657FD-9C1A-4E64-BF43-E978B1CBB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25894-4046-4D06-B41F-A60AA32D70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225440"/>
            <a:ext cx="5695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.T.M. Peters (1, 2), B.H. Foing (1)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) ESTEC – RSSD, 2) VU University Amsterd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tudy of lunar circular basin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sostasy and flexure of mascon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23840" y="2448000"/>
            <a:ext cx="7129440" cy="3779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095480" y="2592360"/>
            <a:ext cx="7056360" cy="3532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447920" y="636444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 Department Science Workshop, ESA / ESTEC, 29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mascon under Mare Serenitatis"/>
          <p:cNvPicPr/>
          <p:nvPr/>
        </p:nvPicPr>
        <p:blipFill>
          <a:blip r:embed="rId1"/>
          <a:stretch/>
        </p:blipFill>
        <p:spPr>
          <a:xfrm>
            <a:off x="3886200" y="3809880"/>
            <a:ext cx="3657600" cy="3017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-76320" y="762120"/>
            <a:ext cx="381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s of excess positive gravity anomalies, result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disruption of the lithosphere by basin forming impacts that triggered isostatic uplift of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0788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00000"/>
              </a:lnSpc>
              <a:buNone/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Origin of masc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3733920"/>
            <a:ext cx="1752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pography and gravity data for Mare Serenitatis from Lunar Prospector data taken from www.daviddarling.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219640" cy="2610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80988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Zuber et al.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76320" y="3886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high density of mare basalts that filled the bas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44640"/>
            <a:ext cx="929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4200" indent="-214200" algn="ctr">
              <a:lnSpc>
                <a:spcPct val="100000"/>
              </a:lnSpc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ompensation rate of the mascon: a function of lithospheric thic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524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static compensation rates depend on thickness of the lithosphere and are hence coupled with its variations through time due to planetary coo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50292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ugano and Heki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24080" y="1474920"/>
            <a:ext cx="594360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-685800" y="75960"/>
            <a:ext cx="10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tion of the lithosphere by flexure and faul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9907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20600" y="914400"/>
            <a:ext cx="5137200" cy="1263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6840" y="2438280"/>
            <a:ext cx="5178600" cy="4237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415120" y="3678120"/>
            <a:ext cx="3657600" cy="2951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334120" y="838080"/>
            <a:ext cx="3809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cons act like a dense load on the lunar lithosphere and flexure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tresses related to flexure exceed the crustal yield strength, fault systems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Peters et al.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629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Arkani-Hamed,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Melosh, 19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36360" y="-216000"/>
            <a:ext cx="968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ck of gravity anomalies for S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846000"/>
            <a:ext cx="4032360" cy="2765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79280" y="3727440"/>
            <a:ext cx="4032360" cy="2749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-53352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20" y="6507000"/>
            <a:ext cx="115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Figures show South Pole Aitken topography (km) and Free Air anomalies (mgal) respectively and were taken from Arkani-Hamed (1998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17524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guer anomalies imply isostatic comp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31240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n agreement with age indications of the basin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(Head et al., 1993) that imply a much older basin age than for other mascons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46520" y="-380880"/>
            <a:ext cx="95187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ject outline, methods and temporarily resul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80060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0520" y="3048120"/>
            <a:ext cx="2638440" cy="2514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276720" y="45720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Project out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ify flexure profiles with COBRA for models resulting from new data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mith et al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1997); GLTM2C);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onopliv 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(2001); LP150Q) and different crustal structure mod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rientation and location of different fault patterns that are predicted by the model with those observed on SMART-1 AMIE images and geological ma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l compensation for SPA for early crustal conditions: Can the lack of gravity anomalies fully be attributed to isostas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st fluidization hypothesis for explanation of surrounding rings with negative anoma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062160" y="3305160"/>
            <a:ext cx="60055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apt software for lunar conditions and define model parameters (e.g. elastic properties, material densities, size and depth of the subloads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profiles along basins, select related gravity and topography data from database (Wieckzorek, 2006) and plot mascon induced flex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D finite element modeling for interactions of flexure for different mas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57150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Temporarily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e Humorum: Concentric graben match predicted fault pattern. Annulus zone of strike-slip is poorly developed because of failure criteria, probably as well as the inner zone of thrust faults, which is not observed at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54864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eters et al.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 Peters</dc:creator>
  <dc:description/>
  <dc:language>en-US</dc:language>
  <cp:lastModifiedBy>IT Servicedesk</cp:lastModifiedBy>
  <dcterms:modified xsi:type="dcterms:W3CDTF">2008-08-27T18:34:17Z</dcterms:modified>
  <cp:revision>4</cp:revision>
  <dc:subject/>
  <dc:title>Slide 1</dc:title>
</cp:coreProperties>
</file>