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B3E-FAD6-4A07-8244-8B67B6661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B27B-0E3F-46E5-8E18-E32BA40D8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5600" y="585720"/>
            <a:ext cx="3911760" cy="29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2080" y="3714840"/>
            <a:ext cx="4979880" cy="35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the purpose of this work, the sample has been divid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 the luminosity distribution plot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ources have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included, while they have been in the numbers on the right. Tha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t looks as if the numbers on the right do not match the entri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sources here are prior to the analysis. Some are lef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analysis starts cause of the cut in the number of d.o.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the NC (Not Classified) sources ar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58B-3F0D-4406-A3FF-ED2DD841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84E-11D3-4E8C-B46C-C67AF73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DF3-413B-4952-BEDC-00E1C23F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560-3CCD-458B-A9F8-3131E753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161-B1C2-486F-BE0F-786BA0B7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FF6-34D3-422F-B2D0-70D4C563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287-B48F-4B56-9374-67A8961A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0E2-2077-46BF-B0B7-2057E09E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75F-25A8-4C17-A653-82D60D0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5AB-C88F-48E4-9A0D-2239717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000-3575-4237-8643-EAC95AA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715-BFAF-44F8-85CF-1D63DA9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BA93-DA0F-4FC1-8C76-801067D43464}" type="datetime5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E705-B6F8-4F83-A927-69A48E62F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6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ERO:                           Finding Extreme Relativistic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na Lia Longinotti                                        ESAC- European Space Astronomy Centre Madrid,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4056120"/>
            <a:ext cx="274320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648320"/>
            <a:ext cx="86104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Main Collabora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Guainazzi, I. de la Calle (ESAC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. Bianchi  (Universita’ degli Studi di Roma Tre, 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Dovciak (Astronomical Institute, Academy of Science, Prague Czech Re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7925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roduction on Broad Iron lines in Active Nuclei :     why this work  i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cription of the method:  the sample, the  models, spectral fitting, results on lines de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rend of Fe line intensity with physical quantities of the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in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Disc parameters versus Line 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8006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CG-6-30-15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28±0.10 NGC3783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70+0.09/-0.15  NGC3227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1.87±0.54  MRK766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11+1.66/-0.75 NGC4051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89±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76720" y="43434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IC4329A          i=28 +6/-11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NCG3227         i=23 ±4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 MCG-5-23-16  i=20+8/-3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ESO511-G030 i=17±7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NGC4593         i=18+17/-4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MRK766          i=36±2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MRK335          i=24±10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NGC4051         i=22±6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CG-6-30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= 0.53+0.09/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14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Radial dependence for disc emissiv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j </a:t>
            </a:r>
            <a:r>
              <a:rPr b="1" lang="en-GB" sz="1800" spc="-1" strike="noStrike">
                <a:solidFill>
                  <a:srgbClr val="dc1145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 r</a:t>
            </a:r>
            <a:r>
              <a:rPr b="1" lang="en-GB" sz="1800" spc="-1" strike="noStrike" baseline="30000">
                <a:solidFill>
                  <a:srgbClr val="dc1145"/>
                </a:solidFill>
                <a:latin typeface="Times New Roman"/>
              </a:rPr>
              <a:t>-</a:t>
            </a:r>
            <a:r>
              <a:rPr b="1" lang="en-GB" sz="1800" spc="-1" strike="noStrike" baseline="30000">
                <a:solidFill>
                  <a:srgbClr val="dc1145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68240" y="9907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pin of the blac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990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c inclination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715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gt;=3.1±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37160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i&gt;=23±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29528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W versus source physical properties: any dependen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648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              Black Hol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4197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accre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65% of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4724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57524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X-ray (2-10 keV) Luminosit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l sour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598840" cy="259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597040" cy="259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21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Main 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6765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often relativistic broadening  appears in AGN spect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167652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s there any relation with disc parameters or source propert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495680"/>
            <a:ext cx="426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8% of the full sample 149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35% of the Flux-Limited samp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6483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No obvious relation found from ou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381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57600" y="4038120"/>
            <a:ext cx="569880" cy="15264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100000">
            <a:off x="4667760" y="4094280"/>
            <a:ext cx="569880" cy="152280"/>
          </a:xfrm>
          <a:prstGeom prst="leftArrow">
            <a:avLst>
              <a:gd name="adj1" fmla="val 50000"/>
              <a:gd name="adj2" fmla="val 935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 detailed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295280"/>
            <a:ext cx="4496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ll sample 12/14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lux Limited sample: 11/31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ean EW=63±4 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detection  EW&gt; 250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trend with dis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990720"/>
            <a:ext cx="3124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are  weak and not ubiquit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No evidence of extreme relativistic lines (&lt;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gt; ~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bserved mainly for disc inclinations i~30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1337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219320"/>
            <a:ext cx="4267440" cy="2361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62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analysis of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581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 stacked spectra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267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evident trend wit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 BH  mass or L/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Ed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; detections concentrated in low luminosity sources but photon statistics still not sufficient for hig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L objects appear to have broad line EW higher than B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191120"/>
            <a:ext cx="4267080" cy="243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9528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350532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not related to physical parameters of the source, although QSO show weaker lines than 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ntriguing and possible  intrinsic difference between NL and BL sources need to be investigated in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181840" cy="464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3330360" cy="373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4572000" y="4114440"/>
            <a:ext cx="2590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680"/>
            <a:ext cx="8361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GN: the central region</a:t>
            </a:r>
            <a:r>
              <a:rPr b="0" lang="en-GB" sz="3200" spc="-1" strike="noStrike">
                <a:solidFill>
                  <a:srgbClr val="000000"/>
                </a:solidFill>
                <a:latin typeface="Chalkboard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95680" y="4191120"/>
            <a:ext cx="25909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61722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From Urry &amp; Padov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Physics: Fe K emission in A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916360"/>
            <a:ext cx="4724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Neutral 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6.4 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7.06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Torus Compton Reflection,   </a:t>
            </a:r>
            <a:r>
              <a:rPr b="0" i="1" lang="en-GB" sz="1800" spc="-1" strike="noStrike">
                <a:solidFill>
                  <a:srgbClr val="ff473b"/>
                </a:solidFill>
                <a:latin typeface="Times New Roman"/>
              </a:rPr>
              <a:t>(Krolik&amp;Kallman 87,George &amp;Fabian 91, Ghisellini+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45ff"/>
                </a:solidFill>
                <a:latin typeface="Times New Roman"/>
              </a:rPr>
              <a:t>Fe XXV            6.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f727"/>
                </a:solidFill>
                <a:latin typeface="Times New Roman"/>
              </a:rPr>
              <a:t>Fe XXVI          6.9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ircumnuclear warm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Bianchi+ 05, Yaqoob+ 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 K transitions give rise to prominent fluorescence lines in AGN spectr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1523880"/>
            <a:ext cx="3809880" cy="4667400"/>
            <a:chOff x="4952880" y="1523880"/>
            <a:chExt cx="3809880" cy="46674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186880" y="1573200"/>
              <a:ext cx="3268080" cy="37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857640" y="1523880"/>
              <a:ext cx="0" cy="66276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6400" y="2186640"/>
              <a:ext cx="0" cy="757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03200" y="2375640"/>
              <a:ext cx="0" cy="56772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0400" y="2470680"/>
              <a:ext cx="0" cy="567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5320" y="5121720"/>
              <a:ext cx="3727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dc1145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Xmm-Newton EPIC data Seyfert 1 Galaxy Mrk 590 (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Longinotti+ 2007, A&amp;A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915400" cy="624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more Physics: relativistic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12880" y="209556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952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f emission  comes from inner dis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lativistic effects  should modify line profile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(Fabian+ 02, Reynolds &amp; Nowak 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59720" y="6019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1dd5"/>
                </a:solidFill>
                <a:latin typeface="Times New Roman"/>
              </a:rPr>
              <a:t>NOT ALWAY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6040" y="1704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c2ff"/>
                </a:solidFill>
                <a:latin typeface="Times New Roman"/>
              </a:rPr>
              <a:t>appro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9880" y="4651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000" y="16034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473b"/>
                </a:solidFill>
                <a:latin typeface="Times New Roman"/>
              </a:rPr>
              <a:t>Rec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680" y="3584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12408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62720" y="1219320"/>
            <a:ext cx="3200400" cy="4660920"/>
            <a:chOff x="5562720" y="1219320"/>
            <a:chExt cx="3200400" cy="46609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715000" y="3452760"/>
              <a:ext cx="2819520" cy="24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32004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553080" y="2210040"/>
              <a:ext cx="762120" cy="495360"/>
            </a:xfrm>
            <a:custGeom>
              <a:avLst/>
              <a:gdLst/>
              <a:ahLst/>
              <a:rect l="l" t="t" r="r" b="b"/>
              <a:pathLst>
                <a:path w="480" h="312">
                  <a:moveTo>
                    <a:pt x="480" y="0"/>
                  </a:moveTo>
                  <a:cubicBezTo>
                    <a:pt x="465" y="72"/>
                    <a:pt x="458" y="147"/>
                    <a:pt x="392" y="192"/>
                  </a:cubicBezTo>
                  <a:cubicBezTo>
                    <a:pt x="377" y="213"/>
                    <a:pt x="377" y="220"/>
                    <a:pt x="352" y="232"/>
                  </a:cubicBezTo>
                  <a:cubicBezTo>
                    <a:pt x="336" y="238"/>
                    <a:pt x="304" y="248"/>
                    <a:pt x="304" y="248"/>
                  </a:cubicBezTo>
                  <a:cubicBezTo>
                    <a:pt x="269" y="245"/>
                    <a:pt x="234" y="245"/>
                    <a:pt x="200" y="240"/>
                  </a:cubicBezTo>
                  <a:cubicBezTo>
                    <a:pt x="183" y="237"/>
                    <a:pt x="152" y="224"/>
                    <a:pt x="152" y="224"/>
                  </a:cubicBezTo>
                  <a:cubicBezTo>
                    <a:pt x="138" y="226"/>
                    <a:pt x="96" y="230"/>
                    <a:pt x="80" y="240"/>
                  </a:cubicBezTo>
                  <a:cubicBezTo>
                    <a:pt x="63" y="249"/>
                    <a:pt x="32" y="272"/>
                    <a:pt x="32" y="272"/>
                  </a:cubicBezTo>
                  <a:cubicBezTo>
                    <a:pt x="11" y="302"/>
                    <a:pt x="22" y="289"/>
                    <a:pt x="0" y="31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12956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MCG-6-30-15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9280" y="358164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NCG 7469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1752840"/>
              <a:ext cx="16002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9920" y="41911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Some Histo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05272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Fig.2_Streblyanska_2004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2052720" cy="166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124080"/>
            <a:ext cx="4267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Streblyanska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XMM-New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Lockman Hole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faint sour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W~50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F=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5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-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3 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rgs/s/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39895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38 XMM-Newton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PG QSO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Broad lines fraction &lt;10%</a:t>
            </a:r>
            <a:r>
              <a:rPr b="0" lang="en-GB" sz="2000" spc="-1" strike="noStrike">
                <a:solidFill>
                  <a:srgbClr val="000000"/>
                </a:solidFill>
                <a:latin typeface="Lucida Handwriting"/>
              </a:rPr>
              <a:t>                          </a:t>
            </a:r>
            <a:r>
              <a:rPr b="0" lang="en-GB" sz="2000" spc="-1" strike="noStrike">
                <a:solidFill>
                  <a:srgbClr val="13c2ff"/>
                </a:solidFill>
                <a:latin typeface="Lucida Handwriting"/>
              </a:rPr>
              <a:t>Jimenez-Bailon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25146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Very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in </a:t>
            </a: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ASCA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39 AGNs: ~ 7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Sy1 &amp; QSO)</a:t>
            </a:r>
            <a:r>
              <a:rPr b="0" lang="en-GB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Nandra+ 97</a:t>
            </a:r>
            <a:r>
              <a:rPr b="0" lang="en-GB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MM 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1080" y="1523880"/>
            <a:ext cx="42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CG-6-30-1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Wilms+ 0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Fabian+ 02, 03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3516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Turner+ 02, 0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rk 33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Longinotti+ 07, O’Neill+07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405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ounds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8325-5926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Iwasawa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3349+2438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Longinotti+ 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H 0707-495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Fabian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25+267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Miniutti &amp; Fabian 06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Q0056-363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Porquet &amp; Reeves 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02+26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Reeves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U 1344-60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iconcelli+ 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562720"/>
            <a:ext cx="388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ple of bright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XMM Sy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:    30-40% require relativistic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fbfb"/>
                </a:solidFill>
                <a:latin typeface="Times New Roman"/>
              </a:rPr>
              <a:t>Nandra+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52880" y="838080"/>
            <a:ext cx="4190760" cy="4724280"/>
            <a:chOff x="4952880" y="838080"/>
            <a:chExt cx="4190760" cy="4724280"/>
          </a:xfrm>
        </p:grpSpPr>
        <p:sp>
          <p:nvSpPr>
            <p:cNvPr id="103" name=""/>
            <p:cNvSpPr/>
            <p:nvPr/>
          </p:nvSpPr>
          <p:spPr>
            <a:xfrm>
              <a:off x="4952880" y="838080"/>
              <a:ext cx="4114800" cy="472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760" y="914040"/>
              <a:ext cx="3809880" cy="44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eting model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lex l.o.s. absorption with high Nh and Ion (NGC3783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Reeves+04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, MGC-6, NGC3516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Turner+08, Miller+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Blending of ionised Fe lines can easily be mis-interpreted as broad residuals (NGC7314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Yaqoob+03, Bianchi+05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752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53452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car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obe of strong gravity and accretion flow in innermost region of AGN (and Galactic Black Hole Candidates): diagnostic of accretion disc structure (extension, ionisation state), potential to measure black holes spin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Fabian+02, Reynolds &amp; Nowak 03, Miller 07)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ery common feature in ASCA spectra, not as common in XMM-Newton and Chandra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280" y="3733920"/>
            <a:ext cx="3886200" cy="1523880"/>
            <a:chOff x="152280" y="3733920"/>
            <a:chExt cx="3886200" cy="1523880"/>
          </a:xfrm>
        </p:grpSpPr>
        <p:sp>
          <p:nvSpPr>
            <p:cNvPr id="110" name=""/>
            <p:cNvSpPr/>
            <p:nvPr/>
          </p:nvSpPr>
          <p:spPr>
            <a:xfrm>
              <a:off x="152280" y="3733920"/>
              <a:ext cx="3886200" cy="1523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380988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How often relativistic broadening  appears in AGN spectr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29000" y="5562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3809880"/>
            <a:ext cx="3886200" cy="1524240"/>
            <a:chOff x="4876920" y="3809880"/>
            <a:chExt cx="3886200" cy="1524240"/>
          </a:xfrm>
        </p:grpSpPr>
        <p:sp>
          <p:nvSpPr>
            <p:cNvPr id="114" name=""/>
            <p:cNvSpPr/>
            <p:nvPr/>
          </p:nvSpPr>
          <p:spPr>
            <a:xfrm>
              <a:off x="4876920" y="3809880"/>
              <a:ext cx="3886200" cy="1524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809880"/>
              <a:ext cx="3581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s there any relation with disc parameters or source properties?</a:t>
              </a:r>
              <a:r>
                <a:rPr b="0" lang="en-GB" sz="2400" spc="-1" strike="noStrike">
                  <a:solidFill>
                    <a:srgbClr val="000000"/>
                  </a:solidFill>
                  <a:latin typeface="Chalkboar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62320" y="5410080"/>
            <a:ext cx="76176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5410080"/>
            <a:ext cx="76212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172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Finding Extreme Relativistic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37160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840" y="18900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: Sample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9160" y="1447920"/>
            <a:ext cx="3247560" cy="2620080"/>
            <a:chOff x="-29160" y="1447920"/>
            <a:chExt cx="3247560" cy="2620080"/>
          </a:xfrm>
        </p:grpSpPr>
        <p:grpSp>
          <p:nvGrpSpPr>
            <p:cNvPr id="122" name=""/>
            <p:cNvGrpSpPr/>
            <p:nvPr/>
          </p:nvGrpSpPr>
          <p:grpSpPr>
            <a:xfrm>
              <a:off x="1249920" y="3299040"/>
              <a:ext cx="983880" cy="391680"/>
              <a:chOff x="1249920" y="3299040"/>
              <a:chExt cx="983880" cy="391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9920" y="3322440"/>
                <a:ext cx="98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Tahoma"/>
                  </a:rPr>
                  <a:t>77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 Q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7200" y="3299040"/>
                <a:ext cx="84456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-29160" y="2557800"/>
              <a:ext cx="1227600" cy="398880"/>
              <a:chOff x="-29160" y="2557800"/>
              <a:chExt cx="1227600" cy="398880"/>
            </a:xfrm>
          </p:grpSpPr>
          <p:sp>
            <p:nvSpPr>
              <p:cNvPr id="126" name=""/>
              <p:cNvSpPr/>
              <p:nvPr/>
            </p:nvSpPr>
            <p:spPr>
              <a:xfrm>
                <a:off x="-29160" y="255780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996600"/>
                    </a:solidFill>
                    <a:latin typeface="Tahoma"/>
                  </a:rPr>
                  <a:t>161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G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558520"/>
                <a:ext cx="103788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51880" y="2928240"/>
              <a:ext cx="866520" cy="1139760"/>
              <a:chOff x="2351880" y="2928240"/>
              <a:chExt cx="866520" cy="11397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351880" y="2928240"/>
                <a:ext cx="866520" cy="398880"/>
                <a:chOff x="2351880" y="2928240"/>
                <a:chExt cx="866520" cy="3988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51880" y="292824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ff00"/>
                      </a:solidFill>
                      <a:latin typeface="Tahoma"/>
                    </a:rPr>
                    <a:t>15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4400" y="292824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354400" y="3297600"/>
                <a:ext cx="844920" cy="401040"/>
                <a:chOff x="2354400" y="3297600"/>
                <a:chExt cx="844920" cy="401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354400" y="329976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ahoma"/>
                    </a:rPr>
                    <a:t>33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54400" y="3297600"/>
                  <a:ext cx="84492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54040" y="3668400"/>
                <a:ext cx="844920" cy="399600"/>
                <a:chOff x="2354040" y="3668400"/>
                <a:chExt cx="844920" cy="399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358360" y="366912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2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54040" y="3668400"/>
                  <a:ext cx="84492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2337480" y="1447920"/>
              <a:ext cx="866520" cy="1135440"/>
              <a:chOff x="2337480" y="1447920"/>
              <a:chExt cx="866520" cy="1135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337480" y="1447920"/>
                <a:ext cx="866520" cy="398880"/>
                <a:chOff x="2337480" y="1447920"/>
                <a:chExt cx="866520" cy="39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337480" y="144792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ahoma"/>
                    </a:rPr>
                    <a:t>17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54040" y="1447920"/>
                  <a:ext cx="84456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346840" y="1817280"/>
                <a:ext cx="851760" cy="401040"/>
                <a:chOff x="2346840" y="1817280"/>
                <a:chExt cx="851760" cy="401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346840" y="181944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9999"/>
                      </a:solidFill>
                      <a:latin typeface="Tahoma"/>
                    </a:rPr>
                    <a:t>28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54400" y="1817280"/>
                  <a:ext cx="84420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354400" y="2184480"/>
                <a:ext cx="844200" cy="398880"/>
                <a:chOff x="2354400" y="2184480"/>
                <a:chExt cx="844200" cy="398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363760" y="218448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3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54400" y="218772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483120" y="1976760"/>
              <a:ext cx="7239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3120" y="2875680"/>
              <a:ext cx="7837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112120" y="3086640"/>
              <a:ext cx="241920" cy="740160"/>
              <a:chOff x="2112120" y="3086640"/>
              <a:chExt cx="241920" cy="74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112120" y="345744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112120" y="308664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12120" y="345744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112120" y="1605600"/>
              <a:ext cx="241920" cy="740160"/>
              <a:chOff x="2112120" y="1605600"/>
              <a:chExt cx="241920" cy="740160"/>
            </a:xfrm>
          </p:grpSpPr>
          <p:sp>
            <p:nvSpPr>
              <p:cNvPr id="155" name=""/>
              <p:cNvSpPr/>
              <p:nvPr/>
            </p:nvSpPr>
            <p:spPr>
              <a:xfrm>
                <a:off x="2112120" y="197640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112120" y="160560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12120" y="197640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07080" y="1818360"/>
              <a:ext cx="905040" cy="401040"/>
              <a:chOff x="1207080" y="1818360"/>
              <a:chExt cx="905040" cy="40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269360" y="1820520"/>
                <a:ext cx="8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9999"/>
                    </a:solidFill>
                    <a:latin typeface="Tahoma"/>
                  </a:rPr>
                  <a:t>84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S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07080" y="1818360"/>
                <a:ext cx="905040" cy="31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6934320" y="4952880"/>
            <a:ext cx="2209680" cy="1905120"/>
            <a:chOff x="6934320" y="4952880"/>
            <a:chExt cx="2209680" cy="19051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934320" y="495288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789320" y="5282280"/>
              <a:ext cx="10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58% z &lt;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88% z &lt;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6600" y="297180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l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6600" y="213372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g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5909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6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WHM H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9112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ontinuing studies on this s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IT effect (X-ray Baldw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on narrow Fe K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07, A&amp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X-ray general proper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(CAIXA project, Catalogue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GN In XMM-Newton Archive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in p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Times New Roman"/>
              </a:rPr>
              <a:t>Collaboration: I. De La Calle, S.Bianchi, M.Guainazzi, M.Dovci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1143000"/>
            <a:ext cx="54100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1 Radio-quiet type 1 AGN  N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 2-3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21 XMM-Newton pointed target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(public up to March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xposures    1- 400 ks (90% &lt; 100 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nly EPIC-p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ltiple observations combined if:             same XMM observing mode, F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-10keV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and photon index agree within errors (22 sourc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e-analysis cut: only source spectra with    &gt;17 d.o.f  are f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t done in the 2 – 10 keV res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e model applied to the whole sample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62520" y="4959360"/>
            <a:ext cx="2057400" cy="1898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105520"/>
            <a:ext cx="114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    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lt;L</a:t>
            </a:r>
            <a:r>
              <a:rPr b="1" lang="en-GB" sz="1400" spc="-1" strike="noStrike" baseline="-25000">
                <a:solidFill>
                  <a:srgbClr val="ff2700"/>
                </a:solidFill>
                <a:latin typeface="Times New Roman"/>
                <a:ea typeface="Times New Roman"/>
              </a:rPr>
              <a:t>x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10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44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erg s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1066680"/>
            <a:ext cx="3644640" cy="2514240"/>
            <a:chOff x="5105520" y="1066680"/>
            <a:chExt cx="3644640" cy="25142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105520" y="1105200"/>
              <a:ext cx="3644640" cy="24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515200" y="1066680"/>
              <a:ext cx="87732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6400" y="1219320"/>
            <a:ext cx="2666880" cy="2057400"/>
          </a:xfrm>
          <a:prstGeom prst="rect">
            <a:avLst/>
          </a:prstGeom>
          <a:solidFill>
            <a:srgbClr val="cc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3353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4  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  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6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06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imary X-ray powe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arm absorb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mpton Reflection (cold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 narrow Fe K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82880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X-ray nuclear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line of sight ionised ga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Crenshaw+03)</a:t>
            </a: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molecular toru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Krolik+87,Ghisellini+9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circumnuclear material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Bianchi+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Accretion disc line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Fabian+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57200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ull relativistic treatment of accretion disc line:  kyrline  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(Dov</a:t>
            </a:r>
            <a:r>
              <a:rPr b="0" i="1" lang="en-GB" sz="2000" spc="-1" strike="noStrike">
                <a:solidFill>
                  <a:srgbClr val="ffff00"/>
                </a:solidFill>
                <a:latin typeface="Times CE"/>
                <a:ea typeface="Times New Roman"/>
              </a:rPr>
              <a:t>č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iak+ 04)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962520"/>
            <a:ext cx="6098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048120" y="3886200"/>
            <a:ext cx="1676160" cy="76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84520" y="5715000"/>
            <a:ext cx="198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thematica1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onised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5680" y="3048120"/>
            <a:ext cx="441972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943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Results on Flux-Limited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90720"/>
            <a:ext cx="84582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ithin our collection of archival AGN, we are building a flux-limited sample aiming at including all sources above 1ct/s (3-8 keV) in RXTE Slew Survey (Revnivtsev+ 04) that follow the criteria of radio-quietness and Nh used to select the initial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3 sources in XSS with these characteristics                                                    31 are already in XMM archive (and in our analysis):  </a:t>
            </a:r>
            <a:r>
              <a:rPr b="1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12408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etections rate: 11/31   (3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ercentage of EW &lt;100 eV :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 (weighted mean)=64±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=110±7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594216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tection      upper limit (90% c.l.)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2700"/>
                </a:solidFill>
                <a:latin typeface="Times New Roman"/>
              </a:rPr>
              <a:t>above 1ct/s in XSS </a:t>
            </a:r>
            <a:r>
              <a:rPr b="0" i="1" lang="en-GB" sz="1800" spc="-1" strike="noStrike">
                <a:solidFill>
                  <a:srgbClr val="ff2700"/>
                </a:solidFill>
                <a:latin typeface="Times New Roman"/>
              </a:rPr>
              <a:t>(Revnivtsev+ 04)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60199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22:21:47Z</dcterms:created>
  <dc:creator>Anna Lia Longinotti</dc:creator>
  <dc:description/>
  <dc:language>en-US</dc:language>
  <cp:lastModifiedBy>Anna Lia Longinotti</cp:lastModifiedBy>
  <dcterms:modified xsi:type="dcterms:W3CDTF">2008-08-27T13:10:28Z</dcterms:modified>
  <cp:revision>405</cp:revision>
  <dc:subject/>
  <dc:title>PowerPoint Presentation</dc:title>
</cp:coreProperties>
</file>