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E105F-5756-4CF4-A415-0EE62BE288F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45558-8F2D-4A3A-B724-FC5A2224315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55600" y="585720"/>
            <a:ext cx="3911760" cy="29336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22080" y="3714840"/>
            <a:ext cx="4979880" cy="35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 the purpose of this work, the sample has been divided 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T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In the luminosity distribution plot the 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unknow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sources have no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en included, while they have been in the numbers on the right. That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y it looks as if the numbers on the right do not match the entries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pl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number of sources here are prior to the analysis. Some are left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en the analysis starts cause of the cut in the number of d.o.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so the NC (Not Classified) sources are mi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1EF3-53C0-4501-BBB2-286F3C7F2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4E8A-AADF-4144-B2EA-1ED31B4E4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94E4-9FA7-4D6B-9955-282C5350C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5A83-43D7-4F0E-A4CF-A4A60EE37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5DE5-3ACB-4A4A-90E8-F2C53F7D0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507C-B84F-45F5-B7E2-88E601F86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53FD-F207-4147-BECA-8796A8212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524D-BB1F-4A95-A0AD-F886B40FF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C7CA-39C6-4536-B660-BE63C1FA1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51D4-2B00-4FF1-A589-65574729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F4F4-EF4E-40AD-93A6-48A25120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564C-8A5A-4A50-8A19-A31156B6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E112A-47CC-4269-9A01-4C1E9DEE7C06}" type="datetime5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1 Jul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E324B-E5AF-432D-B5F2-FEC2AC0B837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838080"/>
            <a:ext cx="7683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                       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FERO:                           Finding Extreme Relativistic Objec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281952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Anna Lia Longinotti                                        ESAC- European Space Astronomy Centre Madrid, Sp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971800" y="4056120"/>
            <a:ext cx="2743200" cy="315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04920" y="4648320"/>
            <a:ext cx="8610480" cy="20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imes New Roman"/>
              </a:rPr>
              <a:t>Main Collaborator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M. Guainazzi, I. de la Calle (ESAC)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S. Bianchi  (Universita’ degli Studi di Roma Tre, Ita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M. Dovciak (Astronomical Institute, Academy of Science, Prague Czech Rep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79250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fbf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Introduction on Broad Iron lines in Active Nuclei :     why this work  is import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fbf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Description of the method:  the sample, the  models, spectral fitting, results on lines det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fbf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Trend of Fe line intensity with physical quantities of the sour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fbf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Main resul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Disc parameters versus Line 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2590920" cy="25909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0" y="4800600"/>
            <a:ext cx="3352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MCG-6-30-15  </a:t>
            </a:r>
            <a:r>
              <a:rPr b="1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=3.28±0.10 NGC3783      </a:t>
            </a:r>
            <a:r>
              <a:rPr b="1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=2.70+0.09/-0.15  NGC3227      </a:t>
            </a:r>
            <a:r>
              <a:rPr b="1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=1.87±0.54  MRK766     </a:t>
            </a:r>
            <a:r>
              <a:rPr b="1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=3.11+1.66/-0.75 NGC4051      </a:t>
            </a:r>
            <a:r>
              <a:rPr b="1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=2.89±0.3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3352680" y="1676520"/>
            <a:ext cx="2590920" cy="25905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276720" y="4343400"/>
            <a:ext cx="3200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IC4329A          i=28 +6/-11</a:t>
            </a:r>
            <a:r>
              <a:rPr b="1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 NCG3227         i=23 ±4</a:t>
            </a:r>
            <a:r>
              <a:rPr b="1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       MCG-5-23-16  i=20+8/-3</a:t>
            </a:r>
            <a:r>
              <a:rPr b="1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 ESO511-G030 i=17±7 </a:t>
            </a:r>
            <a:r>
              <a:rPr b="1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  NGC4593         i=18+17/-4 </a:t>
            </a:r>
            <a:r>
              <a:rPr b="1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  MRK766          i=36±2 </a:t>
            </a:r>
            <a:r>
              <a:rPr b="1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     MRK335          i=24±10 </a:t>
            </a:r>
            <a:r>
              <a:rPr b="1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      NGC4051         i=22±6 </a:t>
            </a:r>
            <a:r>
              <a:rPr b="1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6248520" y="1523880"/>
            <a:ext cx="2666880" cy="26672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6553080" y="4343400"/>
            <a:ext cx="221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MCG-6-30-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a= 0.53+0.09/0.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" y="914400"/>
            <a:ext cx="2514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Radial dependence for disc emissivit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dc1145"/>
                </a:solidFill>
                <a:latin typeface="Times New Roman"/>
              </a:rPr>
              <a:t>j </a:t>
            </a:r>
            <a:r>
              <a:rPr b="1" lang="en-GB" sz="1800" spc="-1" strike="noStrike">
                <a:solidFill>
                  <a:srgbClr val="dc1145"/>
                </a:solidFill>
                <a:latin typeface="Symbol"/>
                <a:ea typeface="Symbol"/>
              </a:rPr>
              <a:t></a:t>
            </a:r>
            <a:r>
              <a:rPr b="1" lang="en-GB" sz="1800" spc="-1" strike="noStrike">
                <a:solidFill>
                  <a:srgbClr val="dc1145"/>
                </a:solidFill>
                <a:latin typeface="Times New Roman"/>
              </a:rPr>
              <a:t> r</a:t>
            </a:r>
            <a:r>
              <a:rPr b="1" lang="en-GB" sz="1800" spc="-1" strike="noStrike" baseline="30000">
                <a:solidFill>
                  <a:srgbClr val="dc1145"/>
                </a:solidFill>
                <a:latin typeface="Times New Roman"/>
              </a:rPr>
              <a:t>-</a:t>
            </a:r>
            <a:r>
              <a:rPr b="1" lang="en-GB" sz="1800" spc="-1" strike="noStrike" baseline="30000">
                <a:solidFill>
                  <a:srgbClr val="dc1145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168240" y="990720"/>
            <a:ext cx="25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Spin of the black h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00400" y="9907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Disc inclination ang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553080" y="571500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dc1145"/>
                </a:solidFill>
                <a:latin typeface="Times New Roman"/>
              </a:rPr>
              <a:t>Only “good” detections plot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16765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&lt;</a:t>
            </a:r>
            <a:r>
              <a:rPr b="1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&gt;=3.1±2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14800" y="1371600"/>
            <a:ext cx="16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&lt;i&gt;=23±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5800" y="1600200"/>
            <a:ext cx="1600200" cy="53352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62520" y="1295280"/>
            <a:ext cx="1600200" cy="53352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EW versus source physical properties: any dependence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464832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Fe line EW versus               Black Hole M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76720" y="4419720"/>
            <a:ext cx="281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Fe line EW versus accretion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828800" y="1371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00"/>
                </a:solidFill>
                <a:uFillTx/>
                <a:latin typeface="Times New Roman"/>
              </a:rPr>
              <a:t>65% of the s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0" y="4724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19920" y="457524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Fe line EW versus X-ray (2-10 keV) Luminosity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629400" y="13716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Times New Roman"/>
              </a:rPr>
              <a:t>all sources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2590560" cy="25905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200400" y="1905120"/>
            <a:ext cx="2598840" cy="25984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6172200" y="1905120"/>
            <a:ext cx="2597040" cy="259704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762120" y="586728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dc1145"/>
                </a:solidFill>
                <a:latin typeface="Times New Roman"/>
              </a:rPr>
              <a:t>Only “good” detections plot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Main 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1676520"/>
            <a:ext cx="403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How often relativistic broadening  appears in AGN spectr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724280" y="1676520"/>
            <a:ext cx="4419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Is there any relation with disc parameters or source propertie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09880" y="33526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F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04920" y="4495680"/>
            <a:ext cx="4267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6c2"/>
                </a:solidFill>
                <a:latin typeface="Times New Roman"/>
              </a:rPr>
              <a:t>8% of the full sample 149 sour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6c2"/>
                </a:solidFill>
                <a:latin typeface="Times New Roman"/>
              </a:rPr>
              <a:t>35% of the Flux-Limited sampl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952880" y="4648320"/>
            <a:ext cx="3733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6c2"/>
                </a:solidFill>
                <a:latin typeface="Times New Roman"/>
              </a:rPr>
              <a:t>No obvious relation found from our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2280" y="1676520"/>
            <a:ext cx="8839440" cy="1523880"/>
          </a:xfrm>
          <a:prstGeom prst="rect">
            <a:avLst/>
          </a:prstGeom>
          <a:noFill/>
          <a:ln w="38160">
            <a:solidFill>
              <a:srgbClr val="ffff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18900000">
            <a:off x="3657600" y="4038120"/>
            <a:ext cx="569880" cy="152640"/>
          </a:xfrm>
          <a:prstGeom prst="leftArrow">
            <a:avLst>
              <a:gd name="adj1" fmla="val 50000"/>
              <a:gd name="adj2" fmla="val 9333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14100000">
            <a:off x="4667760" y="4094280"/>
            <a:ext cx="569880" cy="152280"/>
          </a:xfrm>
          <a:prstGeom prst="leftArrow">
            <a:avLst>
              <a:gd name="adj1" fmla="val 50000"/>
              <a:gd name="adj2" fmla="val 9355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FERO detailed conclu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2280" y="1295280"/>
            <a:ext cx="449604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SzPct val="1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Full sample 12/149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SzPct val="1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Flux Limited sample: 11/31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SzPct val="1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Mean EW=63±4 eV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SzPct val="1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No detection  EW&gt; 250 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SzPct val="1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No trend with disc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67280" y="990720"/>
            <a:ext cx="312444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Broad Fe line are  weak and not ubiquito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No evidence of extreme relativistic lines (&lt;</a:t>
            </a:r>
            <a:r>
              <a:rPr b="1" lang="en-GB" sz="20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&gt; ~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Observed mainly for disc inclinations i~30</a:t>
            </a:r>
            <a:r>
              <a:rPr b="1" lang="en-GB" sz="20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95680" y="2133720"/>
            <a:ext cx="1295640" cy="304560"/>
          </a:xfrm>
          <a:prstGeom prst="rightArrow">
            <a:avLst>
              <a:gd name="adj1" fmla="val 50000"/>
              <a:gd name="adj2" fmla="val 1063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52280" y="1219320"/>
            <a:ext cx="4267440" cy="23619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7621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Times New Roman"/>
              </a:rPr>
              <a:t>From analysis of individual sour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2280" y="358128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Times New Roman"/>
              </a:rPr>
              <a:t>From  stacked spectra analysi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" y="4191120"/>
            <a:ext cx="4267080" cy="25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SzPct val="1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No evident trend with L</a:t>
            </a:r>
            <a:r>
              <a:rPr b="1" lang="en-GB" sz="20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, BH  mass or L/L</a:t>
            </a:r>
            <a:r>
              <a:rPr b="1" lang="en-GB" sz="2000" spc="-1" strike="noStrike" baseline="-25000">
                <a:solidFill>
                  <a:srgbClr val="ffffff"/>
                </a:solidFill>
                <a:latin typeface="Times New Roman"/>
              </a:rPr>
              <a:t>Edd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; detections concentrated in low luminosity sources but photon statistics still not sufficient for high L</a:t>
            </a:r>
            <a:r>
              <a:rPr b="1" lang="en-GB" sz="20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SzPct val="1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NL objects appear to have broad line EW higher than BL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8600" y="4191120"/>
            <a:ext cx="4267080" cy="24382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95288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867280" y="3505320"/>
            <a:ext cx="304812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Broad Fe line not related to physical parameters of the source, although QSO show weaker lines than S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Intriguing and possible  intrinsic difference between NL and BL sources need to be investigated in d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2280" y="914400"/>
            <a:ext cx="5181840" cy="4640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3330360" cy="3733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 flipV="1">
            <a:off x="4572000" y="4114440"/>
            <a:ext cx="2590920" cy="68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76680"/>
            <a:ext cx="836136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AGN: the central region</a:t>
            </a:r>
            <a:r>
              <a:rPr b="0" lang="en-GB" sz="3200" spc="-1" strike="noStrike">
                <a:solidFill>
                  <a:srgbClr val="000000"/>
                </a:solidFill>
                <a:latin typeface="Chalkboard"/>
                <a:ea typeface="HG Mincho Light J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HG Mincho Light J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4495680" y="4191120"/>
            <a:ext cx="2590920" cy="121896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638680" y="617220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imes New Roman"/>
              </a:rPr>
              <a:t>From Urry &amp; Padov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8600" y="1371600"/>
            <a:ext cx="8686800" cy="5257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Some Physics: Fe K emission in AG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916360"/>
            <a:ext cx="472464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473b"/>
                </a:solidFill>
                <a:latin typeface="Times New Roman"/>
              </a:rPr>
              <a:t>Neutral Fe K</a:t>
            </a:r>
            <a:r>
              <a:rPr b="1" lang="en-GB" sz="2400" spc="-1" strike="noStrike">
                <a:solidFill>
                  <a:srgbClr val="ff473b"/>
                </a:solidFill>
                <a:latin typeface="Symbol"/>
                <a:ea typeface="Symbol"/>
              </a:rPr>
              <a:t></a:t>
            </a:r>
            <a:r>
              <a:rPr b="1" lang="en-GB" sz="2400" spc="-1" strike="noStrike">
                <a:solidFill>
                  <a:srgbClr val="ff473b"/>
                </a:solidFill>
                <a:latin typeface="Times New Roman"/>
              </a:rPr>
              <a:t>     6.4  k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473b"/>
                </a:solidFill>
                <a:latin typeface="Times New Roman"/>
              </a:rPr>
              <a:t>              </a:t>
            </a:r>
            <a:r>
              <a:rPr b="1" lang="en-GB" sz="2400" spc="-1" strike="noStrike">
                <a:solidFill>
                  <a:srgbClr val="ff473b"/>
                </a:solidFill>
                <a:latin typeface="Times New Roman"/>
              </a:rPr>
              <a:t>Fe K</a:t>
            </a:r>
            <a:r>
              <a:rPr b="1" lang="en-GB" sz="2400" spc="-1" strike="noStrike">
                <a:solidFill>
                  <a:srgbClr val="ff473b"/>
                </a:solidFill>
                <a:latin typeface="Symbol"/>
                <a:ea typeface="Symbol"/>
              </a:rPr>
              <a:t></a:t>
            </a:r>
            <a:r>
              <a:rPr b="1" lang="en-GB" sz="2400" spc="-1" strike="noStrike">
                <a:solidFill>
                  <a:srgbClr val="ff473b"/>
                </a:solidFill>
                <a:latin typeface="Times New Roman"/>
              </a:rPr>
              <a:t>    7.06 k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473b"/>
                </a:solidFill>
                <a:latin typeface="Times New Roman"/>
              </a:rPr>
              <a:t>Torus Compton Reflection,   </a:t>
            </a:r>
            <a:r>
              <a:rPr b="0" i="1" lang="en-GB" sz="1800" spc="-1" strike="noStrike">
                <a:solidFill>
                  <a:srgbClr val="ff473b"/>
                </a:solidFill>
                <a:latin typeface="Times New Roman"/>
              </a:rPr>
              <a:t>(Krolik&amp;Kallman 87,George &amp;Fabian 91, Ghisellini+9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45ff"/>
                </a:solidFill>
                <a:latin typeface="Times New Roman"/>
              </a:rPr>
              <a:t>Fe XXV            6.7 k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9f727"/>
                </a:solidFill>
                <a:latin typeface="Times New Roman"/>
              </a:rPr>
              <a:t>Fe XXVI          6.97 k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circumnuclear warm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Times New Roman"/>
              </a:rPr>
              <a:t>(Bianchi+ 05, Yaqoob+ 0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5238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Fe K transitions give rise to prominent fluorescence lines in AGN spectra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952880" y="1523880"/>
            <a:ext cx="3809880" cy="4667400"/>
            <a:chOff x="4952880" y="1523880"/>
            <a:chExt cx="3809880" cy="4667400"/>
          </a:xfrm>
        </p:grpSpPr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 rot="5400000">
              <a:off x="5186880" y="1573200"/>
              <a:ext cx="3268080" cy="373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6857640" y="1523880"/>
              <a:ext cx="0" cy="662760"/>
            </a:xfrm>
            <a:prstGeom prst="line">
              <a:avLst/>
            </a:prstGeom>
            <a:ln w="19080">
              <a:solidFill>
                <a:srgbClr val="ff754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106400" y="2186640"/>
              <a:ext cx="0" cy="7570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603200" y="2375640"/>
              <a:ext cx="0" cy="567720"/>
            </a:xfrm>
            <a:prstGeom prst="line">
              <a:avLst/>
            </a:prstGeom>
            <a:ln w="19080">
              <a:solidFill>
                <a:srgbClr val="ff754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520400" y="2470680"/>
              <a:ext cx="0" cy="5677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5320" y="5121720"/>
              <a:ext cx="372744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dc1145"/>
                  </a:solidFill>
                  <a:latin typeface="Times New Roman"/>
                </a:rPr>
                <a:t> </a:t>
              </a:r>
              <a:r>
                <a:rPr b="1" lang="en-GB" sz="2000" spc="-1" strike="noStrike">
                  <a:solidFill>
                    <a:srgbClr val="ffffff"/>
                  </a:solidFill>
                  <a:latin typeface="Times New Roman"/>
                </a:rPr>
                <a:t>Xmm-Newton EPIC data Seyfert 1 Galaxy Mrk 590 (</a:t>
              </a:r>
              <a:r>
                <a:rPr b="0" i="1" lang="en-GB" sz="1800" spc="-1" strike="noStrike">
                  <a:solidFill>
                    <a:srgbClr val="ffffff"/>
                  </a:solidFill>
                  <a:latin typeface="Times New Roman"/>
                </a:rPr>
                <a:t>Longinotti+ 2007, A&amp;A</a:t>
              </a:r>
              <a:r>
                <a:rPr b="1" lang="en-GB" sz="20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380880"/>
            <a:ext cx="8915400" cy="6248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Some more Physics: relativistic li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12880" y="2095560"/>
            <a:ext cx="103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733920" y="327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2286000" cy="18288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04920" y="495288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If emission  comes from inner disc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elativistic effects  should modify line profile </a:t>
            </a:r>
            <a:r>
              <a:rPr b="0" i="1" lang="en-GB" sz="1600" spc="-1" strike="noStrike">
                <a:solidFill>
                  <a:srgbClr val="ffffff"/>
                </a:solidFill>
                <a:latin typeface="Times New Roman"/>
              </a:rPr>
              <a:t>(Fabian+ 02, Reynolds &amp; Nowak 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066680" y="2971800"/>
            <a:ext cx="2743200" cy="17240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959720" y="6019920"/>
            <a:ext cx="400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1dd5"/>
                </a:solidFill>
                <a:latin typeface="Times New Roman"/>
              </a:rPr>
              <a:t>NOT ALWAYS OBSER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06040" y="170496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3c2ff"/>
                </a:solidFill>
                <a:latin typeface="Times New Roman"/>
              </a:rPr>
              <a:t>approa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29880" y="465120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3000" y="160344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473b"/>
                </a:solidFill>
                <a:latin typeface="Times New Roman"/>
              </a:rPr>
              <a:t>Rece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2680" y="358452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Fl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38280" y="3124080"/>
            <a:ext cx="0" cy="144792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562720" y="1219320"/>
            <a:ext cx="3200400" cy="4660920"/>
            <a:chOff x="5562720" y="1219320"/>
            <a:chExt cx="3200400" cy="4660920"/>
          </a:xfrm>
        </p:grpSpPr>
        <p:pic>
          <p:nvPicPr>
            <p:cNvPr id="85" name="" descr=""/>
            <p:cNvPicPr/>
            <p:nvPr/>
          </p:nvPicPr>
          <p:blipFill>
            <a:blip r:embed="rId3"/>
            <a:stretch/>
          </p:blipFill>
          <p:spPr>
            <a:xfrm>
              <a:off x="5715000" y="3452760"/>
              <a:ext cx="2819520" cy="242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4"/>
            <a:stretch/>
          </p:blipFill>
          <p:spPr>
            <a:xfrm>
              <a:off x="5562720" y="1219320"/>
              <a:ext cx="3200400" cy="23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6553080" y="2210040"/>
              <a:ext cx="762120" cy="495360"/>
            </a:xfrm>
            <a:custGeom>
              <a:avLst/>
              <a:gdLst/>
              <a:ahLst/>
              <a:rect l="l" t="t" r="r" b="b"/>
              <a:pathLst>
                <a:path w="480" h="312">
                  <a:moveTo>
                    <a:pt x="480" y="0"/>
                  </a:moveTo>
                  <a:cubicBezTo>
                    <a:pt x="465" y="72"/>
                    <a:pt x="458" y="147"/>
                    <a:pt x="392" y="192"/>
                  </a:cubicBezTo>
                  <a:cubicBezTo>
                    <a:pt x="377" y="213"/>
                    <a:pt x="377" y="220"/>
                    <a:pt x="352" y="232"/>
                  </a:cubicBezTo>
                  <a:cubicBezTo>
                    <a:pt x="336" y="238"/>
                    <a:pt x="304" y="248"/>
                    <a:pt x="304" y="248"/>
                  </a:cubicBezTo>
                  <a:cubicBezTo>
                    <a:pt x="269" y="245"/>
                    <a:pt x="234" y="245"/>
                    <a:pt x="200" y="240"/>
                  </a:cubicBezTo>
                  <a:cubicBezTo>
                    <a:pt x="183" y="237"/>
                    <a:pt x="152" y="224"/>
                    <a:pt x="152" y="224"/>
                  </a:cubicBezTo>
                  <a:cubicBezTo>
                    <a:pt x="138" y="226"/>
                    <a:pt x="96" y="230"/>
                    <a:pt x="80" y="240"/>
                  </a:cubicBezTo>
                  <a:cubicBezTo>
                    <a:pt x="63" y="249"/>
                    <a:pt x="32" y="272"/>
                    <a:pt x="32" y="272"/>
                  </a:cubicBezTo>
                  <a:cubicBezTo>
                    <a:pt x="11" y="302"/>
                    <a:pt x="22" y="289"/>
                    <a:pt x="0" y="312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43600" y="1295640"/>
              <a:ext cx="251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2700"/>
                  </a:solidFill>
                  <a:latin typeface="Times New Roman"/>
                </a:rPr>
                <a:t>MCG-6-30-15 (Sy 1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39280" y="3581640"/>
              <a:ext cx="202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2700"/>
                  </a:solidFill>
                  <a:latin typeface="Times New Roman"/>
                </a:rPr>
                <a:t>NCG 7469 (Sy 1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1752840"/>
              <a:ext cx="160020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GB" sz="1400" spc="-1" strike="noStrike">
                  <a:solidFill>
                    <a:srgbClr val="333399"/>
                  </a:solidFill>
                  <a:latin typeface="Times New Roman"/>
                </a:rPr>
                <a:t>XMM-Newton            EPIC-pn 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019920" y="4191120"/>
              <a:ext cx="1371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99"/>
                  </a:solidFill>
                  <a:latin typeface="Times New Roman"/>
                </a:rPr>
                <a:t>XMM-Newton            EPIC-pn 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Lucida Handwriting"/>
              </a:rPr>
              <a:t>Some Histo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2052720" cy="1797120"/>
          </a:xfrm>
          <a:prstGeom prst="rect">
            <a:avLst/>
          </a:prstGeom>
          <a:ln w="0">
            <a:noFill/>
          </a:ln>
        </p:spPr>
      </p:pic>
      <p:pic>
        <p:nvPicPr>
          <p:cNvPr id="94" name="Fig.2_Streblyanska_2004" descr=""/>
          <p:cNvPicPr/>
          <p:nvPr/>
        </p:nvPicPr>
        <p:blipFill>
          <a:blip r:embed="rId2"/>
          <a:stretch/>
        </p:blipFill>
        <p:spPr>
          <a:xfrm>
            <a:off x="2209680" y="2971800"/>
            <a:ext cx="2052720" cy="16686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3124080"/>
            <a:ext cx="42670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c2ff"/>
                </a:solidFill>
                <a:latin typeface="Chalkboard"/>
              </a:rPr>
              <a:t>Streblyanska+ 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Lucida Handwriting"/>
              </a:rPr>
              <a:t>XMM-Newt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Lucida Handwriting"/>
              </a:rPr>
              <a:t>Lockman Hole</a:t>
            </a:r>
            <a:r>
              <a:rPr b="0" lang="en-GB" sz="1800" spc="-1" strike="noStrike">
                <a:solidFill>
                  <a:srgbClr val="ffffff"/>
                </a:solidFill>
                <a:latin typeface="Lucida Handwriting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Handwriting"/>
              </a:rPr>
              <a:t>(faint source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Handwriting"/>
              </a:rPr>
              <a:t>EW~500 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Handwriting"/>
              </a:rPr>
              <a:t>F=10</a:t>
            </a:r>
            <a:r>
              <a:rPr b="0" lang="en-GB" sz="1800" spc="-1" strike="noStrike" baseline="30000">
                <a:solidFill>
                  <a:srgbClr val="ffffff"/>
                </a:solidFill>
                <a:latin typeface="Lucida Handwriting"/>
              </a:rPr>
              <a:t>-15</a:t>
            </a:r>
            <a:r>
              <a:rPr b="0" lang="en-GB" sz="1800" spc="-1" strike="noStrike">
                <a:solidFill>
                  <a:srgbClr val="ffffff"/>
                </a:solidFill>
                <a:latin typeface="Lucida Handwriting"/>
              </a:rPr>
              <a:t>-10</a:t>
            </a:r>
            <a:r>
              <a:rPr b="0" lang="en-GB" sz="1800" spc="-1" strike="noStrike" baseline="30000">
                <a:solidFill>
                  <a:srgbClr val="ffffff"/>
                </a:solidFill>
                <a:latin typeface="Lucida Handwriting"/>
              </a:rPr>
              <a:t>-13 </a:t>
            </a:r>
            <a:r>
              <a:rPr b="0" lang="en-GB" sz="1800" spc="-1" strike="noStrike">
                <a:solidFill>
                  <a:srgbClr val="ffffff"/>
                </a:solidFill>
                <a:latin typeface="Lucida Handwriting"/>
              </a:rPr>
              <a:t>ergs/s/cm</a:t>
            </a:r>
            <a:r>
              <a:rPr b="0" lang="en-GB" sz="1800" spc="-1" strike="noStrike" baseline="30000">
                <a:solidFill>
                  <a:srgbClr val="ffffff"/>
                </a:solidFill>
                <a:latin typeface="Lucida Handwriting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3989520"/>
            <a:ext cx="183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334120"/>
            <a:ext cx="4038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Lucida Handwriting"/>
              </a:rPr>
              <a:t>38 XMM-Newton</a:t>
            </a:r>
            <a:r>
              <a:rPr b="0" lang="en-GB" sz="2000" spc="-1" strike="noStrike">
                <a:solidFill>
                  <a:srgbClr val="ffffff"/>
                </a:solidFill>
                <a:latin typeface="Lucida Handwriting"/>
              </a:rPr>
              <a:t>  </a:t>
            </a:r>
            <a:r>
              <a:rPr b="0" lang="en-GB" sz="2000" spc="-1" strike="noStrike">
                <a:solidFill>
                  <a:srgbClr val="ffff00"/>
                </a:solidFill>
                <a:latin typeface="Lucida Handwriting"/>
              </a:rPr>
              <a:t>PG QSO</a:t>
            </a:r>
            <a:r>
              <a:rPr b="0" lang="en-GB" sz="2000" spc="-1" strike="noStrike">
                <a:solidFill>
                  <a:srgbClr val="ffffff"/>
                </a:solidFill>
                <a:latin typeface="Lucida Handwriting"/>
              </a:rPr>
              <a:t> Broad lines fraction &lt;10%</a:t>
            </a:r>
            <a:r>
              <a:rPr b="0" lang="en-GB" sz="2000" spc="-1" strike="noStrike">
                <a:solidFill>
                  <a:srgbClr val="000000"/>
                </a:solidFill>
                <a:latin typeface="Lucida Handwriting"/>
              </a:rPr>
              <a:t>                          </a:t>
            </a:r>
            <a:r>
              <a:rPr b="0" lang="en-GB" sz="2000" spc="-1" strike="noStrike">
                <a:solidFill>
                  <a:srgbClr val="13c2ff"/>
                </a:solidFill>
                <a:latin typeface="Lucida Handwriting"/>
              </a:rPr>
              <a:t>Jimenez-Bailon+ 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066680"/>
            <a:ext cx="251460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Handwriting"/>
              </a:rPr>
              <a:t>Very comm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Handwriting"/>
              </a:rPr>
              <a:t>in </a:t>
            </a:r>
            <a:r>
              <a:rPr b="0" lang="en-GB" sz="1800" spc="-1" strike="noStrike">
                <a:solidFill>
                  <a:srgbClr val="ffff00"/>
                </a:solidFill>
                <a:latin typeface="Lucida Handwriting"/>
              </a:rPr>
              <a:t>ASCA</a:t>
            </a:r>
            <a:r>
              <a:rPr b="0" lang="en-GB" sz="1800" spc="-1" strike="noStrike">
                <a:solidFill>
                  <a:srgbClr val="ffffff"/>
                </a:solidFill>
                <a:latin typeface="Lucida Handwriting"/>
              </a:rPr>
              <a:t> da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Handwriting"/>
              </a:rPr>
              <a:t>39 AGNs: ~ 70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Handwriting"/>
              </a:rPr>
              <a:t>(Sy1 &amp; QSO)</a:t>
            </a:r>
            <a:r>
              <a:rPr b="0" lang="en-GB" sz="2400" spc="-1" strike="noStrike">
                <a:solidFill>
                  <a:srgbClr val="000000"/>
                </a:solidFill>
                <a:latin typeface="Lucida Handwriting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c2ff"/>
                </a:solidFill>
                <a:latin typeface="Chalkboard"/>
              </a:rPr>
              <a:t>Nandra+ 97</a:t>
            </a:r>
            <a:r>
              <a:rPr b="0" lang="en-GB" sz="2400" spc="-1" strike="noStrike">
                <a:solidFill>
                  <a:srgbClr val="000000"/>
                </a:solidFill>
                <a:latin typeface="Chalkboar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29200" y="9907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XMM  individual sour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51080" y="1523880"/>
            <a:ext cx="42314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MCG-6-30-15 (</a:t>
            </a:r>
            <a:r>
              <a:rPr b="0" i="1" lang="en-GB" sz="2000" spc="-1" strike="noStrike">
                <a:solidFill>
                  <a:srgbClr val="ffffff"/>
                </a:solidFill>
                <a:latin typeface="Times New Roman"/>
              </a:rPr>
              <a:t>Wilms+ 01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i="1" lang="en-GB" sz="2000" spc="-1" strike="noStrike">
                <a:solidFill>
                  <a:srgbClr val="ffffff"/>
                </a:solidFill>
                <a:latin typeface="Times New Roman"/>
              </a:rPr>
              <a:t>Fabian+ 02, 03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NGC3516 </a:t>
            </a:r>
            <a:r>
              <a:rPr b="0" i="1" lang="en-GB" sz="2000" spc="-1" strike="noStrike">
                <a:solidFill>
                  <a:srgbClr val="ffffff"/>
                </a:solidFill>
                <a:latin typeface="Times New Roman"/>
              </a:rPr>
              <a:t>(Turner+ 02, 05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)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Mrk 335 (</a:t>
            </a:r>
            <a:r>
              <a:rPr b="0" i="1" lang="en-GB" sz="2000" spc="-1" strike="noStrike">
                <a:solidFill>
                  <a:srgbClr val="ffffff"/>
                </a:solidFill>
                <a:latin typeface="Times New Roman"/>
              </a:rPr>
              <a:t>Longinotti+ 07, O’Neill+07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NGC4051 </a:t>
            </a:r>
            <a:r>
              <a:rPr b="0" i="1" lang="en-GB" sz="2000" spc="-1" strike="noStrike">
                <a:solidFill>
                  <a:srgbClr val="ffffff"/>
                </a:solidFill>
                <a:latin typeface="Times New Roman"/>
              </a:rPr>
              <a:t>(Pounds+ 04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IRAS18325-5926 (</a:t>
            </a:r>
            <a:r>
              <a:rPr b="0" i="1" lang="en-GB" sz="2000" spc="-1" strike="noStrike">
                <a:solidFill>
                  <a:srgbClr val="ffffff"/>
                </a:solidFill>
                <a:latin typeface="Times New Roman"/>
              </a:rPr>
              <a:t>Iwasawa+ 04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IRAS13349+2438 </a:t>
            </a:r>
            <a:r>
              <a:rPr b="0" i="1" lang="en-GB" sz="2000" spc="-1" strike="noStrike">
                <a:solidFill>
                  <a:srgbClr val="ffffff"/>
                </a:solidFill>
                <a:latin typeface="Times New Roman"/>
              </a:rPr>
              <a:t>(Longinotti+ 0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1H 0707-495 </a:t>
            </a:r>
            <a:r>
              <a:rPr b="0" i="1" lang="en-GB" sz="2000" spc="-1" strike="noStrike">
                <a:solidFill>
                  <a:srgbClr val="ffffff"/>
                </a:solidFill>
                <a:latin typeface="Times New Roman"/>
              </a:rPr>
              <a:t>(Fabian+ 04)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PG1425+267 </a:t>
            </a:r>
            <a:r>
              <a:rPr b="0" i="1" lang="en-GB" sz="2000" spc="-1" strike="noStrike">
                <a:solidFill>
                  <a:srgbClr val="ffffff"/>
                </a:solidFill>
                <a:latin typeface="Times New Roman"/>
              </a:rPr>
              <a:t>(Miniutti &amp; Fabian 06)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Q0056-363 (</a:t>
            </a:r>
            <a:r>
              <a:rPr b="0" i="1" lang="en-GB" sz="2000" spc="-1" strike="noStrike">
                <a:solidFill>
                  <a:srgbClr val="ffffff"/>
                </a:solidFill>
                <a:latin typeface="Times New Roman"/>
              </a:rPr>
              <a:t>Porquet &amp; Reeves 03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PG1402+261 </a:t>
            </a:r>
            <a:r>
              <a:rPr b="0" i="1" lang="en-GB" sz="2000" spc="-1" strike="noStrike">
                <a:solidFill>
                  <a:srgbClr val="ffffff"/>
                </a:solidFill>
                <a:latin typeface="Times New Roman"/>
              </a:rPr>
              <a:t>(Reeves+ 04)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4U 1344-60 </a:t>
            </a:r>
            <a:r>
              <a:rPr b="0" i="1" lang="en-GB" sz="2000" spc="-1" strike="noStrike">
                <a:solidFill>
                  <a:srgbClr val="ffffff"/>
                </a:solidFill>
                <a:latin typeface="Times New Roman"/>
              </a:rPr>
              <a:t>(Piconcelli+ 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76920" y="5562720"/>
            <a:ext cx="388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Sample of bright 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XMM Sy 1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:    30-40% require relativistic 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fbfb"/>
                </a:solidFill>
                <a:latin typeface="Times New Roman"/>
              </a:rPr>
              <a:t>Nandra+ 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952880" y="838080"/>
            <a:ext cx="4190760" cy="4724280"/>
            <a:chOff x="4952880" y="838080"/>
            <a:chExt cx="4190760" cy="4724280"/>
          </a:xfrm>
        </p:grpSpPr>
        <p:sp>
          <p:nvSpPr>
            <p:cNvPr id="103" name=""/>
            <p:cNvSpPr/>
            <p:nvPr/>
          </p:nvSpPr>
          <p:spPr>
            <a:xfrm>
              <a:off x="4952880" y="838080"/>
              <a:ext cx="4114800" cy="4724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333760" y="914040"/>
              <a:ext cx="3809880" cy="449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ff"/>
                  </a:solidFill>
                  <a:latin typeface="Times New Roman"/>
                </a:rPr>
                <a:t>Competing model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ff"/>
                  </a:solidFill>
                  <a:latin typeface="Times New Roman"/>
                </a:rPr>
                <a:t>Complex l.o.s. absorption with high Nh and Ion (NGC3783, </a:t>
              </a:r>
              <a:r>
                <a:rPr b="0" i="1" lang="en-GB" sz="2400" spc="-1" strike="noStrike">
                  <a:solidFill>
                    <a:srgbClr val="ff00ff"/>
                  </a:solidFill>
                  <a:latin typeface="Times New Roman"/>
                </a:rPr>
                <a:t>Reeves+04</a:t>
              </a:r>
              <a:r>
                <a:rPr b="1" lang="en-GB" sz="2400" spc="-1" strike="noStrike">
                  <a:solidFill>
                    <a:srgbClr val="ff00ff"/>
                  </a:solidFill>
                  <a:latin typeface="Times New Roman"/>
                </a:rPr>
                <a:t>, MGC-6, NGC3516 </a:t>
              </a:r>
              <a:r>
                <a:rPr b="0" i="1" lang="en-GB" sz="2400" spc="-1" strike="noStrike">
                  <a:solidFill>
                    <a:srgbClr val="ff00ff"/>
                  </a:solidFill>
                  <a:latin typeface="Times New Roman"/>
                </a:rPr>
                <a:t>Turner+08, Miller+0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ff"/>
                  </a:solidFill>
                  <a:latin typeface="Times New Roman"/>
                </a:rPr>
                <a:t>Blending of ionised Fe lines can easily be mis-interpreted as broad residuals (NGC7314, </a:t>
              </a:r>
              <a:r>
                <a:rPr b="0" i="1" lang="en-GB" sz="2400" spc="-1" strike="noStrike">
                  <a:solidFill>
                    <a:srgbClr val="ff00ff"/>
                  </a:solidFill>
                  <a:latin typeface="Times New Roman"/>
                </a:rPr>
                <a:t>Yaqoob+03, Bianchi+05</a:t>
              </a:r>
              <a:r>
                <a:rPr b="1" lang="en-GB" sz="2400" spc="-1" strike="noStrike">
                  <a:solidFill>
                    <a:srgbClr val="ff00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62120" y="175248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228600"/>
            <a:ext cx="8534520" cy="3124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imes New Roman"/>
              </a:rPr>
              <a:t>Why caring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1219320"/>
            <a:ext cx="8381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Probe of strong gravity and accretion flow in innermost region of AGN (and Galactic Black Hole Candidates): diagnostic of accretion disc structure (extension, ionisation state), potential to measure black holes spin </a:t>
            </a:r>
            <a:r>
              <a:rPr b="0" i="1" lang="en-GB" sz="1800" spc="-1" strike="noStrike">
                <a:solidFill>
                  <a:srgbClr val="ffffff"/>
                </a:solidFill>
                <a:latin typeface="Times New Roman"/>
              </a:rPr>
              <a:t>(Fabian+02, Reynolds &amp; Nowak 03, Miller 07).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Very common feature in ASCA spectra, not as common in XMM-Newton and Chandra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52280" y="3733920"/>
            <a:ext cx="3886200" cy="1523880"/>
            <a:chOff x="152280" y="3733920"/>
            <a:chExt cx="3886200" cy="1523880"/>
          </a:xfrm>
        </p:grpSpPr>
        <p:sp>
          <p:nvSpPr>
            <p:cNvPr id="110" name=""/>
            <p:cNvSpPr/>
            <p:nvPr/>
          </p:nvSpPr>
          <p:spPr>
            <a:xfrm>
              <a:off x="152280" y="3733920"/>
              <a:ext cx="3886200" cy="15238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8600" y="3809880"/>
              <a:ext cx="38098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Times New Roman"/>
                </a:rPr>
                <a:t>How often relativistic broadening  appears in AGN spectra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3429000" y="556272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FE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4876920" y="3809880"/>
            <a:ext cx="3886200" cy="1524240"/>
            <a:chOff x="4876920" y="3809880"/>
            <a:chExt cx="3886200" cy="1524240"/>
          </a:xfrm>
        </p:grpSpPr>
        <p:sp>
          <p:nvSpPr>
            <p:cNvPr id="114" name=""/>
            <p:cNvSpPr/>
            <p:nvPr/>
          </p:nvSpPr>
          <p:spPr>
            <a:xfrm>
              <a:off x="4876920" y="3809880"/>
              <a:ext cx="3886200" cy="15242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105520" y="3809880"/>
              <a:ext cx="35812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Times New Roman"/>
                </a:rPr>
                <a:t>Is there any relation with disc parameters or source properties?</a:t>
              </a:r>
              <a:r>
                <a:rPr b="0" lang="en-GB" sz="2400" spc="-1" strike="noStrike">
                  <a:solidFill>
                    <a:srgbClr val="000000"/>
                  </a:solidFill>
                  <a:latin typeface="Chalkboard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362320" y="5410080"/>
            <a:ext cx="761760" cy="6858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5486040" y="5410080"/>
            <a:ext cx="762120" cy="76212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47920" y="617220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(Finding Extreme Relativistic Objec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371600"/>
            <a:ext cx="34290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04840" y="189000"/>
            <a:ext cx="73548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FERO: Sample descrip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-29160" y="1447920"/>
            <a:ext cx="3247560" cy="2620080"/>
            <a:chOff x="-29160" y="1447920"/>
            <a:chExt cx="3247560" cy="2620080"/>
          </a:xfrm>
        </p:grpSpPr>
        <p:grpSp>
          <p:nvGrpSpPr>
            <p:cNvPr id="122" name=""/>
            <p:cNvGrpSpPr/>
            <p:nvPr/>
          </p:nvGrpSpPr>
          <p:grpSpPr>
            <a:xfrm>
              <a:off x="1249920" y="3299040"/>
              <a:ext cx="983880" cy="391680"/>
              <a:chOff x="1249920" y="3299040"/>
              <a:chExt cx="983880" cy="391680"/>
            </a:xfrm>
          </p:grpSpPr>
          <p:sp>
            <p:nvSpPr>
              <p:cNvPr id="123" name=""/>
              <p:cNvSpPr/>
              <p:nvPr/>
            </p:nvSpPr>
            <p:spPr>
              <a:xfrm>
                <a:off x="1249920" y="3322440"/>
                <a:ext cx="983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0000"/>
                    </a:solidFill>
                    <a:latin typeface="Tahoma"/>
                  </a:rPr>
                  <a:t>77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</a:rPr>
                  <a:t> QS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267200" y="3299040"/>
                <a:ext cx="844560" cy="317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-29160" y="2557800"/>
              <a:ext cx="1227600" cy="398880"/>
              <a:chOff x="-29160" y="2557800"/>
              <a:chExt cx="1227600" cy="398880"/>
            </a:xfrm>
          </p:grpSpPr>
          <p:sp>
            <p:nvSpPr>
              <p:cNvPr id="126" name=""/>
              <p:cNvSpPr/>
              <p:nvPr/>
            </p:nvSpPr>
            <p:spPr>
              <a:xfrm>
                <a:off x="-29160" y="2557800"/>
                <a:ext cx="1227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996600"/>
                    </a:solidFill>
                    <a:latin typeface="Tahoma"/>
                  </a:rPr>
                  <a:t>161</a:t>
                </a:r>
                <a:r>
                  <a:rPr b="0" lang="en-GB" sz="2000" spc="-1" strike="noStrike">
                    <a:solidFill>
                      <a:srgbClr val="ff0000"/>
                    </a:solidFill>
                    <a:latin typeface="Tahoma"/>
                  </a:rPr>
                  <a:t> </a:t>
                </a:r>
                <a:r>
                  <a:rPr b="0" lang="en-GB" sz="2000" spc="-1" strike="noStrike">
                    <a:solidFill>
                      <a:srgbClr val="000000"/>
                    </a:solidFill>
                    <a:latin typeface="Tahoma"/>
                  </a:rPr>
                  <a:t>AG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558520"/>
                <a:ext cx="1037880" cy="317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2351880" y="2928240"/>
              <a:ext cx="866520" cy="1139760"/>
              <a:chOff x="2351880" y="2928240"/>
              <a:chExt cx="866520" cy="1139760"/>
            </a:xfrm>
          </p:grpSpPr>
          <p:grpSp>
            <p:nvGrpSpPr>
              <p:cNvPr id="129" name=""/>
              <p:cNvGrpSpPr/>
              <p:nvPr/>
            </p:nvGrpSpPr>
            <p:grpSpPr>
              <a:xfrm>
                <a:off x="2351880" y="2928240"/>
                <a:ext cx="866520" cy="398880"/>
                <a:chOff x="2351880" y="2928240"/>
                <a:chExt cx="866520" cy="39888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2351880" y="2928240"/>
                  <a:ext cx="866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ff00"/>
                      </a:solidFill>
                      <a:latin typeface="Tahoma"/>
                    </a:rPr>
                    <a:t>15 N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2354400" y="2928240"/>
                  <a:ext cx="844200" cy="3168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2354400" y="3297600"/>
                <a:ext cx="844920" cy="401040"/>
                <a:chOff x="2354400" y="3297600"/>
                <a:chExt cx="844920" cy="4010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354400" y="3299760"/>
                  <a:ext cx="839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ff0000"/>
                      </a:solidFill>
                      <a:latin typeface="Tahoma"/>
                    </a:rPr>
                    <a:t>33 B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354400" y="3297600"/>
                  <a:ext cx="844920" cy="3168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2354040" y="3668400"/>
                <a:ext cx="844920" cy="399600"/>
                <a:chOff x="2354040" y="3668400"/>
                <a:chExt cx="844920" cy="39960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2358360" y="3669120"/>
                  <a:ext cx="64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808080"/>
                      </a:solidFill>
                      <a:latin typeface="Tahoma"/>
                    </a:rPr>
                    <a:t>29 ?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2354040" y="3668400"/>
                  <a:ext cx="844920" cy="317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2337480" y="1447920"/>
              <a:ext cx="866520" cy="1135440"/>
              <a:chOff x="2337480" y="1447920"/>
              <a:chExt cx="866520" cy="1135440"/>
            </a:xfrm>
          </p:grpSpPr>
          <p:grpSp>
            <p:nvGrpSpPr>
              <p:cNvPr id="139" name=""/>
              <p:cNvGrpSpPr/>
              <p:nvPr/>
            </p:nvGrpSpPr>
            <p:grpSpPr>
              <a:xfrm>
                <a:off x="2337480" y="1447920"/>
                <a:ext cx="866520" cy="398880"/>
                <a:chOff x="2337480" y="1447920"/>
                <a:chExt cx="866520" cy="39888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2337480" y="1447920"/>
                  <a:ext cx="866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ahoma"/>
                    </a:rPr>
                    <a:t>17 N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2354040" y="1447920"/>
                  <a:ext cx="844560" cy="3168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2346840" y="1817280"/>
                <a:ext cx="851760" cy="401040"/>
                <a:chOff x="2346840" y="1817280"/>
                <a:chExt cx="851760" cy="40104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2346840" y="1819440"/>
                  <a:ext cx="839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9999"/>
                      </a:solidFill>
                      <a:latin typeface="Tahoma"/>
                    </a:rPr>
                    <a:t>28 B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2354400" y="1817280"/>
                  <a:ext cx="844200" cy="317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2354400" y="2184480"/>
                <a:ext cx="844200" cy="398880"/>
                <a:chOff x="2354400" y="2184480"/>
                <a:chExt cx="844200" cy="39888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2363760" y="2184480"/>
                  <a:ext cx="64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808080"/>
                      </a:solidFill>
                      <a:latin typeface="Tahoma"/>
                    </a:rPr>
                    <a:t>39 ?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354400" y="2187720"/>
                  <a:ext cx="844200" cy="3168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8" name=""/>
            <p:cNvSpPr/>
            <p:nvPr/>
          </p:nvSpPr>
          <p:spPr>
            <a:xfrm flipV="1">
              <a:off x="483120" y="1976760"/>
              <a:ext cx="723960" cy="58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83120" y="2875680"/>
              <a:ext cx="783720" cy="58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2112120" y="3086640"/>
              <a:ext cx="241920" cy="740160"/>
              <a:chOff x="2112120" y="3086640"/>
              <a:chExt cx="241920" cy="740160"/>
            </a:xfrm>
          </p:grpSpPr>
          <p:sp>
            <p:nvSpPr>
              <p:cNvPr id="151" name=""/>
              <p:cNvSpPr/>
              <p:nvPr/>
            </p:nvSpPr>
            <p:spPr>
              <a:xfrm>
                <a:off x="2112120" y="3457440"/>
                <a:ext cx="24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V="1">
                <a:off x="2112120" y="3086640"/>
                <a:ext cx="241920" cy="37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112120" y="3457440"/>
                <a:ext cx="241920" cy="36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2112120" y="1605600"/>
              <a:ext cx="241920" cy="740160"/>
              <a:chOff x="2112120" y="1605600"/>
              <a:chExt cx="241920" cy="740160"/>
            </a:xfrm>
          </p:grpSpPr>
          <p:sp>
            <p:nvSpPr>
              <p:cNvPr id="155" name=""/>
              <p:cNvSpPr/>
              <p:nvPr/>
            </p:nvSpPr>
            <p:spPr>
              <a:xfrm>
                <a:off x="2112120" y="1976400"/>
                <a:ext cx="24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2112120" y="1605600"/>
                <a:ext cx="241920" cy="37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112120" y="1976400"/>
                <a:ext cx="241920" cy="36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1207080" y="1818360"/>
              <a:ext cx="905040" cy="401040"/>
              <a:chOff x="1207080" y="1818360"/>
              <a:chExt cx="905040" cy="401040"/>
            </a:xfrm>
          </p:grpSpPr>
          <p:sp>
            <p:nvSpPr>
              <p:cNvPr id="159" name=""/>
              <p:cNvSpPr/>
              <p:nvPr/>
            </p:nvSpPr>
            <p:spPr>
              <a:xfrm>
                <a:off x="1269360" y="1820520"/>
                <a:ext cx="82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9999"/>
                    </a:solidFill>
                    <a:latin typeface="Tahoma"/>
                  </a:rPr>
                  <a:t>84</a:t>
                </a:r>
                <a:r>
                  <a:rPr b="0" lang="en-GB" sz="2000" spc="-1" strike="noStrike">
                    <a:solidFill>
                      <a:srgbClr val="000000"/>
                    </a:solidFill>
                    <a:latin typeface="Tahoma"/>
                  </a:rPr>
                  <a:t> S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207080" y="1818360"/>
                <a:ext cx="905040" cy="316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1" name=""/>
          <p:cNvGrpSpPr/>
          <p:nvPr/>
        </p:nvGrpSpPr>
        <p:grpSpPr>
          <a:xfrm>
            <a:off x="6934320" y="4952880"/>
            <a:ext cx="2209680" cy="1905120"/>
            <a:chOff x="6934320" y="4952880"/>
            <a:chExt cx="2209680" cy="1905120"/>
          </a:xfrm>
        </p:grpSpPr>
        <p:pic>
          <p:nvPicPr>
            <p:cNvPr id="162" name="" descr=""/>
            <p:cNvPicPr/>
            <p:nvPr/>
          </p:nvPicPr>
          <p:blipFill>
            <a:blip r:embed="rId1"/>
            <a:stretch/>
          </p:blipFill>
          <p:spPr>
            <a:xfrm>
              <a:off x="6934320" y="4952880"/>
              <a:ext cx="220968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7789320" y="5282280"/>
              <a:ext cx="1076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0000"/>
                  </a:solidFill>
                  <a:latin typeface="Times New Roman"/>
                </a:rPr>
                <a:t>58% z &lt; 0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0000"/>
                  </a:solidFill>
                  <a:latin typeface="Times New Roman"/>
                </a:rPr>
                <a:t>88% z &lt; 0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1146600" y="2971800"/>
            <a:ext cx="956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Times New Roman"/>
              </a:rPr>
              <a:t>(M</a:t>
            </a:r>
            <a:r>
              <a:rPr b="1" i="1" lang="en-GB" sz="1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GB" sz="1400" spc="-1" strike="noStrike">
                <a:solidFill>
                  <a:srgbClr val="000000"/>
                </a:solidFill>
                <a:latin typeface="Times New Roman"/>
              </a:rPr>
              <a:t> &lt; -2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46600" y="2133720"/>
            <a:ext cx="956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Times New Roman"/>
              </a:rPr>
              <a:t>(M</a:t>
            </a:r>
            <a:r>
              <a:rPr b="1" i="1" lang="en-GB" sz="1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GB" sz="1400" spc="-1" strike="noStrike">
                <a:solidFill>
                  <a:srgbClr val="000000"/>
                </a:solidFill>
                <a:latin typeface="Times New Roman"/>
              </a:rPr>
              <a:t> &gt; -2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429000"/>
            <a:ext cx="25909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~65 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WHM H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4191120"/>
            <a:ext cx="39625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Continuing studies on this samp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* IT effect (X-ray Baldw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on narrow Fe K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Bianchi+ 07, A&amp;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* X-ray general properti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(CAIXA project, Catalogue of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AGN In XMM-Newton Archive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Bianchi+ in pre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76212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ff"/>
                </a:solidFill>
                <a:latin typeface="Times New Roman"/>
              </a:rPr>
              <a:t>Collaboration: I. De La Calle, S.Bianchi, M.Guainazzi, M.Dovcia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733920" y="1143000"/>
            <a:ext cx="5410080" cy="38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161 Radio-quiet type 1 AGN  N</a:t>
            </a:r>
            <a:r>
              <a:rPr b="1" lang="en-GB" sz="2000" spc="-1" strike="noStrike" baseline="-25000">
                <a:solidFill>
                  <a:srgbClr val="ffffff"/>
                </a:solidFill>
                <a:latin typeface="Times New Roman"/>
              </a:rPr>
              <a:t>H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 2-3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·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1" lang="en-GB" sz="2000" spc="-1" strike="noStrike" baseline="30000">
                <a:solidFill>
                  <a:srgbClr val="ffffff"/>
                </a:solidFill>
                <a:latin typeface="Times New Roman"/>
              </a:rPr>
              <a:t>22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cm</a:t>
            </a:r>
            <a:r>
              <a:rPr b="1" lang="en-GB" sz="20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221 XMM-Newton pointed target observ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(public up to March 2007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Exposures    1- 400 ks (90% &lt; 100 k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Only EPIC-pn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Multiple observations combined if:             same XMM observing mode, F</a:t>
            </a:r>
            <a:r>
              <a:rPr b="1" lang="en-GB" sz="20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GB" sz="2000" spc="-1" strike="noStrike" baseline="30000">
                <a:solidFill>
                  <a:srgbClr val="ffffff"/>
                </a:solidFill>
                <a:latin typeface="Times New Roman"/>
              </a:rPr>
              <a:t>2-10keV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and photon index agree within errors (22 sources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Pre-analysis cut: only source spectra with    &gt;17 d.o.f  are fit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Fit done in the 2 – 10 keV rest fra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Same model applied to the whole sample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962520" y="4959360"/>
            <a:ext cx="2057400" cy="1898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943600" y="5105520"/>
            <a:ext cx="1143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2700"/>
                </a:solidFill>
                <a:latin typeface="Times New Roman"/>
                <a:ea typeface="Times New Roman"/>
              </a:rPr>
              <a:t>      </a:t>
            </a:r>
            <a:r>
              <a:rPr b="1" lang="en-GB" sz="1400" spc="-1" strike="noStrike">
                <a:solidFill>
                  <a:srgbClr val="ff2700"/>
                </a:solidFill>
                <a:latin typeface="Times New Roman"/>
                <a:ea typeface="Times New Roman"/>
              </a:rPr>
              <a:t>&lt;L</a:t>
            </a:r>
            <a:r>
              <a:rPr b="1" lang="en-GB" sz="1400" spc="-1" strike="noStrike" baseline="-25000">
                <a:solidFill>
                  <a:srgbClr val="ff2700"/>
                </a:solidFill>
                <a:latin typeface="Times New Roman"/>
                <a:ea typeface="Times New Roman"/>
              </a:rPr>
              <a:t>x</a:t>
            </a:r>
            <a:r>
              <a:rPr b="1" lang="en-GB" sz="1400" spc="-1" strike="noStrike">
                <a:solidFill>
                  <a:srgbClr val="ff2700"/>
                </a:solidFill>
                <a:latin typeface="Times New Roman"/>
                <a:ea typeface="Times New Roman"/>
              </a:rPr>
              <a:t>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2700"/>
                </a:solidFill>
                <a:latin typeface="Times New Roman"/>
                <a:ea typeface="Times New Roman"/>
              </a:rPr>
              <a:t> </a:t>
            </a:r>
            <a:r>
              <a:rPr b="1" lang="en-GB" sz="1400" spc="-1" strike="noStrike">
                <a:solidFill>
                  <a:srgbClr val="ff2700"/>
                </a:solidFill>
                <a:latin typeface="Times New Roman"/>
                <a:ea typeface="Times New Roman"/>
              </a:rPr>
              <a:t>10</a:t>
            </a:r>
            <a:r>
              <a:rPr b="1" lang="en-GB" sz="1400" spc="-1" strike="noStrike" baseline="30000">
                <a:solidFill>
                  <a:srgbClr val="ff2700"/>
                </a:solidFill>
                <a:latin typeface="Times New Roman"/>
                <a:ea typeface="Times New Roman"/>
              </a:rPr>
              <a:t>44</a:t>
            </a:r>
            <a:r>
              <a:rPr b="1" lang="en-GB" sz="1400" spc="-1" strike="noStrike">
                <a:solidFill>
                  <a:srgbClr val="ff2700"/>
                </a:solidFill>
                <a:latin typeface="Times New Roman"/>
                <a:ea typeface="Times New Roman"/>
              </a:rPr>
              <a:t> erg s</a:t>
            </a:r>
            <a:r>
              <a:rPr b="1" lang="en-GB" sz="1400" spc="-1" strike="noStrike" baseline="30000">
                <a:solidFill>
                  <a:srgbClr val="ff2700"/>
                </a:solidFill>
                <a:latin typeface="Times New Roman"/>
                <a:ea typeface="Times New Roman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The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5105520" y="1066680"/>
            <a:ext cx="3644640" cy="2514240"/>
            <a:chOff x="5105520" y="1066680"/>
            <a:chExt cx="3644640" cy="2514240"/>
          </a:xfrm>
        </p:grpSpPr>
        <p:pic>
          <p:nvPicPr>
            <p:cNvPr id="174" name="" descr=""/>
            <p:cNvPicPr/>
            <p:nvPr/>
          </p:nvPicPr>
          <p:blipFill>
            <a:blip r:embed="rId1"/>
            <a:stretch/>
          </p:blipFill>
          <p:spPr>
            <a:xfrm>
              <a:off x="5105520" y="1105200"/>
              <a:ext cx="3644640" cy="247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5515200" y="1066680"/>
              <a:ext cx="877320" cy="9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5486400" y="1219320"/>
            <a:ext cx="2666880" cy="2057400"/>
          </a:xfrm>
          <a:prstGeom prst="rect">
            <a:avLst/>
          </a:prstGeom>
          <a:solidFill>
            <a:srgbClr val="cc99ff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181480" y="4267080"/>
            <a:ext cx="335304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6.4   keV   </a:t>
            </a:r>
            <a:r>
              <a:rPr b="0" lang="en-GB" sz="2000" spc="-1" strike="noStrike">
                <a:solidFill>
                  <a:srgbClr val="ffffff"/>
                </a:solidFill>
                <a:latin typeface="Mathematica1"/>
                <a:ea typeface="Mathematica1"/>
              </a:rPr>
              <a:t>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Fe I K</a:t>
            </a:r>
            <a:r>
              <a:rPr b="0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7   keV   </a:t>
            </a:r>
            <a:r>
              <a:rPr b="0" lang="en-GB" sz="2000" spc="-1" strike="noStrike">
                <a:solidFill>
                  <a:srgbClr val="000000"/>
                </a:solidFill>
                <a:latin typeface="Mathematica1"/>
                <a:ea typeface="Mathematica1"/>
              </a:rPr>
              <a:t>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Fe XX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96 keV   </a:t>
            </a:r>
            <a:r>
              <a:rPr b="0" lang="en-GB" sz="2000" spc="-1" strike="noStrike">
                <a:solidFill>
                  <a:srgbClr val="000000"/>
                </a:solidFill>
                <a:latin typeface="Mathematica1"/>
                <a:ea typeface="Mathematica1"/>
              </a:rPr>
              <a:t>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Fe XXV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7.06 keV   </a:t>
            </a:r>
            <a:r>
              <a:rPr b="0" lang="en-GB" sz="2000" spc="-1" strike="noStrike">
                <a:solidFill>
                  <a:srgbClr val="ffffff"/>
                </a:solidFill>
                <a:latin typeface="Mathematica1"/>
                <a:ea typeface="Mathematica1"/>
              </a:rPr>
              <a:t>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Fe I K</a:t>
            </a:r>
            <a:r>
              <a:rPr b="0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4920" y="1447920"/>
            <a:ext cx="4267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Primary X-ray power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warm absorb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Compton Reflection (cold)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4 narrow Fe K 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1828800"/>
            <a:ext cx="4800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4f1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4f18"/>
                </a:solidFill>
                <a:latin typeface="Times New Roman"/>
              </a:rPr>
              <a:t>X-ray nuclear sour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4f1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4f18"/>
                </a:solidFill>
                <a:latin typeface="Times New Roman"/>
              </a:rPr>
              <a:t>line of sight ionised gas </a:t>
            </a:r>
            <a:r>
              <a:rPr b="1" i="1" lang="en-GB" sz="1600" spc="-1" strike="noStrike">
                <a:solidFill>
                  <a:srgbClr val="ff4f18"/>
                </a:solidFill>
                <a:latin typeface="Times New Roman"/>
              </a:rPr>
              <a:t>(Crenshaw+03)</a:t>
            </a:r>
            <a:r>
              <a:rPr b="1" i="1" lang="en-GB" sz="2400" spc="-1" strike="noStrike">
                <a:solidFill>
                  <a:srgbClr val="ff4f1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4f1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4f1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4f18"/>
                </a:solidFill>
                <a:latin typeface="Times New Roman"/>
              </a:rPr>
              <a:t>molecular torus </a:t>
            </a:r>
            <a:r>
              <a:rPr b="1" i="1" lang="en-GB" sz="1600" spc="-1" strike="noStrike">
                <a:solidFill>
                  <a:srgbClr val="ff4f18"/>
                </a:solidFill>
                <a:latin typeface="Times New Roman"/>
              </a:rPr>
              <a:t>(Krolik+87,Ghisellini+94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4f1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4f1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4f18"/>
                </a:solidFill>
                <a:latin typeface="Times New Roman"/>
              </a:rPr>
              <a:t>circumnuclear material </a:t>
            </a:r>
            <a:r>
              <a:rPr b="1" i="1" lang="en-GB" sz="1600" spc="-1" strike="noStrike">
                <a:solidFill>
                  <a:srgbClr val="ff4f18"/>
                </a:solidFill>
                <a:latin typeface="Times New Roman"/>
              </a:rPr>
              <a:t>(Bianchi+0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4f1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4f1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4f1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4f1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4f1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4f18"/>
                </a:solidFill>
                <a:latin typeface="Times New Roman"/>
              </a:rPr>
              <a:t>Accretion disc line </a:t>
            </a:r>
            <a:r>
              <a:rPr b="1" i="1" lang="en-GB" sz="1600" spc="-1" strike="noStrike">
                <a:solidFill>
                  <a:srgbClr val="ff4f18"/>
                </a:solidFill>
                <a:latin typeface="Times New Roman"/>
              </a:rPr>
              <a:t>(Fabian+0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280" y="4572000"/>
            <a:ext cx="46483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Full relativistic treatment of accretion disc line:  kyrline  </a:t>
            </a: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(Dov</a:t>
            </a:r>
            <a:r>
              <a:rPr b="0" i="1" lang="en-GB" sz="2000" spc="-1" strike="noStrike">
                <a:solidFill>
                  <a:srgbClr val="ffff00"/>
                </a:solidFill>
                <a:latin typeface="Times CE"/>
                <a:ea typeface="Times New Roman"/>
              </a:rPr>
              <a:t>č</a:t>
            </a: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iak+ 04)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24280" y="3962520"/>
            <a:ext cx="609840" cy="10666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3048120" y="3886200"/>
            <a:ext cx="1676160" cy="763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84520" y="5715000"/>
            <a:ext cx="1985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Mathematica1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or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Mathematica1"/>
                <a:ea typeface="Mathematica1"/>
              </a:rPr>
              <a:t>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onised 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495680" y="3048120"/>
            <a:ext cx="4419720" cy="205740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419720" y="5943600"/>
            <a:ext cx="38862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Results on Flux-Limited s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990720"/>
            <a:ext cx="8458200" cy="17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Within our collection of archival AGN, we are building a flux-limited sample aiming at including all sources above 1ct/s (3-8 keV) in RXTE Slew Survey (Revnivtsev+ 04) that follow the criteria of radio-quietness and Nh used to select the initial databa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33 sources in XSS with these characteristics                                                    31 are already in XMM archive (and in our analysis):  </a:t>
            </a:r>
            <a:r>
              <a:rPr b="1" lang="en-GB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0" y="3124080"/>
            <a:ext cx="41148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Detections rate: 11/31   (35%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Percentage of EW &lt;100 eV : 64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&lt;EW&gt; (weighted mean)=64±4 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&lt;EW&gt;=110±74 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80880" y="2819520"/>
            <a:ext cx="3733920" cy="37335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4419720" y="5942160"/>
            <a:ext cx="47242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00"/>
                </a:solidFill>
                <a:latin typeface="Monotype Sorts"/>
                <a:ea typeface="Monotype Sorts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detection      upper limit (90% c.l.)                                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ff2700"/>
                </a:solidFill>
                <a:latin typeface="Times New Roman"/>
              </a:rPr>
              <a:t>above 1ct/s in XSS </a:t>
            </a:r>
            <a:r>
              <a:rPr b="0" i="1" lang="en-GB" sz="1800" spc="-1" strike="noStrike">
                <a:solidFill>
                  <a:srgbClr val="ff2700"/>
                </a:solidFill>
                <a:latin typeface="Times New Roman"/>
              </a:rPr>
              <a:t>(Revnivtsev+ 04)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19920" y="601992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1T22:21:47Z</dcterms:created>
  <dc:creator>Anna Lia Longinotti</dc:creator>
  <dc:description/>
  <dc:language>en-US</dc:language>
  <cp:lastModifiedBy>Anna Lia Longinotti</cp:lastModifiedBy>
  <dcterms:modified xsi:type="dcterms:W3CDTF">2008-08-27T13:10:28Z</dcterms:modified>
  <cp:revision>405</cp:revision>
  <dc:subject/>
  <dc:title>PowerPoint Presentation</dc:title>
</cp:coreProperties>
</file>