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6324480"/>
            <a:ext cx="9144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ge </a:t>
            </a:r>
            <a:fld id="{E667D107-82C9-44BD-9661-EFBDA20C1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33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Arial"/>
              </a:rPr>
              <a:t>ESA Inter-Departmental Science Meeting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Arial"/>
              </a:rPr>
              <a:t>28/29 August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ICC-logo-notransparant" descr=""/>
          <p:cNvPicPr/>
          <p:nvPr/>
        </p:nvPicPr>
        <p:blipFill>
          <a:blip r:embed="rId2"/>
          <a:stretch/>
        </p:blipFill>
        <p:spPr>
          <a:xfrm>
            <a:off x="4648320" y="6172200"/>
            <a:ext cx="990360" cy="4222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20120" y="6172200"/>
            <a:ext cx="838080" cy="4190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6629400" y="6095880"/>
            <a:ext cx="914400" cy="567000"/>
            <a:chOff x="6629400" y="6095880"/>
            <a:chExt cx="914400" cy="567000"/>
          </a:xfrm>
        </p:grpSpPr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6629400" y="6095880"/>
              <a:ext cx="872640" cy="56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629400" y="6095880"/>
              <a:ext cx="914400" cy="567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PA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5867280" y="6172200"/>
            <a:ext cx="685800" cy="37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1600200" y="6248520"/>
            <a:ext cx="2781360" cy="3189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7"/>
          <a:stretch/>
        </p:blipFill>
        <p:spPr>
          <a:xfrm>
            <a:off x="8458200" y="152280"/>
            <a:ext cx="495360" cy="4953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3492360" y="0"/>
            <a:ext cx="46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cc"/>
                </a:solidFill>
                <a:latin typeface="Times New Roman"/>
              </a:rPr>
              <a:t>Environments of Evolved Massive St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imes New Roman"/>
              </a:rPr>
              <a:t>Cool Environments Around Evolved Massive Stars As Seen by AK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40080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P. Marsto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amp; P. Morri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rument and Calibration Scientist Team Lead, Herschel Science Centre, E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SA Herschel Science Center, IPAC, Caltech,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5019840" cy="5105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8120" y="2971800"/>
            <a:ext cx="30456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200400" y="2819520"/>
            <a:ext cx="0" cy="3045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2514600"/>
            <a:ext cx="914400" cy="9144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5105520"/>
            <a:ext cx="380880" cy="380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34120" y="3886200"/>
            <a:ext cx="2819160" cy="1920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19520" y="1143000"/>
            <a:ext cx="1828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CO 2-1 from AST/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29718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 1-0 from SEST (45 arcsec b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12952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olecular emission forms broken/clumpy shell around the star – coincident w/AKARI shell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ARI FIS mapping shows areas of extended cool dust around WR st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s the mass-loss sequ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er shells crossed by mapping show cavity formed at earlier st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vidence for multiple major eruptions – as has been sugges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s are consistent with heavy/clumpy mass loss over periods of ord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e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ear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ver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as mass-loss on order of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yr (assuming a gas/dust mass ratio of 2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7732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resolved issues in Massive Star Ev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lf-Rayet (WR) 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s of Wolf-Rayet 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ARI far-infrared data (F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the Cool Environments of WR 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resolved Issues in Massive Star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are massive stars born? Increasingly strong evidence that some (fraction?)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cessarily born in GM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exactly do very massive stars do? Do they become Red Supergiants (RSGs) or Luminous Blue Variables (LBVs). Once … more than o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the evolutionary links between the various massive star types in the upper HR diagram (e.g. B, B[e], yellow supergiant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uch mass is lost over what time periods and what is the state of the st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oretical models, predicting evolutionary phases, are dependant on chemistry, rotation, mass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562800" cy="5200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90920" y="1371600"/>
            <a:ext cx="533160" cy="83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1447920"/>
            <a:ext cx="1066680" cy="4572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1676520"/>
            <a:ext cx="533160" cy="6858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1371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0" idx="2"/>
            <a:endCxn id="58" idx="6"/>
          </p:cNvCxnSpPr>
          <p:nvPr/>
        </p:nvCxnSpPr>
        <p:spPr>
          <a:xfrm rot="10800000">
            <a:off x="3123360" y="1789920"/>
            <a:ext cx="83916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64" name=""/>
          <p:cNvCxnSpPr/>
          <p:nvPr/>
        </p:nvCxnSpPr>
        <p:spPr>
          <a:xfrm rot="10800000">
            <a:off x="3047400" y="1675800"/>
            <a:ext cx="2647080" cy="183240"/>
          </a:xfrm>
          <a:prstGeom prst="curvedConnector5">
            <a:avLst>
              <a:gd name="adj1" fmla="val 48939"/>
              <a:gd name="adj2" fmla="val 146062"/>
              <a:gd name="adj3" fmla="val 48939"/>
            </a:avLst>
          </a:prstGeom>
          <a:ln w="38160">
            <a:solidFill>
              <a:srgbClr val="3333cc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4419720" y="14479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1676520"/>
            <a:ext cx="30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59" idx="3"/>
            <a:endCxn id="60" idx="6"/>
          </p:cNvCxnSpPr>
          <p:nvPr/>
        </p:nvCxnSpPr>
        <p:spPr>
          <a:xfrm rot="5400000">
            <a:off x="5091840" y="1240920"/>
            <a:ext cx="181800" cy="1375560"/>
          </a:xfrm>
          <a:prstGeom prst="curvedConnector2">
            <a:avLst/>
          </a:prstGeom>
          <a:ln w="38160">
            <a:solidFill>
              <a:srgbClr val="3333cc"/>
            </a:solidFill>
            <a:miter/>
          </a:ln>
        </p:spPr>
      </p:cxnSp>
      <p:sp>
        <p:nvSpPr>
          <p:cNvPr id="68" name=""/>
          <p:cNvSpPr/>
          <p:nvPr/>
        </p:nvSpPr>
        <p:spPr>
          <a:xfrm>
            <a:off x="5029200" y="1752480"/>
            <a:ext cx="228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olf-Rayet St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are massive stars (10+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with high CNO abund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 as strong emission-line stars (WN, WC, WO sub-typ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effective surface temperatures (&gt;20k 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re -- approx. 200 known in the galax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ved to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volved from most massive O sta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ediate -- between O and WR star -- heavy mass-loss phases expected (e.g., Luminous Blue Variables such as Eta Carin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. half have optical emission-line shells several arc minutes across. Plus several exhibit large outer shells (~degree or more across) in HI/I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2210040" cy="2141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20120" y="2438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R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ssive Star Evolution &amp; WR Enviro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-44736" t="0" r="0" b="-44706"/>
          <a:stretch/>
        </p:blipFill>
        <p:spPr>
          <a:xfrm>
            <a:off x="1752480" y="4151160"/>
            <a:ext cx="5715000" cy="2706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1371600"/>
            <a:ext cx="8305920" cy="36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avy mass loss phase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single stars &gt; 25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w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low wind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st w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effects of these phases “visible”? What do they say about the evolution? --- The structure of the environments tells holds clues to the stellar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KARI FIS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KARI (JAXA) Far Infrared Surveyor was designed for all-sky surv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imaging in 2 wide + 2 narrow bands between 50 and 18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(plus FTS). [9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+ 1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bands shown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KARI pointed mode (2x) over set regions of the sky around WR st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124080" cy="2896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3200400" cy="2505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419720" y="762120"/>
            <a:ext cx="3886200" cy="246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257800" y="3352680"/>
            <a:ext cx="2317680" cy="2590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62320" y="1219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990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3733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91520" y="3505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 Closer Look at WR16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2342880" cy="2298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9880" y="1295280"/>
            <a:ext cx="2743200" cy="2543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623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3657600"/>
            <a:ext cx="891540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cal spectra indicate N enrichment in shell and filament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cessed ejecta material from stellar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ell” of radius 9’ @ 2kpc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5.5pc, at 10km/s suggests an age of 5.5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90/1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lux rati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~25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lux at 1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.5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ust mass. Dusty outfl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58:25Z</dcterms:created>
  <dc:creator>tmarston</dc:creator>
  <dc:description/>
  <dc:language>en-US</dc:language>
  <cp:lastModifiedBy>tmarston</cp:lastModifiedBy>
  <dcterms:modified xsi:type="dcterms:W3CDTF">2008-08-28T09:41:54Z</dcterms:modified>
  <cp:revision>50</cp:revision>
  <dc:subject/>
  <dc:title>Slide 1</dc:title>
</cp:coreProperties>
</file>