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2FC0-B56F-43FF-AB1F-AD012AF50C6E}" type="datetime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AC86-64B2-4385-A9EE-10B810C6FB5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E7A-935E-4A37-BA0B-B8C4039264C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F91C-61CC-4C19-9800-698A76D47A69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5C4-AB9F-4D6D-9505-06854A6E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942-5CD9-49B5-989C-B6F46B1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905-BE88-49C0-AFC7-9720B9F7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703-009C-4E09-A6A0-C7B10023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11EB-3195-4DD5-838A-BD90C3FE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6223-CC94-420A-8199-F72C8CF8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391-2C03-4D12-A655-56119FE6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3553-830E-4652-B0EA-F73B8340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7BAC-AAE6-4DB7-84A4-D2E1FE78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3F38-C6B4-4E0A-AB0F-A24B4183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8E49-5C12-4FB9-A5F9-4C6C03F4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F57-1DF8-42CC-9427-AB65DA3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9B6-48AE-48F9-8A76-DDA402C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7665-2460-473C-8F6E-C3597F74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C897-2DAB-4076-8869-2FE09E32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0EF8-4BA2-4FE0-80D5-ECB51517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D913-64B4-4325-8630-E3F3F0AF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F20-46E6-4C3C-9207-5D913845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35C-4C27-4796-9730-A82C7FE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919-F27B-4936-86DE-E608C89F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A2A-9901-4BED-8BAD-013750A9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85B-7557-447C-8EC2-60B495B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7AC-1F0C-4601-987C-5B86C24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1AD-4089-4095-8925-CC41E1F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66E2-8A2C-465E-A2CD-99437F585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326F-D1BC-42A7-847D-9A57D52CB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611280" y="1295280"/>
            <a:ext cx="7921440" cy="4953240"/>
            <a:chOff x="611280" y="1295280"/>
            <a:chExt cx="7921440" cy="4953240"/>
          </a:xfrm>
        </p:grpSpPr>
        <p:sp>
          <p:nvSpPr>
            <p:cNvPr id="94" name="Text Box 7"/>
            <p:cNvSpPr/>
            <p:nvPr/>
          </p:nvSpPr>
          <p:spPr>
            <a:xfrm>
              <a:off x="611280" y="1295280"/>
              <a:ext cx="792144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000000"/>
                  </a:solidFill>
                  <a:latin typeface="Times New Roman"/>
                </a:rPr>
                <a:t>Waves in space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rom zoology to scientific interest</a:t>
              </a:r>
              <a:endParaRPr b="0" i="1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. Masson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rectorate of Science and Robotic Explora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uropean Space Agency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9 August 2008, ESTEC, The Netherland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1619280" y="1434600"/>
              <a:ext cx="5905440" cy="122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7"/>
          <p:cNvSpPr/>
          <p:nvPr/>
        </p:nvSpPr>
        <p:spPr>
          <a:xfrm>
            <a:off x="5595840" y="6095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200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TextBox 20"/>
          <p:cNvSpPr/>
          <p:nvPr/>
        </p:nvSpPr>
        <p:spPr>
          <a:xfrm>
            <a:off x="533520" y="5638680"/>
            <a:ext cx="2361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6" descr="08 May 2001 - WHISPER.png"/>
          <p:cNvPicPr/>
          <p:nvPr/>
        </p:nvPicPr>
        <p:blipFill>
          <a:blip r:embed="rId6"/>
          <a:srcRect l="0" t="0" r="0" b="5292"/>
          <a:stretch/>
        </p:blipFill>
        <p:spPr>
          <a:xfrm>
            <a:off x="685800" y="2743200"/>
            <a:ext cx="2922480" cy="1803240"/>
          </a:xfrm>
          <a:prstGeom prst="rect">
            <a:avLst/>
          </a:prstGeom>
          <a:ln w="0">
            <a:noFill/>
          </a:ln>
        </p:spPr>
      </p:pic>
      <p:sp>
        <p:nvSpPr>
          <p:cNvPr id="240" name="Right Arrow 17"/>
          <p:cNvSpPr/>
          <p:nvPr/>
        </p:nvSpPr>
        <p:spPr>
          <a:xfrm>
            <a:off x="3962520" y="3238560"/>
            <a:ext cx="1295280" cy="38088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114800" y="2720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02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02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2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2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1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pic>
          <p:nvPicPr>
            <p:cNvPr id="248" name="Picture 1031" descr="EUV 2001 8 May 0235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032"/>
            <p:cNvSpPr/>
            <p:nvPr/>
          </p:nvSpPr>
          <p:spPr>
            <a:xfrm>
              <a:off x="304776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2:35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1034"/>
          <p:cNvSpPr/>
          <p:nvPr/>
        </p:nvSpPr>
        <p:spPr>
          <a:xfrm>
            <a:off x="6477120" y="23623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rison with EUV  on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35"/>
          <p:cNvSpPr/>
          <p:nvPr/>
        </p:nvSpPr>
        <p:spPr>
          <a:xfrm>
            <a:off x="6400800" y="228600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57" name="Text Box 7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3:36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Picture 8" descr="EUV 2001 8 May 0336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64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4:38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9" descr="EUV 2001 8 May 0438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1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5:39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8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0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8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6:40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7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EUV 2001 8 May 0640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86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7:4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Picture 9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5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93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8:1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Picture 7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8" descr="EUV 2001 8 May 0812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9"/>
            <p:cNvSpPr/>
            <p:nvPr/>
          </p:nvSpPr>
          <p:spPr>
            <a:xfrm>
              <a:off x="5029200" y="2209680"/>
              <a:ext cx="609480" cy="68580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[SOUND] chorus sound cluster short.mov" descr=""/>
          <p:cNvPicPr/>
          <p:nvPr/>
        </p:nvPicPr>
        <p:blipFill>
          <a:blip r:embed="rId3"/>
          <a:stretch/>
        </p:blipFill>
        <p:spPr>
          <a:xfrm>
            <a:off x="1447920" y="1752480"/>
            <a:ext cx="249120" cy="249480"/>
          </a:xfrm>
          <a:prstGeom prst="rect">
            <a:avLst/>
          </a:prstGeom>
          <a:ln w="0">
            <a:noFill/>
          </a:ln>
        </p:spPr>
      </p:pic>
      <p:pic>
        <p:nvPicPr>
          <p:cNvPr id="114" name="[SOUND] Plasmaspheric hiss Voyager Saturn short.mov" descr=""/>
          <p:cNvPicPr/>
          <p:nvPr/>
        </p:nvPicPr>
        <p:blipFill>
          <a:blip r:embed="rId4"/>
          <a:stretch/>
        </p:blipFill>
        <p:spPr>
          <a:xfrm>
            <a:off x="7772400" y="167652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115" name="[SOUND] Cluster whislters short.mov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49480" cy="249120"/>
          </a:xfrm>
          <a:prstGeom prst="rect">
            <a:avLst/>
          </a:prstGeom>
          <a:ln w="0">
            <a:noFill/>
          </a:ln>
        </p:spPr>
      </p:pic>
      <p:pic>
        <p:nvPicPr>
          <p:cNvPr id="116" name="[SOUND] lion roar audio short.mov" descr=""/>
          <p:cNvPicPr/>
          <p:nvPr/>
        </p:nvPicPr>
        <p:blipFill>
          <a:blip r:embed="rId6"/>
          <a:stretch/>
        </p:blipFill>
        <p:spPr>
          <a:xfrm>
            <a:off x="8077320" y="281952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7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09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0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96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7"/>
          <p:cNvSpPr/>
          <p:nvPr/>
        </p:nvSpPr>
        <p:spPr>
          <a:xfrm>
            <a:off x="4641120" y="609588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in press, 200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TextBox 20"/>
          <p:cNvSpPr/>
          <p:nvPr/>
        </p:nvSpPr>
        <p:spPr>
          <a:xfrm>
            <a:off x="533520" y="5638680"/>
            <a:ext cx="3657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 +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08 May 2001 - WHISPER.png"/>
          <p:cNvPicPr/>
          <p:nvPr/>
        </p:nvPicPr>
        <p:blipFill>
          <a:blip r:embed="rId3"/>
          <a:srcRect l="0" t="0" r="10015" b="11113"/>
          <a:stretch/>
        </p:blipFill>
        <p:spPr>
          <a:xfrm>
            <a:off x="2590920" y="1600200"/>
            <a:ext cx="2590560" cy="204480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2" name="TextBox 22"/>
          <p:cNvSpPr/>
          <p:nvPr/>
        </p:nvSpPr>
        <p:spPr>
          <a:xfrm>
            <a:off x="76212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uster-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" descr="[IMAGE] Cluster plasmasphere crossing.jpg"/>
          <p:cNvPicPr/>
          <p:nvPr/>
        </p:nvPicPr>
        <p:blipFill>
          <a:blip r:embed="rId4"/>
          <a:srcRect l="9449" t="34616" r="17008" b="49770"/>
          <a:stretch/>
        </p:blipFill>
        <p:spPr>
          <a:xfrm>
            <a:off x="723960" y="3809880"/>
            <a:ext cx="6724440" cy="2424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[IMAGE] Cluster perigee.tiff"/>
          <p:cNvPicPr/>
          <p:nvPr/>
        </p:nvPicPr>
        <p:blipFill>
          <a:blip r:embed="rId5"/>
          <a:stretch/>
        </p:blipFill>
        <p:spPr>
          <a:xfrm>
            <a:off x="5638680" y="1676520"/>
            <a:ext cx="3176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xtBox 29" descr=""/>
          <p:cNvPicPr/>
          <p:nvPr/>
        </p:nvPicPr>
        <p:blipFill>
          <a:blip r:embed="rId3"/>
          <a:stretch/>
        </p:blipFill>
        <p:spPr>
          <a:xfrm>
            <a:off x="1596960" y="1657440"/>
            <a:ext cx="5950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agnetosphere, radiation belts. plasmasphere, slot region, chorus.jpg"/>
          <p:cNvPicPr/>
          <p:nvPr/>
        </p:nvPicPr>
        <p:blipFill>
          <a:blip r:embed="rId3"/>
          <a:stretch/>
        </p:blipFill>
        <p:spPr>
          <a:xfrm>
            <a:off x="457200" y="1143000"/>
            <a:ext cx="4948200" cy="5410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6019920" y="2090880"/>
            <a:ext cx="20574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have a major impact on the energetic particles content of the radiation bel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019920" y="5181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 EVERY MAGNETIZED PLAN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24"/>
          <p:cNvGrpSpPr/>
          <p:nvPr/>
        </p:nvGrpSpPr>
        <p:grpSpPr>
          <a:xfrm>
            <a:off x="349200" y="1371600"/>
            <a:ext cx="8445600" cy="5190120"/>
            <a:chOff x="349200" y="1371600"/>
            <a:chExt cx="8445600" cy="5190120"/>
          </a:xfrm>
        </p:grpSpPr>
        <p:pic>
          <p:nvPicPr>
            <p:cNvPr id="147" name="Picture 6" descr="RBSP NASA light.tiff"/>
            <p:cNvPicPr/>
            <p:nvPr/>
          </p:nvPicPr>
          <p:blipFill>
            <a:blip r:embed="rId3"/>
            <a:stretch/>
          </p:blipFill>
          <p:spPr>
            <a:xfrm>
              <a:off x="375120" y="1431720"/>
              <a:ext cx="8419680" cy="44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>
              <a:off x="699480" y="6102000"/>
              <a:ext cx="77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diation Belt Storm Probes mission , NASA, launch 201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TextBox 11"/>
            <p:cNvGrpSpPr/>
            <p:nvPr/>
          </p:nvGrpSpPr>
          <p:grpSpPr>
            <a:xfrm>
              <a:off x="3156840" y="4613400"/>
              <a:ext cx="2096640" cy="783000"/>
              <a:chOff x="3156840" y="4613400"/>
              <a:chExt cx="2096640" cy="783000"/>
            </a:xfrm>
          </p:grpSpPr>
          <p:pic>
            <p:nvPicPr>
              <p:cNvPr id="150" name="Text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6840" y="4613400"/>
                <a:ext cx="209664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3293280" y="474588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Inn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TextBox 12"/>
            <p:cNvGrpSpPr/>
            <p:nvPr/>
          </p:nvGrpSpPr>
          <p:grpSpPr>
            <a:xfrm>
              <a:off x="349200" y="1371600"/>
              <a:ext cx="2090520" cy="783000"/>
              <a:chOff x="349200" y="1371600"/>
              <a:chExt cx="2090520" cy="783000"/>
            </a:xfrm>
          </p:grpSpPr>
          <p:pic>
            <p:nvPicPr>
              <p:cNvPr id="153" name="Text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0" y="1371600"/>
                <a:ext cx="209052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482760" y="150696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Out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Straight Connector 13"/>
            <p:cNvSpPr/>
            <p:nvPr/>
          </p:nvSpPr>
          <p:spPr>
            <a:xfrm>
              <a:off x="1394280" y="2184840"/>
              <a:ext cx="83556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Straight Connector 14"/>
            <p:cNvSpPr/>
            <p:nvPr/>
          </p:nvSpPr>
          <p:spPr>
            <a:xfrm flipV="1">
              <a:off x="4312080" y="3841920"/>
              <a:ext cx="651960" cy="77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Straight Connector 21"/>
            <p:cNvSpPr/>
            <p:nvPr/>
          </p:nvSpPr>
          <p:spPr>
            <a:xfrm flipH="1">
              <a:off x="3597480" y="2109600"/>
              <a:ext cx="60768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TextBox 23"/>
            <p:cNvGrpSpPr/>
            <p:nvPr/>
          </p:nvGrpSpPr>
          <p:grpSpPr>
            <a:xfrm>
              <a:off x="4220280" y="1522080"/>
              <a:ext cx="3615840" cy="1211040"/>
              <a:chOff x="4220280" y="1522080"/>
              <a:chExt cx="3615840" cy="1211040"/>
            </a:xfrm>
          </p:grpSpPr>
          <p:pic>
            <p:nvPicPr>
              <p:cNvPr id="159" name="TextBox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4220280" y="1522080"/>
                <a:ext cx="361584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4356720" y="1657440"/>
                <a:ext cx="334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Killer electrons void (E&gt;1.2 MeV)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horus impacts on particles.gif"/>
          <p:cNvPicPr/>
          <p:nvPr/>
        </p:nvPicPr>
        <p:blipFill>
          <a:blip r:embed="rId3"/>
          <a:stretch/>
        </p:blipFill>
        <p:spPr>
          <a:xfrm>
            <a:off x="533520" y="1143000"/>
            <a:ext cx="2971800" cy="5257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[IMAGE] Plasmaspheric hiss.jpg"/>
          <p:cNvPicPr/>
          <p:nvPr/>
        </p:nvPicPr>
        <p:blipFill>
          <a:blip r:embed="rId4"/>
          <a:stretch/>
        </p:blipFill>
        <p:spPr>
          <a:xfrm>
            <a:off x="4038480" y="1808280"/>
            <a:ext cx="4469040" cy="3240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3809880" y="1600200"/>
            <a:ext cx="30492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048120" y="4191120"/>
            <a:ext cx="45720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2590920" y="1143000"/>
            <a:ext cx="914400" cy="1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419720" y="54100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responsible for the electron slot  [Thorne, 1973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952880" y="129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[SOUND] Plasmaspheric hiss Voyager Saturn short.mov" descr=""/>
          <p:cNvPicPr/>
          <p:nvPr/>
        </p:nvPicPr>
        <p:blipFill>
          <a:blip r:embed="rId5"/>
          <a:stretch/>
        </p:blipFill>
        <p:spPr>
          <a:xfrm>
            <a:off x="8077320" y="5029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11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7"/>
          <p:cNvGrpSpPr/>
          <p:nvPr/>
        </p:nvGrpSpPr>
        <p:grpSpPr>
          <a:xfrm>
            <a:off x="1411200" y="1219320"/>
            <a:ext cx="6321600" cy="4919040"/>
            <a:chOff x="1411200" y="1219320"/>
            <a:chExt cx="6321600" cy="4919040"/>
          </a:xfrm>
        </p:grpSpPr>
        <p:pic>
          <p:nvPicPr>
            <p:cNvPr id="179" name="Picture 6" descr="Plasmasphere hiss chorus [Nature].jpg"/>
            <p:cNvPicPr/>
            <p:nvPr/>
          </p:nvPicPr>
          <p:blipFill>
            <a:blip r:embed="rId3"/>
            <a:srcRect l="0" t="11343" r="0" b="0"/>
            <a:stretch/>
          </p:blipFill>
          <p:spPr>
            <a:xfrm>
              <a:off x="1563480" y="1219320"/>
              <a:ext cx="563796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>
              <a:off x="1411200" y="5540760"/>
              <a:ext cx="251460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or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4916520" y="5540760"/>
              <a:ext cx="281628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smaspheric his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3849120" y="4093200"/>
              <a:ext cx="1066680" cy="15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ight Arrow 11"/>
            <p:cNvSpPr/>
            <p:nvPr/>
          </p:nvSpPr>
          <p:spPr>
            <a:xfrm>
              <a:off x="4001760" y="4703040"/>
              <a:ext cx="838080" cy="45720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4458600" y="5312880"/>
              <a:ext cx="3808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1411200" y="4093200"/>
              <a:ext cx="9140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lasmasphere hiss chorus [Nature].jpg"/>
          <p:cNvPicPr/>
          <p:nvPr/>
        </p:nvPicPr>
        <p:blipFill>
          <a:blip r:embed="rId3"/>
          <a:srcRect l="0" t="11343" r="0" b="0"/>
          <a:stretch/>
        </p:blipFill>
        <p:spPr>
          <a:xfrm>
            <a:off x="1563840" y="1219320"/>
            <a:ext cx="5638680" cy="48816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1411200" y="5562720"/>
            <a:ext cx="251460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916520" y="5540400"/>
            <a:ext cx="281628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3849840" y="4092480"/>
            <a:ext cx="10666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ight Arrow 11"/>
          <p:cNvSpPr/>
          <p:nvPr/>
        </p:nvSpPr>
        <p:spPr>
          <a:xfrm>
            <a:off x="4002120" y="470232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4459320" y="5311800"/>
            <a:ext cx="380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11200" y="4092480"/>
            <a:ext cx="91440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7" descr="Magnetosphere, radiation belts. plasmasphere, slot region, chorus.jpg"/>
          <p:cNvPicPr/>
          <p:nvPr/>
        </p:nvPicPr>
        <p:blipFill>
          <a:blip r:embed="rId4"/>
          <a:srcRect l="0" t="17628" r="0" b="28205"/>
          <a:stretch/>
        </p:blipFill>
        <p:spPr>
          <a:xfrm>
            <a:off x="2286000" y="1108080"/>
            <a:ext cx="4262400" cy="2930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6"/>
          <p:cNvSpPr/>
          <p:nvPr/>
        </p:nvSpPr>
        <p:spPr>
          <a:xfrm>
            <a:off x="1371600" y="1066680"/>
            <a:ext cx="9144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" descr="[IMAGE] Cluster whistlers.png"/>
          <p:cNvPicPr/>
          <p:nvPr/>
        </p:nvPicPr>
        <p:blipFill>
          <a:blip r:embed="rId3"/>
          <a:srcRect l="0" t="12995" r="0" b="20082"/>
          <a:stretch/>
        </p:blipFill>
        <p:spPr>
          <a:xfrm>
            <a:off x="1743120" y="3733920"/>
            <a:ext cx="5657760" cy="28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[IMAGE] Whistler perturbs.png"/>
          <p:cNvPicPr/>
          <p:nvPr/>
        </p:nvPicPr>
        <p:blipFill>
          <a:blip r:embed="rId4"/>
          <a:stretch/>
        </p:blipFill>
        <p:spPr>
          <a:xfrm>
            <a:off x="1752480" y="1112760"/>
            <a:ext cx="54295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10:13Z</dcterms:created>
  <dc:creator>Arnaud Masson</dc:creator>
  <dc:description/>
  <dc:language>en-US</dc:language>
  <cp:lastModifiedBy>Arnaud Masson</cp:lastModifiedBy>
  <cp:lastPrinted>2008-08-27T21:15:53Z</cp:lastPrinted>
  <dcterms:modified xsi:type="dcterms:W3CDTF">2008-08-29T12:16:43Z</dcterms:modified>
  <cp:revision>70</cp:revision>
  <dc:subject/>
  <dc:title>No Slide Title</dc:title>
</cp:coreProperties>
</file>